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4764-D191-4C97-98F3-16738F8A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6951-067A-4C0E-8A81-88507860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49AA-5587-4D79-B6F5-C292DE9A5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49B0-2F88-4F35-94C8-6E69858C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70F8-75BA-4C21-8A54-75B7B38F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033E-40FD-47B2-A6DA-9CBA019E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3CB2-8A08-4858-BD18-A0AA7023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54E9-D8DE-4009-BA72-74266764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3B31-A3EC-4607-9B6E-2A22209B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E42C-B43D-4DC2-B674-EB1A30F0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412B-DE17-4663-B319-FC71C35F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B30C-CD37-400B-830C-C12616B9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39A5-C776-4F25-9556-4F58EE9EE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04760"/>
            <a:ext cx="8991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004760"/>
            <a:ext cx="73152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5800"/>
                </a:solidFill>
                <a:latin typeface="Verdana"/>
              </a:rPr>
              <a:t>Кофе-пауза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86000" y="2971800"/>
            <a:ext cx="407520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20T05:45:30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