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gif" ContentType="image/gif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FE28-04B0-4A07-BAD0-B9E4285D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C2C9-CEBD-4C13-85A5-5D247F20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3B7-DFF3-4B9F-B17E-4E847219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3025-8CB7-4489-8D36-0E98097C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6E7-5641-4EF5-A82E-EDBD1044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409F-6D50-41FC-A754-07CBD5B2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53F-27A3-40E9-8DBF-671B324A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9268-6E61-4B93-9EDB-F70B51CD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62D-7F2F-432D-A439-DB6614C0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49E-3B27-4D5D-B58A-055DAD0C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959-68F0-4808-933E-D099B21D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CDD1-7EFC-4C55-92FF-417F270C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9826-0515-496E-BF5A-31F4CF0269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08000"/>
            <a:ext cx="9067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0880" y="19810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005800"/>
                </a:solidFill>
                <a:latin typeface="Arial"/>
              </a:rPr>
              <a:t>Оценка и будущее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1385640" cy="190512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sp>
        <p:nvSpPr>
          <p:cNvPr id="44" name="Rectangle 9"/>
          <p:cNvSpPr/>
          <p:nvPr/>
        </p:nvSpPr>
        <p:spPr>
          <a:xfrm>
            <a:off x="237960" y="5835600"/>
            <a:ext cx="196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ahoma"/>
              </a:rPr>
              <a:t>О.А. Буч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76320" y="174600"/>
            <a:ext cx="9067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ология «Открытое пространств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602360" y="1203480"/>
            <a:ext cx="564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Arial"/>
              </a:rPr>
              <a:t>Круг закрыт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04920" y="278748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0280" indent="-800280">
              <a:lnSpc>
                <a:spcPct val="110000"/>
              </a:lnSpc>
              <a:spcBef>
                <a:spcPts val="12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5800"/>
                </a:solidFill>
                <a:latin typeface="Arial"/>
              </a:rPr>
              <a:t>1. Чему Вы научились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800280" indent="-800280">
              <a:lnSpc>
                <a:spcPct val="110000"/>
              </a:lnSpc>
              <a:spcBef>
                <a:spcPts val="12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5800"/>
                </a:solidFill>
                <a:latin typeface="Arial"/>
              </a:rPr>
              <a:t>2. Что Вы будете с этим делать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1230288932_3D-Character-(33)"/>
          <p:cNvPicPr/>
          <p:nvPr/>
        </p:nvPicPr>
        <p:blipFill>
          <a:blip r:embed="rId1"/>
          <a:stretch/>
        </p:blipFill>
        <p:spPr>
          <a:xfrm>
            <a:off x="6934320" y="520056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76320" y="174600"/>
            <a:ext cx="9067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ология «Открытое пространств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04007060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6320" y="174600"/>
            <a:ext cx="9067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ология «Открытое пространств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399c9434f5fe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6320" y="174600"/>
            <a:ext cx="9067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ология «Открытое пространств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5ad67d1ac6fe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2-07-25T08:14:0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