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930-23B6-4B68-8FBE-57065DCD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962-471D-424F-9489-8148C9B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59B-3406-44E8-BCA4-1105842F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6DF-BF45-481F-A454-010CCAEA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75B-2D80-425D-BD3A-5DBC1A04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F44-45A5-4598-BB4B-A19D60C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F32-20D4-408E-A08E-A7EE2F7D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F0D-1D2C-4460-8CD7-954DD772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0E0-571B-4AD0-9CCB-96523A58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432-647B-4D92-AE15-1BEEA52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CC9-5D7C-4915-BC65-C9CB858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237-6698-4806-8FA2-5162486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ACB9-3FFA-4364-B9AE-2A458A6B7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87692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00"/>
                </a:solidFill>
                <a:latin typeface="Verdana"/>
              </a:rPr>
              <a:t>Закрытие семинара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2:58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