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C5F1-3753-48AB-8239-AFACAE561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6D22-AFD8-46EE-AE71-3AE5A14D4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EC9E-1B61-49E0-B6F8-2A952BB44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8851-10B8-440C-AE89-2FBD4BD83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EC25-158A-4FC7-BA2C-4ECC11602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D1B4-E5D7-4C61-9F3F-61BFB7D62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3BC3-FB96-449C-8967-5B0C75BA7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338D-799B-44C5-865E-1D4470C01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C99B-F3B1-437D-A18F-B332935D6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E51C-33F3-442A-9739-A9D88EA9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1BFB-5DDD-443F-B8D9-19A8B77A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FFB4-C5A2-48D4-823C-5C8E14F0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6E740-DDD9-400C-ADDC-8CA0E4F5B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1447920"/>
            <a:ext cx="73152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5800"/>
                </a:solidFill>
                <a:latin typeface="Verdana"/>
              </a:rPr>
              <a:t>Перерыв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104760"/>
            <a:ext cx="89154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региональный семинар в рамках международного проекта «Лидерство в переговорах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124080" y="3886200"/>
            <a:ext cx="2543400" cy="24321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52280" y="5297400"/>
            <a:ext cx="19051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5-21T10:10:16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