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9CC-4933-495F-A4A0-C2E7372E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03E-EBB3-43ED-B8A5-89C0BCBD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742-2900-48E7-AED1-E73C8603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DA0-8685-4CC4-9CE9-7CA22A5A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A37-884C-4EE1-A190-F74485AE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EF11-BA52-4423-B9BB-8B5BAC4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09BE-D8D4-44C4-BDE5-99CF27B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526F-1D1E-4E77-8822-059F5BE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F0BA-02C2-47CB-B513-D8347211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DF6D-06C3-403F-B8E7-19B7FA94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BE79-D86B-4993-A806-70E3A62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001-48AC-4589-BCB6-4062F9CC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767-A138-4BD5-A7FC-A7D163A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6A99-A977-4929-8C3B-702041E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CEA-EE05-4AE8-8675-183DEB51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6ADC-CBEE-4065-85D1-72929FD6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97ED-A759-4244-83B5-4D5A8E07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0FC-09FA-46FD-A9F2-1AE97D31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B28-AB33-4F9C-9075-F3549B9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09D-5098-407F-9BB9-FAE3B69F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E8D-7789-4741-95E1-689926D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4FB-6D90-4648-B623-614A1B2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D72-9BE0-43FD-8C4B-E110A93F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B39-DE19-44C4-8FE6-FC4D93A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1" name="Freeform 3"/>
            <p:cNvSpPr/>
            <p:nvPr/>
          </p:nvSpPr>
          <p:spPr>
            <a:xfrm>
              <a:off x="88740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7400" cy="501480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>
                  <a:gd name="textAreaLeft" fmla="*/ 0 w 7524000"/>
                  <a:gd name="textAreaRight" fmla="*/ 7524360 w 7524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E3E8-6258-469C-B2A9-7477989B3B4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1840" cy="6851520"/>
            <a:chOff x="0" y="6480"/>
            <a:chExt cx="914184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1840" cy="5014800"/>
              <a:chOff x="0" y="1843200"/>
              <a:chExt cx="914184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7400" y="1843200"/>
                <a:ext cx="8254440" cy="5014800"/>
              </a:xfrm>
              <a:custGeom>
                <a:avLst/>
                <a:gdLst>
                  <a:gd name="textAreaLeft" fmla="*/ 0 w 8254440"/>
                  <a:gd name="textAreaRight" fmla="*/ 8254800 w 825444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7400" cy="5014800"/>
              </a:xfrm>
              <a:custGeom>
                <a:avLst/>
                <a:gdLst>
                  <a:gd name="textAreaLeft" fmla="*/ 0 w 887400"/>
                  <a:gd name="textAreaRight" fmla="*/ 887760 w 8874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9240" cy="6851520"/>
              <a:chOff x="552600" y="6480"/>
              <a:chExt cx="858924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>
                  <a:gd name="textAreaLeft" fmla="*/ 0 w 7524000"/>
                  <a:gd name="textAreaRight" fmla="*/ 7524360 w 7524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F9E6-6053-45D1-93E5-3F69BDACCE5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9810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5800"/>
                </a:solidFill>
                <a:latin typeface="Arial"/>
              </a:rPr>
              <a:t>Карьерный рост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385640" cy="19051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237960" y="5835600"/>
            <a:ext cx="196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О.А. Бучк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ризнавать и поощрять клиническую компетентность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овышать удовлетворение от работы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соответствовать программам непрерывного образования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содержать консультации по стандартам, повышению по службе, должностным инструкциям и званиям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240"/>
            <a:ext cx="9144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орошее штатное расписание должно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feed-icon-1"/>
          <p:cNvPicPr/>
          <p:nvPr/>
        </p:nvPicPr>
        <p:blipFill>
          <a:blip r:embed="rId1"/>
          <a:stretch/>
        </p:blipFill>
        <p:spPr>
          <a:xfrm>
            <a:off x="15228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feed-icon-1"/>
          <p:cNvPicPr/>
          <p:nvPr/>
        </p:nvPicPr>
        <p:blipFill>
          <a:blip r:embed="rId2"/>
          <a:stretch/>
        </p:blipFill>
        <p:spPr>
          <a:xfrm>
            <a:off x="15228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feed-icon-1"/>
          <p:cNvPicPr/>
          <p:nvPr/>
        </p:nvPicPr>
        <p:blipFill>
          <a:blip r:embed="rId3"/>
          <a:stretch/>
        </p:blipFill>
        <p:spPr>
          <a:xfrm>
            <a:off x="15228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feed-icon-1"/>
          <p:cNvPicPr/>
          <p:nvPr/>
        </p:nvPicPr>
        <p:blipFill>
          <a:blip r:embed="rId4"/>
          <a:stretch/>
        </p:blipFill>
        <p:spPr>
          <a:xfrm>
            <a:off x="15228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сокращать текучесть кадров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стимулировать интерес к профессиональному росту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обеспечивать возможности для карьерного движения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определять соответствие квалификации и компетентности для каждого уровн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3240"/>
            <a:ext cx="9144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орошее штатное расписание должно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feed-icon-1"/>
          <p:cNvPicPr/>
          <p:nvPr/>
        </p:nvPicPr>
        <p:blipFill>
          <a:blip r:embed="rId1"/>
          <a:stretch/>
        </p:blipFill>
        <p:spPr>
          <a:xfrm>
            <a:off x="15228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feed-icon-1"/>
          <p:cNvPicPr/>
          <p:nvPr/>
        </p:nvPicPr>
        <p:blipFill>
          <a:blip r:embed="rId2"/>
          <a:stretch/>
        </p:blipFill>
        <p:spPr>
          <a:xfrm>
            <a:off x="152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feed-icon-1"/>
          <p:cNvPicPr/>
          <p:nvPr/>
        </p:nvPicPr>
        <p:blipFill>
          <a:blip r:embed="rId3"/>
          <a:stretch/>
        </p:blipFill>
        <p:spPr>
          <a:xfrm>
            <a:off x="15228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feed-icon-1"/>
          <p:cNvPicPr/>
          <p:nvPr/>
        </p:nvPicPr>
        <p:blipFill>
          <a:blip r:embed="rId4"/>
          <a:stretch/>
        </p:blipFill>
        <p:spPr>
          <a:xfrm>
            <a:off x="15228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Штатное расписание и карьерный рост тесно связаны с качеством здравоохранения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Факторы изменения могут быть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социальными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экономическими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олитическими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рофессиональными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57200" y="222120"/>
            <a:ext cx="80773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6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feed-icon-1"/>
          <p:cNvPicPr/>
          <p:nvPr/>
        </p:nvPicPr>
        <p:blipFill>
          <a:blip r:embed="rId2"/>
          <a:stretch/>
        </p:blipFill>
        <p:spPr>
          <a:xfrm>
            <a:off x="3816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1181160" y="350532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4"/>
          <a:stretch/>
        </p:blipFill>
        <p:spPr>
          <a:xfrm>
            <a:off x="1219320" y="42814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5"/>
          <a:stretch/>
        </p:blipFill>
        <p:spPr>
          <a:xfrm>
            <a:off x="1219320" y="504360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6"/>
          <a:stretch/>
        </p:blipFill>
        <p:spPr>
          <a:xfrm>
            <a:off x="1219320" y="58672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1"/>
          <p:cNvPicPr/>
          <p:nvPr/>
        </p:nvPicPr>
        <p:blipFill>
          <a:blip r:embed="rId7"/>
          <a:stretch/>
        </p:blipFill>
        <p:spPr>
          <a:xfrm>
            <a:off x="5791320" y="3505320"/>
            <a:ext cx="3004920" cy="2838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У каждого штатного расписания есть свои преимущества и недостатки, но традиционная структура штатного расписания часто дает весьма узкие и ограниченные возможности карьерного роста в клинической практике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Только мы можем решить, что следует изменить в существующем штатном расписании, и только мы можем привести эти изменения в действие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457200" y="222120"/>
            <a:ext cx="80773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feed-icon-1"/>
          <p:cNvPicPr/>
          <p:nvPr/>
        </p:nvPicPr>
        <p:blipFill>
          <a:blip r:embed="rId1"/>
          <a:stretch/>
        </p:blipFill>
        <p:spPr>
          <a:xfrm>
            <a:off x="763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feed-icon-1"/>
          <p:cNvPicPr/>
          <p:nvPr/>
        </p:nvPicPr>
        <p:blipFill>
          <a:blip r:embed="rId2"/>
          <a:stretch/>
        </p:blipFill>
        <p:spPr>
          <a:xfrm>
            <a:off x="3816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бъяснить значение штатного расписания для качества здравоохране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ределить факторы, ведущие к изменению штатного расписа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исать международные модели штатного расписа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ределить преимущества хорошего штатного расписа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ределить приоритетные направления для изменения существующего штатного расписания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4760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76320" y="1523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7632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feed-icon-1"/>
          <p:cNvPicPr/>
          <p:nvPr/>
        </p:nvPicPr>
        <p:blipFill>
          <a:blip r:embed="rId3"/>
          <a:stretch/>
        </p:blipFill>
        <p:spPr>
          <a:xfrm>
            <a:off x="763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eed-icon-1"/>
          <p:cNvPicPr/>
          <p:nvPr/>
        </p:nvPicPr>
        <p:blipFill>
          <a:blip r:embed="rId4"/>
          <a:stretch/>
        </p:blipFill>
        <p:spPr>
          <a:xfrm>
            <a:off x="7632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feed-icon-1"/>
          <p:cNvPicPr/>
          <p:nvPr/>
        </p:nvPicPr>
        <p:blipFill>
          <a:blip r:embed="rId5"/>
          <a:stretch/>
        </p:blipFill>
        <p:spPr>
          <a:xfrm>
            <a:off x="763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1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трёх частей:</a:t>
            </a:r>
            <a:endParaRPr b="1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Описание сферы действ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Хорошее, плохое и ужасно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треть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Роль Ассоци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2" descr="feed-icon-1"/>
          <p:cNvPicPr/>
          <p:nvPr/>
        </p:nvPicPr>
        <p:blipFill>
          <a:blip r:embed="rId1"/>
          <a:stretch/>
        </p:blipFill>
        <p:spPr>
          <a:xfrm>
            <a:off x="76320" y="1905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feed-icon-1"/>
          <p:cNvPicPr/>
          <p:nvPr/>
        </p:nvPicPr>
        <p:blipFill>
          <a:blip r:embed="rId2"/>
          <a:stretch/>
        </p:blipFill>
        <p:spPr>
          <a:xfrm>
            <a:off x="7632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feed-icon-1"/>
          <p:cNvPicPr/>
          <p:nvPr/>
        </p:nvPicPr>
        <p:blipFill>
          <a:blip r:embed="rId3"/>
          <a:stretch/>
        </p:blipFill>
        <p:spPr>
          <a:xfrm>
            <a:off x="76320" y="5486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20000"/>
              </a:lnSpc>
              <a:spcBef>
                <a:spcPts val="1049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5800"/>
                </a:solidFill>
                <a:latin typeface="Arial"/>
              </a:rPr>
              <a:t>Карьерный рост </a:t>
            </a:r>
            <a:r>
              <a:rPr b="1" lang="ru-RU" sz="4200" spc="-1" strike="noStrike">
                <a:solidFill>
                  <a:srgbClr val="a50021"/>
                </a:solidFill>
                <a:latin typeface="Arial"/>
              </a:rPr>
              <a:t>следует рассматривать</a:t>
            </a:r>
            <a:r>
              <a:rPr b="1" lang="ru-RU" sz="4200" spc="-1" strike="noStrike">
                <a:solidFill>
                  <a:srgbClr val="005800"/>
                </a:solidFill>
                <a:latin typeface="Arial"/>
              </a:rPr>
              <a:t> как личное благо медицинских сестер,              а не как правильную                         и рациональную цель медицинских учреждени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рьерный рос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1162080"/>
            <a:ext cx="830556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арьерный рост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Удовлетворение от работ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Длительное трудоустройство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Опыт/компетентность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ачественное здравоохранение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Стрелка вниз 5"/>
          <p:cNvSpPr/>
          <p:nvPr/>
        </p:nvSpPr>
        <p:spPr>
          <a:xfrm>
            <a:off x="4038480" y="1828800"/>
            <a:ext cx="83844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рьерный рос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Стрелка вниз 5"/>
          <p:cNvSpPr/>
          <p:nvPr/>
        </p:nvSpPr>
        <p:spPr>
          <a:xfrm>
            <a:off x="4038480" y="2971800"/>
            <a:ext cx="83844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Стрелка вниз 5"/>
          <p:cNvSpPr/>
          <p:nvPr/>
        </p:nvSpPr>
        <p:spPr>
          <a:xfrm>
            <a:off x="4038480" y="4191120"/>
            <a:ext cx="83844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Стрелка вниз 5"/>
          <p:cNvSpPr/>
          <p:nvPr/>
        </p:nvSpPr>
        <p:spPr>
          <a:xfrm>
            <a:off x="4114800" y="5486400"/>
            <a:ext cx="83808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960" y="11426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a50021"/>
                </a:solidFill>
                <a:uFillTx/>
                <a:latin typeface="Arial"/>
              </a:rPr>
              <a:t>Социальны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женщины требуют равных возможностей трудоустройств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рост пожилого населения ведет к росту потребности в помощ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уровень занят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акторы измен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2280" y="4343400"/>
            <a:ext cx="8458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a50021"/>
                </a:solidFill>
                <a:uFillTx/>
                <a:latin typeface="Arial"/>
              </a:rPr>
              <a:t>Экономически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акцент на экономической эффективности и продуктивности работников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выделение средств на совершенствование общего образова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0" descr="feed-icon-1"/>
          <p:cNvPicPr/>
          <p:nvPr/>
        </p:nvPicPr>
        <p:blipFill>
          <a:blip r:embed="rId1"/>
          <a:stretch/>
        </p:blipFill>
        <p:spPr>
          <a:xfrm>
            <a:off x="380880" y="19810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feed-icon-1"/>
          <p:cNvPicPr/>
          <p:nvPr/>
        </p:nvPicPr>
        <p:blipFill>
          <a:blip r:embed="rId2"/>
          <a:stretch/>
        </p:blipFill>
        <p:spPr>
          <a:xfrm>
            <a:off x="380880" y="29718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feed-icon-1"/>
          <p:cNvPicPr/>
          <p:nvPr/>
        </p:nvPicPr>
        <p:blipFill>
          <a:blip r:embed="rId3"/>
          <a:stretch/>
        </p:blipFill>
        <p:spPr>
          <a:xfrm>
            <a:off x="380880" y="37339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feed-icon-1"/>
          <p:cNvPicPr/>
          <p:nvPr/>
        </p:nvPicPr>
        <p:blipFill>
          <a:blip r:embed="rId4"/>
          <a:stretch/>
        </p:blipFill>
        <p:spPr>
          <a:xfrm>
            <a:off x="457200" y="5181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feed-icon-1"/>
          <p:cNvPicPr/>
          <p:nvPr/>
        </p:nvPicPr>
        <p:blipFill>
          <a:blip r:embed="rId5"/>
          <a:stretch/>
        </p:blipFill>
        <p:spPr>
          <a:xfrm>
            <a:off x="457200" y="6095880"/>
            <a:ext cx="380880" cy="3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 15"/>
          <p:cNvGraphicFramePr/>
          <p:nvPr/>
        </p:nvGraphicFramePr>
        <p:xfrm>
          <a:off x="8305920" y="6019920"/>
          <a:ext cx="66024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05920" y="6019920"/>
                    <a:ext cx="6602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6"/>
          <p:cNvGraphicFramePr/>
          <p:nvPr/>
        </p:nvGraphicFramePr>
        <p:xfrm>
          <a:off x="7848720" y="2590920"/>
          <a:ext cx="1031760" cy="8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590920"/>
                    <a:ext cx="10317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920" y="12189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a50021"/>
                </a:solidFill>
                <a:uFillTx/>
                <a:latin typeface="Arial"/>
              </a:rPr>
              <a:t>Политические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реализация модели первичного здравоохранения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ризнание вклада медицинских сестер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акторы измен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Содержимое 7"/>
          <p:cNvSpPr/>
          <p:nvPr/>
        </p:nvSpPr>
        <p:spPr>
          <a:xfrm>
            <a:off x="152280" y="42670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a50021"/>
                </a:solidFill>
                <a:uFillTx/>
                <a:latin typeface="Arial"/>
              </a:rPr>
              <a:t>Профессиональные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овышение знаний и уровня специализации, а также непрерывное образование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feed-icon-1"/>
          <p:cNvPicPr/>
          <p:nvPr/>
        </p:nvPicPr>
        <p:blipFill>
          <a:blip r:embed="rId1"/>
          <a:stretch/>
        </p:blipFill>
        <p:spPr>
          <a:xfrm>
            <a:off x="457200" y="2286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feed-icon-1"/>
          <p:cNvPicPr/>
          <p:nvPr/>
        </p:nvPicPr>
        <p:blipFill>
          <a:blip r:embed="rId2"/>
          <a:stretch/>
        </p:blipFill>
        <p:spPr>
          <a:xfrm>
            <a:off x="457200" y="3352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feed-icon-1"/>
          <p:cNvPicPr/>
          <p:nvPr/>
        </p:nvPicPr>
        <p:blipFill>
          <a:blip r:embed="rId3"/>
          <a:stretch/>
        </p:blipFill>
        <p:spPr>
          <a:xfrm>
            <a:off x="457200" y="5638680"/>
            <a:ext cx="380880" cy="3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10"/>
          <p:cNvGraphicFramePr/>
          <p:nvPr/>
        </p:nvGraphicFramePr>
        <p:xfrm>
          <a:off x="8001000" y="1600200"/>
          <a:ext cx="520560" cy="13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1600200"/>
                    <a:ext cx="520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1"/>
          <p:cNvGraphicFramePr/>
          <p:nvPr/>
        </p:nvGraphicFramePr>
        <p:xfrm>
          <a:off x="7543800" y="5408640"/>
          <a:ext cx="1087560" cy="10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3800" y="5408640"/>
                    <a:ext cx="10875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84280" y="1219320"/>
            <a:ext cx="83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Каковы основные черты вашего штатного расписания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Открывает ли оно возможности карьерного роста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Заложено ли в него разграничение и поощрение различных уровней подготовки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Какие особенности штатного расписания вас устраивают, а какие нет? Почему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Штатное распис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feed-icon-1"/>
          <p:cNvPicPr/>
          <p:nvPr/>
        </p:nvPicPr>
        <p:blipFill>
          <a:blip r:embed="rId1"/>
          <a:stretch/>
        </p:blipFill>
        <p:spPr>
          <a:xfrm>
            <a:off x="763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feed-icon-1"/>
          <p:cNvPicPr/>
          <p:nvPr/>
        </p:nvPicPr>
        <p:blipFill>
          <a:blip r:embed="rId2"/>
          <a:stretch/>
        </p:blipFill>
        <p:spPr>
          <a:xfrm>
            <a:off x="763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feed-icon-1"/>
          <p:cNvPicPr/>
          <p:nvPr/>
        </p:nvPicPr>
        <p:blipFill>
          <a:blip r:embed="rId3"/>
          <a:stretch/>
        </p:blipFill>
        <p:spPr>
          <a:xfrm>
            <a:off x="7632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feed-icon-1"/>
          <p:cNvPicPr/>
          <p:nvPr/>
        </p:nvPicPr>
        <p:blipFill>
          <a:blip r:embed="rId4"/>
          <a:stretch/>
        </p:blipFill>
        <p:spPr>
          <a:xfrm>
            <a:off x="763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6"/>
          <p:cNvSpPr/>
          <p:nvPr/>
        </p:nvSpPr>
        <p:spPr>
          <a:xfrm>
            <a:off x="5105520" y="3429000"/>
            <a:ext cx="3124080" cy="11430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4572000" y="1727280"/>
            <a:ext cx="2971800" cy="6858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2362320" y="5587920"/>
            <a:ext cx="2438280" cy="60984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939960" y="1714680"/>
            <a:ext cx="2743200" cy="6858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-13824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3240"/>
            <a:ext cx="9144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радиционная структура карьеры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974880" y="1717560"/>
            <a:ext cx="26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Управлен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4585320" y="1743120"/>
            <a:ext cx="286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Образован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952880" y="3473280"/>
            <a:ext cx="358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Клиническая практик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2438280" y="55767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Медсестр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3505320" y="3987360"/>
            <a:ext cx="0" cy="1600200"/>
          </a:xfrm>
          <a:prstGeom prst="line">
            <a:avLst/>
          </a:prstGeom>
          <a:ln w="381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505320" y="3987720"/>
            <a:ext cx="1600200" cy="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9"/>
          <p:cNvSpPr/>
          <p:nvPr/>
        </p:nvSpPr>
        <p:spPr>
          <a:xfrm flipV="1">
            <a:off x="3505320" y="2438280"/>
            <a:ext cx="2361960" cy="152424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30"/>
          <p:cNvSpPr/>
          <p:nvPr/>
        </p:nvSpPr>
        <p:spPr>
          <a:xfrm flipH="1" flipV="1">
            <a:off x="1689120" y="2450880"/>
            <a:ext cx="1828800" cy="152388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3:3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