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F06-CA21-44A5-BCCD-3E633CF6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1F7-DC02-419F-B315-11954DC3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53C-373F-4744-AEE9-F07291D8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DD0-89F0-4EB1-A2EF-279D145D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1FFA-0D40-43F5-B413-D1421EC3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D99C-9997-41FB-9ECE-8F463118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A1FD-A9B7-4E07-B732-577DE779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34E6-ED88-49E7-9693-037E76CC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05D5-ADAE-4312-AB04-55635B4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E76F-C070-43F8-9C28-988FD94E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F289-F81C-4F57-A74C-470F043F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44F-3400-4F31-A17D-2F932A2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99EC-B500-473A-9287-A48B0160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7B23-4469-496B-9C23-378C84CD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6E46-ADC4-49D1-B0C2-74BA7D6A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D47-B4E2-444B-8764-01EC8FB8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70E9-07E0-4C31-8418-6343221B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CB2-D993-4BA2-BBA3-F8C89ECC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553-7E71-4284-9FDC-8D1C7E6D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008-C32B-4F4B-AF84-71C3CE49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E47-52F3-441C-88A8-D981C69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1DB-4790-49D1-A989-BE07F081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FCB-9B1D-4DFA-9FA8-93718BA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86B-7473-47EF-9B24-8C88F50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CC2-24CB-47A8-8344-8788EBF8A4C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610-0970-4AF2-824E-19D15BE64CC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90512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5800"/>
                </a:solidFill>
                <a:latin typeface="Arial"/>
              </a:rPr>
              <a:t>Ассоциация и социально-экономические вопросы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6120" y="4006800"/>
            <a:ext cx="1284120" cy="19051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174600" y="5987880"/>
            <a:ext cx="21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С.Ф. Дацюк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циально-экономическое благополуч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2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твет ОП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твет ОПСА должен определить структуру и стратегии, которые наиболее эффективно ответят на потребности член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7" descr="feed-icon-1"/>
          <p:cNvPicPr/>
          <p:nvPr/>
        </p:nvPicPr>
        <p:blipFill>
          <a:blip r:embed="rId1"/>
          <a:stretch/>
        </p:blipFill>
        <p:spPr>
          <a:xfrm>
            <a:off x="15228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feed-icon-1"/>
          <p:cNvPicPr/>
          <p:nvPr/>
        </p:nvPicPr>
        <p:blipFill>
          <a:blip r:embed="rId2"/>
          <a:stretch/>
        </p:blipFill>
        <p:spPr>
          <a:xfrm>
            <a:off x="152280" y="4343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 ОПСА будет зависеть       от четырех основных факторов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10000"/>
              </a:lnSpc>
              <a:spcBef>
                <a:spcPts val="876"/>
              </a:spcBef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Конституции и законодательства РФ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76"/>
              </a:spcBef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экономических, политических, культурных и религиозных традиций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76"/>
              </a:spcBef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имеющегося опыта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76"/>
              </a:spcBef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финансовых ресурсов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feed-icon-1"/>
          <p:cNvPicPr/>
          <p:nvPr/>
        </p:nvPicPr>
        <p:blipFill>
          <a:blip r:embed="rId1"/>
          <a:stretch/>
        </p:blipFill>
        <p:spPr>
          <a:xfrm>
            <a:off x="15228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feed-icon-1"/>
          <p:cNvPicPr/>
          <p:nvPr/>
        </p:nvPicPr>
        <p:blipFill>
          <a:blip r:embed="rId2"/>
          <a:stretch/>
        </p:blipFill>
        <p:spPr>
          <a:xfrm>
            <a:off x="15228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feed-icon-1"/>
          <p:cNvPicPr/>
          <p:nvPr/>
        </p:nvPicPr>
        <p:blipFill>
          <a:blip r:embed="rId3"/>
          <a:stretch/>
        </p:blipFill>
        <p:spPr>
          <a:xfrm>
            <a:off x="152280" y="5181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feed-icon-1"/>
          <p:cNvPicPr/>
          <p:nvPr/>
        </p:nvPicPr>
        <p:blipFill>
          <a:blip r:embed="rId4"/>
          <a:stretch/>
        </p:blipFill>
        <p:spPr>
          <a:xfrm>
            <a:off x="152280" y="6095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Рисунок10"/>
          <p:cNvPicPr/>
          <p:nvPr/>
        </p:nvPicPr>
        <p:blipFill>
          <a:blip r:embed="rId5"/>
          <a:stretch/>
        </p:blipFill>
        <p:spPr>
          <a:xfrm>
            <a:off x="7315200" y="51055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3000"/>
            <a:ext cx="91440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те приведенные ниже проблемы на предмет того, какие улучшения можно провести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ход за пациентом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, обеспечение достаточного числа сотрудников с должным уровнем подготовки для оказания ухода в сложных случа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офессия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, например, введение системы вхождения в профессию, регистрации и оценки компетент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правление,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 например, учреждение отдела по сестринскому делу в Минздрав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амоопределение медсестер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, например, обучение и защита ценности сестринских услу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feed-icon-1"/>
          <p:cNvPicPr/>
          <p:nvPr/>
        </p:nvPicPr>
        <p:blipFill>
          <a:blip r:embed="rId1"/>
          <a:stretch/>
        </p:blipFill>
        <p:spPr>
          <a:xfrm>
            <a:off x="0" y="1828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feed-icon-1"/>
          <p:cNvPicPr/>
          <p:nvPr/>
        </p:nvPicPr>
        <p:blipFill>
          <a:blip r:embed="rId2"/>
          <a:stretch/>
        </p:blipFill>
        <p:spPr>
          <a:xfrm>
            <a:off x="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eed-icon-1"/>
          <p:cNvPicPr/>
          <p:nvPr/>
        </p:nvPicPr>
        <p:blipFill>
          <a:blip r:embed="rId3"/>
          <a:stretch/>
        </p:blipFill>
        <p:spPr>
          <a:xfrm>
            <a:off x="0" y="5029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feed-icon-1"/>
          <p:cNvPicPr/>
          <p:nvPr/>
        </p:nvPicPr>
        <p:blipFill>
          <a:blip r:embed="rId4"/>
          <a:stretch/>
        </p:blipFill>
        <p:spPr>
          <a:xfrm>
            <a:off x="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2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организационная эффективность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, развитие системы информации, исследований, базы данных, опросов и т.п.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2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условия работы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, например, снижение и контроль профессиональных рисков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2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условия труда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, например, тарификация зарплаты, карьерный рост, образовательные возможности, защита на рабочем месте, пенсионные преимущества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6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те приведенные ниже проблемы на предмет того, какие улучшения можно прове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7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feed-icon-1"/>
          <p:cNvPicPr/>
          <p:nvPr/>
        </p:nvPicPr>
        <p:blipFill>
          <a:blip r:embed="rId2"/>
          <a:stretch/>
        </p:blipFill>
        <p:spPr>
          <a:xfrm>
            <a:off x="7632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feed-icon-1"/>
          <p:cNvPicPr/>
          <p:nvPr/>
        </p:nvPicPr>
        <p:blipFill>
          <a:blip r:embed="rId3"/>
          <a:stretch/>
        </p:blipFill>
        <p:spPr>
          <a:xfrm>
            <a:off x="76320" y="5257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5438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10000"/>
              </a:lnSpc>
              <a:spcBef>
                <a:spcPts val="901"/>
              </a:spcBef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улучшение социально-экономического положения медсестер является ключевой задачей Ассоциаци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социально-экономические вопросы тесно связаны с вопросами профессиональной практик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7" descr="feed-icon-1"/>
          <p:cNvPicPr/>
          <p:nvPr/>
        </p:nvPicPr>
        <p:blipFill>
          <a:blip r:embed="rId1"/>
          <a:stretch/>
        </p:blipFill>
        <p:spPr>
          <a:xfrm>
            <a:off x="7632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feed-icon-1"/>
          <p:cNvPicPr/>
          <p:nvPr/>
        </p:nvPicPr>
        <p:blipFill>
          <a:blip r:embed="rId2"/>
          <a:stretch/>
        </p:blipFill>
        <p:spPr>
          <a:xfrm>
            <a:off x="76320" y="5257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-15840"/>
            <a:ext cx="75438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аш ответ на социально-экономические вопросы будет зависеть от нескольких факторов, включающих законодательство, традиции, опыт и ресурс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социально-экономические вопросы оказывают влияние на все аспекты работы, в которые всегда можно ввести улучш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feed-icon-1"/>
          <p:cNvPicPr/>
          <p:nvPr/>
        </p:nvPicPr>
        <p:blipFill>
          <a:blip r:embed="rId1"/>
          <a:stretch/>
        </p:blipFill>
        <p:spPr>
          <a:xfrm>
            <a:off x="76320" y="2438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feed-icon-1"/>
          <p:cNvPicPr/>
          <p:nvPr/>
        </p:nvPicPr>
        <p:blipFill>
          <a:blip r:embed="rId2"/>
          <a:stretch/>
        </p:blipFill>
        <p:spPr>
          <a:xfrm>
            <a:off x="76320" y="5334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1760" y="16761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30000"/>
              </a:lnSpc>
              <a:spcBef>
                <a:spcPts val="950"/>
              </a:spcBef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 концу этой сессии вы сможете разбираться в вопросах социально-экономического благополучия и их взаимосвязи с профессиональной практикой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Социально-экономическое благополучие и профессиональные вопро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Ответ ОП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двух частей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0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feed-icon-1"/>
          <p:cNvPicPr/>
          <p:nvPr/>
        </p:nvPicPr>
        <p:blipFill>
          <a:blip r:embed="rId2"/>
          <a:stretch/>
        </p:blipFill>
        <p:spPr>
          <a:xfrm>
            <a:off x="76320" y="4495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любой вопрос, оказывающий влияние на социально-экономическое благополучие медицинских сесте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28600" y="1355760"/>
            <a:ext cx="84582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Социально-экономическое благополучие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066680"/>
            <a:ext cx="89913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Сара проработала в качестве медсестры-студентки 6 недель. В ее отделении все более заметной становилась нехватка кадров. Однажды вечером палатную медсестру вызвали на помощь одному больному, а Сару попросили завершить внутривенное введение лекарства. Она неправильно просчитала объем жидкости, поэтому пациенту был введен неправильный объем лекарства. Пациент выздоровел, но этот случай стали расследова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85800" y="4038480"/>
            <a:ext cx="815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Должна ли Ассоциация представлять интересы Сары в разбирательств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Должна ли Ассоциация выступить в поддержку стандарт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Есть ли конфликт между выполнением Ассоциацией обеих задач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Это профессиональный или социально-экономический вопро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feed-icon-1"/>
          <p:cNvPicPr/>
          <p:nvPr/>
        </p:nvPicPr>
        <p:blipFill>
          <a:blip r:embed="rId1"/>
          <a:stretch/>
        </p:blipFill>
        <p:spPr>
          <a:xfrm>
            <a:off x="228600" y="4267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eed-icon-1"/>
          <p:cNvPicPr/>
          <p:nvPr/>
        </p:nvPicPr>
        <p:blipFill>
          <a:blip r:embed="rId2"/>
          <a:stretch/>
        </p:blipFill>
        <p:spPr>
          <a:xfrm>
            <a:off x="22860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feed-icon-1"/>
          <p:cNvPicPr/>
          <p:nvPr/>
        </p:nvPicPr>
        <p:blipFill>
          <a:blip r:embed="rId3"/>
          <a:stretch/>
        </p:blipFill>
        <p:spPr>
          <a:xfrm>
            <a:off x="2286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feed-icon-1"/>
          <p:cNvPicPr/>
          <p:nvPr/>
        </p:nvPicPr>
        <p:blipFill>
          <a:blip r:embed="rId4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11"/>
          <p:cNvPicPr/>
          <p:nvPr/>
        </p:nvPicPr>
        <p:blipFill>
          <a:blip r:embed="rId5"/>
          <a:stretch/>
        </p:blipFill>
        <p:spPr>
          <a:xfrm>
            <a:off x="8077320" y="5803920"/>
            <a:ext cx="106668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80880" y="1143000"/>
          <a:ext cx="8610840" cy="5562720"/>
        </p:xfrm>
        <a:graphic>
          <a:graphicData uri="http://schemas.openxmlformats.org/drawingml/2006/table">
            <a:tbl>
              <a:tblPr/>
              <a:tblGrid>
                <a:gridCol w="3200400"/>
                <a:gridCol w="5410440"/>
              </a:tblGrid>
              <a:tr h="3967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опро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8520" marR="3852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лия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8520" marR="3852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36900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чие час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тники / качество ухо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73764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егистрация и лиценз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трудоустройство / минимальный стандар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73764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практик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трудоустройства / компетент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110628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олитика здравоохранения и С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представительство / профессионализ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36900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Карьерный рос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тники / профессиональный рос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73764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Дисциплин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представительство / качеств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36900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Оплат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тники / мотивация / качеств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36900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Отпуска, выходны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тники / качество / мотив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73764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Непрерывное образова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учебные отпуска / профессиональный рос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</a:tbl>
          </a:graphicData>
        </a:graphic>
      </p:graphicFrame>
      <p:sp>
        <p:nvSpPr>
          <p:cNvPr id="132" name="Text Box 43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«Мы должны предотвращать распространение в нашей среде элементов трейд-юниоизма.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дсестра должна быть женщиной работающей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, но не ради зарабатывания денег, а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ди блага людей для снижения страданий и оказания помощи здоровью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ех, кто в этом нуждается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744280" y="5911920"/>
            <a:ext cx="624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5800"/>
                </a:solidFill>
                <a:latin typeface="Tahoma"/>
              </a:rPr>
              <a:t>июль 1909 г., редакционная статья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2"/>
          <p:cNvSpPr/>
          <p:nvPr/>
        </p:nvSpPr>
        <p:spPr>
          <a:xfrm>
            <a:off x="1266840" y="3809880"/>
            <a:ext cx="4038480" cy="13716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66840" y="3200400"/>
            <a:ext cx="4038480" cy="60948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114800" y="1538280"/>
            <a:ext cx="2666880" cy="4572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990720" y="3260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Сестринская прак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143000" y="3886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Профессиональные и социально-экономически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388620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Условия тр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114800" y="1995480"/>
            <a:ext cx="2666880" cy="4572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388620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4191120" y="5881680"/>
            <a:ext cx="2666880" cy="4572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39625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28"/>
          <p:cNvSpPr/>
          <p:nvPr/>
        </p:nvSpPr>
        <p:spPr>
          <a:xfrm flipH="1" flipV="1">
            <a:off x="3457080" y="5181120"/>
            <a:ext cx="1676520" cy="68580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4343400" y="2590920"/>
            <a:ext cx="990720" cy="53316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533520" y="2666880"/>
            <a:ext cx="5486400" cy="3048120"/>
          </a:xfrm>
          <a:prstGeom prst="ellipse">
            <a:avLst/>
          </a:prstGeom>
          <a:noFill/>
          <a:ln w="381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304920" y="1143000"/>
            <a:ext cx="8610480" cy="5715000"/>
          </a:xfrm>
          <a:prstGeom prst="ellipse">
            <a:avLst/>
          </a:prstGeom>
          <a:noFill/>
          <a:ln w="381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Сестринские услуги</a:t>
            </a:r>
            <a:endParaRPr b="1" lang="en-US" sz="5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1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Любые усилия, направленные на изменение сестринской практики, сталкиваются и относятся к условиям труда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1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Невнимание к той среде и контексту, в котором разворачивается сестринская практика, является угрозой внедрению и поддержанию позитивных новшеств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eed-icon-1"/>
          <p:cNvPicPr/>
          <p:nvPr/>
        </p:nvPicPr>
        <p:blipFill>
          <a:blip r:embed="rId2"/>
          <a:stretch/>
        </p:blipFill>
        <p:spPr>
          <a:xfrm>
            <a:off x="76320" y="5029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3:4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