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D2C-00E9-4ACD-8633-44233503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F3A-CC00-4BFE-829A-EEDA63FE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82B-0AC2-4820-A1C4-6E45E982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A2B-A152-4C9B-9989-48A737B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4DF-84B0-40B9-A5E3-3983CA62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763-0C89-4B1C-AA28-F0727FE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0F2-B357-4ACA-B00B-EEB9115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BC2-1DA3-4EE4-9C58-EA14D596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824-4887-4D8A-A861-8D04EC73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D3A-5632-48E6-9D1A-16BCD7D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ECE-AFD7-49A7-820F-0EF40452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FFD-1883-4203-92E8-37108E8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049-6A87-4DF1-8C3A-7E94A29CB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2"/>
          <p:cNvSpPr/>
          <p:nvPr/>
        </p:nvSpPr>
        <p:spPr>
          <a:xfrm>
            <a:off x="2438280" y="1828800"/>
            <a:ext cx="6400800" cy="4800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1"/>
          <p:cNvSpPr/>
          <p:nvPr/>
        </p:nvSpPr>
        <p:spPr>
          <a:xfrm>
            <a:off x="304920" y="1295280"/>
            <a:ext cx="1936800" cy="2828880"/>
          </a:xfrm>
          <a:custGeom>
            <a:avLst/>
            <a:gdLst>
              <a:gd name="textAreaLeft" fmla="*/ 94320 w 1936800"/>
              <a:gd name="textAreaRight" fmla="*/ 1842480 w 1936800"/>
              <a:gd name="textAreaTop" fmla="*/ 94320 h 2828880"/>
              <a:gd name="textAreaBottom" fmla="*/ 2734560 h 2828880"/>
            </a:gdLst>
            <a:ahLst/>
            <a:rect l="textAreaLeft" t="textAreaTop" r="textAreaRight" b="textAreaBottom"/>
            <a:pathLst>
              <a:path w="21600" h="31547">
                <a:moveTo>
                  <a:pt x="3600" y="0"/>
                </a:moveTo>
                <a:arcTo wR="3600" hR="3600" stAng="16200000" swAng="-5400000"/>
                <a:lnTo>
                  <a:pt x="0" y="27947"/>
                </a:lnTo>
                <a:arcTo wR="3600" hR="3600" stAng="10800000" swAng="-5400000"/>
                <a:lnTo>
                  <a:pt x="18000" y="315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514600" y="1828800"/>
            <a:ext cx="6248520" cy="487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2280" y="1295280"/>
            <a:ext cx="2179800" cy="2873520"/>
          </a:xfrm>
          <a:custGeom>
            <a:avLst/>
            <a:gdLst>
              <a:gd name="textAreaLeft" fmla="*/ 106200 w 2179800"/>
              <a:gd name="textAreaRight" fmla="*/ 2073600 w 2179800"/>
              <a:gd name="textAreaTop" fmla="*/ 106200 h 2873520"/>
              <a:gd name="textAreaBottom" fmla="*/ 2767320 h 2873520"/>
            </a:gdLst>
            <a:ahLst/>
            <a:rect l="textAreaLeft" t="textAreaTop" r="textAreaRight" b="textAreaBottom"/>
            <a:pathLst>
              <a:path w="21600" h="28473">
                <a:moveTo>
                  <a:pt x="3600" y="0"/>
                </a:moveTo>
                <a:arcTo wR="3600" hR="3600" stAng="16200000" swAng="-5400000"/>
                <a:lnTo>
                  <a:pt x="0" y="24873"/>
                </a:lnTo>
                <a:arcTo wR="3600" hR="3600" stAng="10800000" swAng="-5400000"/>
                <a:lnTo>
                  <a:pt x="18000" y="284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2286000" y="1828800"/>
            <a:ext cx="6400800" cy="4724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80880" y="1371600"/>
            <a:ext cx="1941480" cy="2687760"/>
          </a:xfrm>
          <a:custGeom>
            <a:avLst/>
            <a:gdLst>
              <a:gd name="textAreaLeft" fmla="*/ 94680 w 1941480"/>
              <a:gd name="textAreaRight" fmla="*/ 1846800 w 1941480"/>
              <a:gd name="textAreaTop" fmla="*/ 94680 h 2687760"/>
              <a:gd name="textAreaBottom" fmla="*/ 2593080 h 2687760"/>
            </a:gdLst>
            <a:ahLst/>
            <a:rect l="textAreaLeft" t="textAreaTop" r="textAreaRight" b="textAreaBottom"/>
            <a:pathLst>
              <a:path w="21600" h="29901">
                <a:moveTo>
                  <a:pt x="3600" y="0"/>
                </a:moveTo>
                <a:arcTo wR="3600" hR="3600" stAng="16200000" swAng="-5400000"/>
                <a:lnTo>
                  <a:pt x="0" y="26301"/>
                </a:lnTo>
                <a:arcTo wR="3600" hR="3600" stAng="10800000" swAng="-5400000"/>
                <a:lnTo>
                  <a:pt x="18000" y="29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438280" y="1828800"/>
            <a:ext cx="609624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4920" y="1295280"/>
            <a:ext cx="2127240" cy="269424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94240"/>
              <a:gd name="textAreaBottom" fmla="*/ 2590560 h 2694240"/>
            </a:gdLst>
            <a:ahLst/>
            <a:rect l="textAreaLeft" t="textAreaTop" r="textAreaRight" b="textAreaBottom"/>
            <a:pathLst>
              <a:path w="21600" h="27356">
                <a:moveTo>
                  <a:pt x="3600" y="0"/>
                </a:moveTo>
                <a:arcTo wR="3600" hR="3600" stAng="16200000" swAng="-5400000"/>
                <a:lnTo>
                  <a:pt x="0" y="23756"/>
                </a:lnTo>
                <a:arcTo wR="3600" hR="3600" stAng="10800000" swAng="-5400000"/>
                <a:lnTo>
                  <a:pt x="18000" y="2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2438280" y="1828800"/>
            <a:ext cx="6172200" cy="4724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04920" y="1295280"/>
            <a:ext cx="2152440" cy="278460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2784600"/>
              <a:gd name="textAreaBottom" fmla="*/ 2679840 h 2784600"/>
            </a:gdLst>
            <a:ahLst/>
            <a:rect l="textAreaLeft" t="textAreaTop" r="textAreaRight" b="textAreaBottom"/>
            <a:pathLst>
              <a:path w="21600" h="27943">
                <a:moveTo>
                  <a:pt x="3600" y="0"/>
                </a:moveTo>
                <a:arcTo wR="3600" hR="3600" stAng="16200000" swAng="-5400000"/>
                <a:lnTo>
                  <a:pt x="0" y="24343"/>
                </a:lnTo>
                <a:arcTo wR="3600" hR="3600" stAng="10800000" swAng="-5400000"/>
                <a:lnTo>
                  <a:pt x="18000" y="27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438280" y="1752480"/>
            <a:ext cx="6248520" cy="4648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04920" y="1295280"/>
            <a:ext cx="2179440" cy="2873520"/>
          </a:xfrm>
          <a:custGeom>
            <a:avLst/>
            <a:gdLst>
              <a:gd name="textAreaLeft" fmla="*/ 106200 w 2179440"/>
              <a:gd name="textAreaRight" fmla="*/ 2073240 w 2179440"/>
              <a:gd name="textAreaTop" fmla="*/ 106200 h 2873520"/>
              <a:gd name="textAreaBottom" fmla="*/ 2767320 h 2873520"/>
            </a:gdLst>
            <a:ahLst/>
            <a:rect l="textAreaLeft" t="textAreaTop" r="textAreaRight" b="textAreaBottom"/>
            <a:pathLst>
              <a:path w="21600" h="28478">
                <a:moveTo>
                  <a:pt x="3600" y="0"/>
                </a:moveTo>
                <a:arcTo wR="3600" hR="3600" stAng="16200000" swAng="-5400000"/>
                <a:lnTo>
                  <a:pt x="0" y="24878"/>
                </a:lnTo>
                <a:arcTo wR="3600" hR="3600" stAng="10800000" swAng="-5400000"/>
                <a:lnTo>
                  <a:pt x="18000" y="284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5:3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