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5EB-3C78-45D0-84E7-F9B8BB69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D58-8F42-4432-8981-BCADBD6E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CD4-1DBF-41E7-9356-AD4E71FF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2CAF-C2AA-441E-AAB1-09586A16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24C3-CF05-405D-BE12-9171CDF8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1B0-19D5-4258-9571-F9643A4C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33AD-1A90-4D9F-ABB1-ACDB3740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09C-9A75-48CE-B018-DA7535CA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820-BFEB-42E8-9EF4-31BF1D9A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0F8-CA86-4255-902D-818E9E91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C0B-69D7-4FDE-912D-A944D782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485-757E-450F-8E63-B5876055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B75F-172D-4F83-A8DD-D4E58E191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324000"/>
            <a:ext cx="2521080" cy="352728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ffffff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666880" y="3200400"/>
            <a:ext cx="62024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5 - 28 мая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Прямоугольник 4"/>
          <p:cNvGrpSpPr/>
          <p:nvPr/>
        </p:nvGrpSpPr>
        <p:grpSpPr>
          <a:xfrm>
            <a:off x="-19080" y="4127400"/>
            <a:ext cx="9175680" cy="169920"/>
            <a:chOff x="-19080" y="4127400"/>
            <a:chExt cx="9175680" cy="169920"/>
          </a:xfrm>
        </p:grpSpPr>
        <p:pic>
          <p:nvPicPr>
            <p:cNvPr id="45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4127400"/>
              <a:ext cx="91756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414324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51000" y="407880"/>
            <a:ext cx="2131920" cy="3156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71520" y="233856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4648320"/>
            <a:ext cx="5943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6600"/>
                </a:solidFill>
                <a:latin typeface="Verdana"/>
              </a:rPr>
              <a:t>4 день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07800"/>
            <a:ext cx="66294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региональный семинар    в рамках международного проекта «Лидерство в перегово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1200240" y="1260360"/>
            <a:ext cx="21096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05-20T17:01:1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