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011-7A12-44E6-B3FE-6A9A8BD7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879-935B-4BF8-A6CE-4AE2834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D68-E6B1-43F2-883B-972732A2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69C-B4F0-4064-BD9F-E67A06A3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D694-6565-4BEA-9C58-096C1EDE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E3AD-2EB4-4040-8D57-9626397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C59C-397E-4EC8-82CF-22016FF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7FE-3BE1-41B5-B60C-3F2F0DDE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A8F-E0CD-446D-B76D-93587E31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1E4-BFE6-42DC-9A14-35E3F85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47B1-A747-4A9B-AF39-7647747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F2F-F11E-4904-A301-300EA55F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9E11-B2F8-4AF5-9103-AA801F5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6E5-D38F-4287-B3C6-6C9E3DC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4802-CF92-4EF1-9440-86831D45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4C6-3EF3-484F-82C8-CF7F55AD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A6D6-EC2D-4B40-9D15-F904244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CD2-EAFF-4DE7-81B6-17495B7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5E3-3837-4564-90BE-4656102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887-02FD-4100-9841-84210351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48E-C39B-4BEA-B600-5DFBAA1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C88-4FE9-41F6-854D-59828EBB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DA3-4A2B-440D-8107-5E685F4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55C-28D7-463A-AF90-ABA647E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851B-043E-4DDA-934A-9BB87CFAE76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2BE-8359-4531-97F2-019B326E5FB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752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Arial"/>
              </a:rPr>
              <a:t>Публичное выступление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50920" y="5987880"/>
            <a:ext cx="21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С.Ф. Дацюк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335240" cy="198108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Что такое публичное выступ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Подготовка и 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Навыки выступ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четверт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Навыки ведения презен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пят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Подготовьте и сделайте 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пяти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15228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1522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1522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15228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feed-icon-1"/>
          <p:cNvPicPr/>
          <p:nvPr/>
        </p:nvPicPr>
        <p:blipFill>
          <a:blip r:embed="rId5"/>
          <a:stretch/>
        </p:blipFill>
        <p:spPr>
          <a:xfrm>
            <a:off x="1522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18440" y="3581280"/>
            <a:ext cx="16732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это процесс презентации и открытого выражения вашего мнения, мыслей, идей и чувств в интересах общественности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адресовано публике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является вызовом, требующим демонстрации лидерских способност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860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Публичное выступл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feed-icon-1"/>
          <p:cNvPicPr/>
          <p:nvPr/>
        </p:nvPicPr>
        <p:blipFill>
          <a:blip r:embed="rId2"/>
          <a:stretch/>
        </p:blipFill>
        <p:spPr>
          <a:xfrm>
            <a:off x="763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eed-icon-1"/>
          <p:cNvPicPr/>
          <p:nvPr/>
        </p:nvPicPr>
        <p:blipFill>
          <a:blip r:embed="rId3"/>
          <a:stretch/>
        </p:blipFill>
        <p:spPr>
          <a:xfrm>
            <a:off x="7632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eed-icon-1"/>
          <p:cNvPicPr/>
          <p:nvPr/>
        </p:nvPicPr>
        <p:blipFill>
          <a:blip r:embed="rId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Подготовка и содержание</a:t>
            </a:r>
            <a:endParaRPr b="1" lang="en-US" sz="5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Узнайте аудиторию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Будьте аккуратны и точ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мните о логической последовательност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росчитайте врем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смотрите на то, что собираетесь сказа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кажите это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вторите сказан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eed-icon-1"/>
          <p:cNvPicPr/>
          <p:nvPr/>
        </p:nvPicPr>
        <p:blipFill>
          <a:blip r:embed="rId3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eed-icon-1"/>
          <p:cNvPicPr/>
          <p:nvPr/>
        </p:nvPicPr>
        <p:blipFill>
          <a:blip r:embed="rId4"/>
          <a:stretch/>
        </p:blipFill>
        <p:spPr>
          <a:xfrm>
            <a:off x="7632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eed-icon-1"/>
          <p:cNvPicPr/>
          <p:nvPr/>
        </p:nvPicPr>
        <p:blipFill>
          <a:blip r:embed="rId5"/>
          <a:stretch/>
        </p:blipFill>
        <p:spPr>
          <a:xfrm>
            <a:off x="7632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feed-icon-1"/>
          <p:cNvPicPr/>
          <p:nvPr/>
        </p:nvPicPr>
        <p:blipFill>
          <a:blip r:embed="rId6"/>
          <a:stretch/>
        </p:blipFill>
        <p:spPr>
          <a:xfrm>
            <a:off x="7632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feed-icon-1"/>
          <p:cNvPicPr/>
          <p:nvPr/>
        </p:nvPicPr>
        <p:blipFill>
          <a:blip r:embed="rId7"/>
          <a:stretch/>
        </p:blipFill>
        <p:spPr>
          <a:xfrm>
            <a:off x="7632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Навыки выступления</a:t>
            </a:r>
            <a:endParaRPr b="1" lang="en-US" sz="6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соответствовать аудитории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росто и понятно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структура предложений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изуальная поддержка.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feed-icon-1"/>
          <p:cNvPicPr/>
          <p:nvPr/>
        </p:nvPicPr>
        <p:blipFill>
          <a:blip r:embed="rId2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feed-icon-1"/>
          <p:cNvPicPr/>
          <p:nvPr/>
        </p:nvPicPr>
        <p:blipFill>
          <a:blip r:embed="rId3"/>
          <a:stretch/>
        </p:blipFill>
        <p:spPr>
          <a:xfrm>
            <a:off x="763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feed-icon-1"/>
          <p:cNvPicPr/>
          <p:nvPr/>
        </p:nvPicPr>
        <p:blipFill>
          <a:blip r:embed="rId4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feed-icon-1"/>
          <p:cNvPicPr/>
          <p:nvPr/>
        </p:nvPicPr>
        <p:blipFill>
          <a:blip r:embed="rId5"/>
          <a:stretch/>
        </p:blipFill>
        <p:spPr>
          <a:xfrm>
            <a:off x="7632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42560"/>
            <a:ext cx="861084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Навыки презентации</a:t>
            </a:r>
            <a:endParaRPr b="1" lang="en-US" sz="6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четкое произношен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темп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лечение вниман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спокойств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взгляд на аудиторию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следите за окончани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238880" y="3524400"/>
            <a:ext cx="1600200" cy="28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feed-icon-1"/>
          <p:cNvPicPr/>
          <p:nvPr/>
        </p:nvPicPr>
        <p:blipFill>
          <a:blip r:embed="rId2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feed-icon-1"/>
          <p:cNvPicPr/>
          <p:nvPr/>
        </p:nvPicPr>
        <p:blipFill>
          <a:blip r:embed="rId3"/>
          <a:stretch/>
        </p:blipFill>
        <p:spPr>
          <a:xfrm>
            <a:off x="763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feed-icon-1"/>
          <p:cNvPicPr/>
          <p:nvPr/>
        </p:nvPicPr>
        <p:blipFill>
          <a:blip r:embed="rId4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feed-icon-1"/>
          <p:cNvPicPr/>
          <p:nvPr/>
        </p:nvPicPr>
        <p:blipFill>
          <a:blip r:embed="rId5"/>
          <a:stretch/>
        </p:blipFill>
        <p:spPr>
          <a:xfrm>
            <a:off x="763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feed-icon-1"/>
          <p:cNvPicPr/>
          <p:nvPr/>
        </p:nvPicPr>
        <p:blipFill>
          <a:blip r:embed="rId6"/>
          <a:stretch/>
        </p:blipFill>
        <p:spPr>
          <a:xfrm>
            <a:off x="76320" y="5181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feed-icon-1"/>
          <p:cNvPicPr/>
          <p:nvPr/>
        </p:nvPicPr>
        <p:blipFill>
          <a:blip r:embed="rId7"/>
          <a:stretch/>
        </p:blipFill>
        <p:spPr>
          <a:xfrm>
            <a:off x="763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80880" y="1447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Arial"/>
              </a:rPr>
              <a:t>Ролевая игра «Публичное выступление»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152280" y="142920"/>
            <a:ext cx="86108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Задания участникам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33520" y="1123920"/>
            <a:ext cx="84582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Почему нам нужно праздновать Международный день медицинской сест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Важность непрерывного сестринского образовани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Выступление в защиту нулевой толерантности по отношению к насилию на рабочем мест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Обращение по вопросу обслуживания потребителе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Улучшение качества оказываемой помощи и повышение уровня удовлетворенности пациент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Речь представителя РАМС о постоянном стремлении к совершенствованию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eed-icon-1"/>
          <p:cNvPicPr/>
          <p:nvPr/>
        </p:nvPicPr>
        <p:blipFill>
          <a:blip r:embed="rId1"/>
          <a:stretch/>
        </p:blipFill>
        <p:spPr>
          <a:xfrm>
            <a:off x="7632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feed-icon-1"/>
          <p:cNvPicPr/>
          <p:nvPr/>
        </p:nvPicPr>
        <p:blipFill>
          <a:blip r:embed="rId2"/>
          <a:stretch/>
        </p:blipFill>
        <p:spPr>
          <a:xfrm>
            <a:off x="763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feed-icon-1"/>
          <p:cNvPicPr/>
          <p:nvPr/>
        </p:nvPicPr>
        <p:blipFill>
          <a:blip r:embed="rId3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ed-icon-1"/>
          <p:cNvPicPr/>
          <p:nvPr/>
        </p:nvPicPr>
        <p:blipFill>
          <a:blip r:embed="rId4"/>
          <a:stretch/>
        </p:blipFill>
        <p:spPr>
          <a:xfrm>
            <a:off x="763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feed-icon-1"/>
          <p:cNvPicPr/>
          <p:nvPr/>
        </p:nvPicPr>
        <p:blipFill>
          <a:blip r:embed="rId5"/>
          <a:stretch/>
        </p:blipFill>
        <p:spPr>
          <a:xfrm>
            <a:off x="7632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feed-icon-1"/>
          <p:cNvPicPr/>
          <p:nvPr/>
        </p:nvPicPr>
        <p:blipFill>
          <a:blip r:embed="rId6"/>
          <a:stretch/>
        </p:blipFill>
        <p:spPr>
          <a:xfrm>
            <a:off x="7632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1:5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