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1B4-9288-409D-A0DF-20356E60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FF2-A494-4676-9C71-6B490B4D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8A8-CF56-4E53-97B7-1EBA02CB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647-7B7A-4721-AD5C-5103DF83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850-A72B-4E91-892B-C44EF4A3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8D3F-9817-4A2E-8808-E09F2778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ACCB-A81F-4F26-846D-E924206A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B4B3-7D76-461E-B879-2CA8BEE4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EEB-C9C9-4BDA-98CD-4399A5B3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1212-6FA2-44F1-9DFE-D781BCCE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B3F6-4CEF-4DC5-A6B6-4D06C085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5F6B-1849-4984-A824-E9200D39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35B1-B9AC-421A-B27B-0A5A9543A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2133720"/>
            <a:ext cx="1524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33720" y="2382840"/>
            <a:ext cx="4863960" cy="4094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320" y="104760"/>
            <a:ext cx="8991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004760"/>
            <a:ext cx="7315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5800"/>
                </a:solidFill>
                <a:latin typeface="Verdana"/>
              </a:rPr>
              <a:t>Кофе-пауз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9T07:38:1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