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87C5-A7E0-43F0-A4B3-6750AF096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6BF3-A5CA-4AF0-AA72-70E52DE4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6A3A-D3C1-482D-9F93-C9280AA14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8307-D4B4-40D3-9A71-8814517DB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5CB5-B5F7-4C2E-92E1-980A66D4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9984-0829-4372-AE7A-659CE446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BE0A-5339-46F1-A785-E5762F5B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D41E-5124-4A8E-A258-737B3211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1B52-6C42-4A96-B168-159D2765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1D88-3B46-4416-88A7-F760C189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165D-2527-4093-9ED3-60EA798D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EDD6-BECB-4E76-89D0-2B1F427A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CDFC-622F-43D8-946A-EF0B13093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19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66ff"/>
                </a:solidFill>
                <a:latin typeface="Arial"/>
              </a:rPr>
              <a:t>Медицинская сестра-</a:t>
            </a:r>
            <a:br>
              <a:rPr sz="4800"/>
            </a:br>
            <a:r>
              <a:rPr b="1" i="1" lang="ru-RU" sz="4800" spc="-1" strike="noStrike">
                <a:solidFill>
                  <a:srgbClr val="3366ff"/>
                </a:solidFill>
                <a:latin typeface="Arial"/>
              </a:rPr>
              <a:t>предпринимател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P1000346"/>
          <p:cNvPicPr/>
          <p:nvPr/>
        </p:nvPicPr>
        <p:blipFill>
          <a:blip r:embed="rId1"/>
          <a:stretch/>
        </p:blipFill>
        <p:spPr>
          <a:xfrm>
            <a:off x="755640" y="3789360"/>
            <a:ext cx="1428840" cy="1944720"/>
          </a:xfrm>
          <a:prstGeom prst="rect">
            <a:avLst/>
          </a:prstGeom>
          <a:ln w="19080">
            <a:solidFill>
              <a:srgbClr val="990000"/>
            </a:solidFill>
            <a:miter/>
          </a:ln>
        </p:spPr>
      </p:pic>
      <p:sp>
        <p:nvSpPr>
          <p:cNvPr id="43" name="Rectangle 8"/>
          <p:cNvSpPr/>
          <p:nvPr/>
        </p:nvSpPr>
        <p:spPr>
          <a:xfrm>
            <a:off x="108000" y="584676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ahoma"/>
              </a:rPr>
              <a:t>Спикер                    И.К. Жива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0" y="108000"/>
            <a:ext cx="90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ahoma"/>
              </a:rPr>
              <a:t>III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 региональный семинар в рамках международного проекта «Лидерство в переговора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66ff"/>
                </a:solidFill>
                <a:latin typeface="Arial"/>
                <a:ea typeface="Arial"/>
              </a:rPr>
              <a:t>С чего начать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85840" y="1500120"/>
            <a:ext cx="857232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дея +информационное сопровожд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изнес-план + маркетинговое сопровожд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ыбор формы предприятия +юридическое сопровожд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формление (регистрац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Финанс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ддерж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66ff"/>
                </a:solidFill>
                <a:latin typeface="Arial"/>
                <a:ea typeface="Arial"/>
              </a:rPr>
              <a:t>Регистрация в качестве индивидуального предпринимателя или юридического лица в Омск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14200" y="1785960"/>
            <a:ext cx="8786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Arial"/>
                <a:ea typeface="Arial"/>
              </a:rPr>
              <a:t>Межрайонная ИФНС России № 12 по Омской област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дрес: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Омск, ул. Маршала Жукова, 72/1 (остановка «Казачий рынок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ежим работы: с 8:30 до 17:30 без перерыва на обед, пятница - с 8:30 до 16: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ефон справочной службы: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(381-2) 35-94-7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-921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66ff"/>
                </a:solidFill>
                <a:latin typeface="Arial"/>
                <a:ea typeface="Arial"/>
              </a:rPr>
              <a:t>Документы для государственной регистрации юридического лиц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4920" y="952560"/>
            <a:ext cx="9036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75"/>
              </a:spcBef>
              <a:spcAft>
                <a:spcPts val="425"/>
              </a:spcAft>
              <a:buClr>
                <a:srgbClr val="3366ff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подписанное учредителем заявление о государственной регистрации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spcAft>
                <a:spcPts val="425"/>
              </a:spcAft>
              <a:buClr>
                <a:srgbClr val="3366ff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решение о создании юридического лица в виде протокола, договора или иного документа в соответствии с законодательством Р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spcAft>
                <a:spcPts val="425"/>
              </a:spcAft>
              <a:buClr>
                <a:srgbClr val="3366ff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подлинники или засвидетельствованные в нотариальном порядке копии учредительных документов юридического лица (учредительный договор и (или) устав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spcAft>
                <a:spcPts val="425"/>
              </a:spcAft>
              <a:buClr>
                <a:srgbClr val="3366ff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выписка из реестра иностранных юридических лиц соответствующей страны происхождения или иное равное по юридической силе доказательство юридического статуса иностранного юридического лица-учредителя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spcAft>
                <a:spcPts val="425"/>
              </a:spcAft>
              <a:buClr>
                <a:srgbClr val="3366ff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документ об уплате государственной пошлины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920" y="401400"/>
            <a:ext cx="878688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3366ff"/>
                </a:solidFill>
                <a:latin typeface="Arial"/>
                <a:ea typeface="Arial"/>
              </a:rPr>
              <a:t>Направление документов для государственной регистрации при создании юридического лица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50920" y="2187720"/>
            <a:ext cx="8229600" cy="32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876"/>
              </a:spcBef>
              <a:spcAft>
                <a:spcPts val="2188"/>
              </a:spcAft>
              <a:buClr>
                <a:srgbClr val="33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  <a:ea typeface="Arial"/>
              </a:rPr>
              <a:t>почтовое отправление с объявленной ценностью при его пересылке и описью вложения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876"/>
              </a:spcBef>
              <a:spcAft>
                <a:spcPts val="2188"/>
              </a:spcAft>
              <a:buClr>
                <a:srgbClr val="33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итель юридического лица (в лице руководителя либо иного лица по доверенности)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66ff"/>
                </a:solidFill>
                <a:latin typeface="Arial"/>
                <a:ea typeface="Arial"/>
              </a:rPr>
              <a:t>Документы для государственной регистрации физического лица в качестве индивидуального предпринимател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6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75"/>
              </a:spcBef>
              <a:spcAft>
                <a:spcPts val="337"/>
              </a:spcAft>
              <a:buClr>
                <a:srgbClr val="3366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подписанное физическим лицом заявление о государственной регистраци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75"/>
              </a:spcBef>
              <a:spcAft>
                <a:spcPts val="337"/>
              </a:spcAft>
              <a:buClr>
                <a:srgbClr val="3366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копия документа, удостоверяющего личность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75"/>
              </a:spcBef>
              <a:spcAft>
                <a:spcPts val="337"/>
              </a:spcAft>
              <a:buClr>
                <a:srgbClr val="3366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копия свидетельства о рождении или копия иного документа, подтверждающего дату и место рождения лица в соответствии с законодательством Российской Федерации или международным договором Российской Федераци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75"/>
              </a:spcBef>
              <a:spcAft>
                <a:spcPts val="337"/>
              </a:spcAft>
              <a:buClr>
                <a:srgbClr val="3366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документ об уплате государственной пошлины в виде соответствующей банковской квитанции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442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ff"/>
                </a:solidFill>
                <a:latin typeface="Arial"/>
                <a:ea typeface="Arial"/>
              </a:rPr>
              <a:t>Предоставление субсидии </a:t>
            </a:r>
            <a:br>
              <a:rPr sz="4000"/>
            </a:br>
            <a:r>
              <a:rPr b="1" i="1" lang="ru-RU" sz="4000" spc="-1" strike="noStrike">
                <a:solidFill>
                  <a:srgbClr val="3366ff"/>
                </a:solidFill>
                <a:latin typeface="Arial"/>
                <a:ea typeface="Arial"/>
              </a:rPr>
              <a:t>на конкурсной основ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79280" y="1052640"/>
            <a:ext cx="8715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6040" indent="-176040">
              <a:lnSpc>
                <a:spcPct val="110000"/>
              </a:lnSpc>
              <a:spcBef>
                <a:spcPts val="451"/>
              </a:spcBef>
              <a:spcAft>
                <a:spcPts val="337"/>
              </a:spcAft>
              <a:buClr>
                <a:srgbClr val="3366ff"/>
              </a:buClr>
              <a:buSzPct val="1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мпенсация части суммы процентов по кредитам, привлеченным субъектами малого и среднего предпринимательства города Омска в кредитных организац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10000"/>
              </a:lnSpc>
              <a:spcBef>
                <a:spcPts val="451"/>
              </a:spcBef>
              <a:spcAft>
                <a:spcPts val="337"/>
              </a:spcAft>
              <a:buClr>
                <a:srgbClr val="3366ff"/>
              </a:buClr>
              <a:buSzPct val="1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озмещение расходов субъектам малого и среднего предпринимательства города Омска, осуществляющим инновационную деятельность на территории города Ом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10000"/>
              </a:lnSpc>
              <a:spcBef>
                <a:spcPts val="451"/>
              </a:spcBef>
              <a:spcAft>
                <a:spcPts val="337"/>
              </a:spcAft>
              <a:buClr>
                <a:srgbClr val="3366ff"/>
              </a:buClr>
              <a:buSzPct val="1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мпенсация части затрат субъектам малого и среднего предпринимательства города Омска, участвующим в выставочной и внешнеэкономической деятельности города Ом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10000"/>
              </a:lnSpc>
              <a:spcBef>
                <a:spcPts val="451"/>
              </a:spcBef>
              <a:spcAft>
                <a:spcPts val="337"/>
              </a:spcAft>
              <a:buClr>
                <a:srgbClr val="3366ff"/>
              </a:buClr>
              <a:buSzPct val="1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мпенсация части затрат на подготовку, переподготовку и повышение квалификации кадров для субъектов малого и среднего предпринимательства города Ом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10000"/>
              </a:lnSpc>
              <a:spcBef>
                <a:spcPts val="451"/>
              </a:spcBef>
              <a:spcAft>
                <a:spcPts val="337"/>
              </a:spcAft>
              <a:buClr>
                <a:srgbClr val="3366ff"/>
              </a:buClr>
              <a:buSzPct val="1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мпенсацию части затрат на оформление патентования изобретений, полезных моделей, промышленных образцов и селекционных достижений, а также государственной регистрации иных результатов интеллектуальной деятельности, созданных субъектами малого и среднего предпринимательства города Ом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ff"/>
                </a:solidFill>
                <a:latin typeface="Arial"/>
                <a:ea typeface="Arial"/>
              </a:rPr>
              <a:t>Предоставление субсидии </a:t>
            </a:r>
            <a:br>
              <a:rPr sz="4000"/>
            </a:br>
            <a:r>
              <a:rPr b="1" i="1" lang="ru-RU" sz="4000" spc="-1" strike="noStrike">
                <a:solidFill>
                  <a:srgbClr val="3366ff"/>
                </a:solidFill>
                <a:latin typeface="Arial"/>
                <a:ea typeface="Arial"/>
              </a:rPr>
              <a:t>на конкурсной основ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14200" y="1285920"/>
            <a:ext cx="8715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spcAft>
                <a:spcPts val="1463"/>
              </a:spcAft>
              <a:buClr>
                <a:srgbClr val="3366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омпенсация части затрат на подготовку, переподготовку и повышение квалификации кадров для субъектов малого и среднего предпринимательства города Омс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1199"/>
              </a:spcBef>
              <a:spcAft>
                <a:spcPts val="1463"/>
              </a:spcAft>
              <a:buClr>
                <a:srgbClr val="3366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омпенсацию части затрат на оформление патентования изобретений, полезных моделей, промышленных образцов и селекционных достижений, а также государственной регистрации иных результатов интеллектуальной деятельности, созданных субъектами малого и среднего предпринимательства города Омс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760" y="115920"/>
            <a:ext cx="8867880" cy="73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3366ff"/>
                </a:solidFill>
                <a:latin typeface="Arial"/>
                <a:ea typeface="Arial"/>
              </a:rPr>
              <a:t>Субсидии для предпринимателей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79280" y="1144080"/>
            <a:ext cx="8715600" cy="18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Суть субсидий – в возмещении затрат субъектам малого и среднего предпринимательства в виде компенсации част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одержимое 2"/>
          <p:cNvSpPr/>
          <p:nvPr/>
        </p:nvSpPr>
        <p:spPr>
          <a:xfrm>
            <a:off x="179280" y="3327480"/>
            <a:ext cx="871560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446040">
              <a:spcBef>
                <a:spcPts val="751"/>
              </a:spcBef>
              <a:buClr>
                <a:srgbClr val="3366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выплаченных процентов по кредит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spcBef>
                <a:spcPts val="751"/>
              </a:spcBef>
              <a:buClr>
                <a:srgbClr val="3366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затрат на оформление пат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spcBef>
                <a:spcPts val="751"/>
              </a:spcBef>
              <a:buClr>
                <a:srgbClr val="3366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затрат по участию в выставка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spcBef>
                <a:spcPts val="751"/>
              </a:spcBef>
              <a:buClr>
                <a:srgbClr val="3366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затрат на обучение персона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spcBef>
                <a:spcPts val="751"/>
              </a:spcBef>
              <a:buClr>
                <a:srgbClr val="3366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затрат на реализацию инновационного проек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-360" y="692280"/>
            <a:ext cx="89298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ля участия в конкурсе участникам необходимо предоставить в Администрацию города Омска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Arial"/>
              </a:rPr>
              <a:t>ул. Гагарина, 34, каб. 31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) документы, определенные постановлением Мэра города Омска от 30 июня 2008 года             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№ 502-п. </a:t>
            </a:r>
            <a:br>
              <a:rPr sz="26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олее подробную информацию можно получить по телефонам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24-19-03, 24-29-4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3080" y="43920"/>
            <a:ext cx="872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3366ff"/>
                </a:solidFill>
                <a:latin typeface="Arial"/>
                <a:ea typeface="Arial"/>
              </a:rPr>
              <a:t>Поддержка малого и среднего предпринимательства города Омска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4560" y="1566360"/>
            <a:ext cx="9037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Федеральный закон № 209-ФЗ «О развитии малого и среднего предпринимательства в Российской федераци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26600" indent="-27432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мущественная поддержка (статья 1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26600" indent="-27432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онсультационная поддержка (статья 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26600" indent="-27432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Финансовая поддержка (статья 1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Arial"/>
                <a:ea typeface="Arial"/>
              </a:rPr>
              <a:t>Предпринимательская деятельност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самостоятельная, осуществляемая на свой риск деятельность, направленная на систематическое получение прибыли от пользования имуществом, продажи товаров, выполнения работ или оказания услуг лицами, зарегистрированными в этом качестве в установленном законом порядке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ст. 2 ГК РФ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Oval 3"/>
          <p:cNvSpPr/>
          <p:nvPr/>
        </p:nvSpPr>
        <p:spPr>
          <a:xfrm>
            <a:off x="2604960" y="1986120"/>
            <a:ext cx="4038840" cy="396216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Group 4" descr=""/>
          <p:cNvPicPr/>
          <p:nvPr/>
        </p:nvPicPr>
        <p:blipFill>
          <a:blip r:embed="rId1"/>
          <a:stretch/>
        </p:blipFill>
        <p:spPr>
          <a:xfrm>
            <a:off x="3571920" y="2944800"/>
            <a:ext cx="2085840" cy="21574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3492360" y="3789360"/>
            <a:ext cx="219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e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5e"/>
                </a:solidFill>
                <a:latin typeface="Calibri"/>
              </a:rPr>
              <a:t>Малый и средний бизн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4"/>
          <p:cNvSpPr/>
          <p:nvPr/>
        </p:nvSpPr>
        <p:spPr>
          <a:xfrm rot="18226800">
            <a:off x="3170880" y="4595040"/>
            <a:ext cx="130320" cy="138240"/>
          </a:xfrm>
          <a:prstGeom prst="ellipse">
            <a:avLst/>
          </a:prstGeom>
          <a:gradFill rotWithShape="0">
            <a:gsLst>
              <a:gs pos="0">
                <a:srgbClr val="800080"/>
              </a:gs>
              <a:gs pos="100000">
                <a:srgbClr val="8888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5"/>
          <p:cNvSpPr/>
          <p:nvPr/>
        </p:nvSpPr>
        <p:spPr>
          <a:xfrm rot="18226800">
            <a:off x="3423240" y="4433040"/>
            <a:ext cx="130320" cy="137880"/>
          </a:xfrm>
          <a:prstGeom prst="ellipse">
            <a:avLst/>
          </a:prstGeom>
          <a:gradFill rotWithShape="0">
            <a:gsLst>
              <a:gs pos="0">
                <a:srgbClr val="800080"/>
              </a:gs>
              <a:gs pos="100000">
                <a:srgbClr val="8888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22"/>
          <p:cNvGrpSpPr/>
          <p:nvPr/>
        </p:nvGrpSpPr>
        <p:grpSpPr>
          <a:xfrm>
            <a:off x="5643720" y="2143080"/>
            <a:ext cx="682560" cy="693720"/>
            <a:chOff x="5643720" y="2143080"/>
            <a:chExt cx="682560" cy="693720"/>
          </a:xfrm>
        </p:grpSpPr>
        <p:sp>
          <p:nvSpPr>
            <p:cNvPr id="90" name="Oval 23"/>
            <p:cNvSpPr/>
            <p:nvPr/>
          </p:nvSpPr>
          <p:spPr>
            <a:xfrm>
              <a:off x="5643720" y="2143080"/>
              <a:ext cx="682560" cy="69372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6c6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>
              <a:off x="5721480" y="2154600"/>
              <a:ext cx="526680" cy="261720"/>
            </a:xfrm>
            <a:custGeom>
              <a:avLst/>
              <a:gdLst>
                <a:gd name="textAreaLeft" fmla="*/ 0 w 526680"/>
                <a:gd name="textAreaRight" fmla="*/ 527040 w 52668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Oval 39"/>
          <p:cNvSpPr/>
          <p:nvPr/>
        </p:nvSpPr>
        <p:spPr>
          <a:xfrm rot="18226800">
            <a:off x="3075480" y="3639240"/>
            <a:ext cx="130320" cy="13788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40"/>
          <p:cNvSpPr/>
          <p:nvPr/>
        </p:nvSpPr>
        <p:spPr>
          <a:xfrm rot="18226800">
            <a:off x="3313800" y="3737160"/>
            <a:ext cx="129960" cy="13824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1"/>
          <p:cNvSpPr/>
          <p:nvPr/>
        </p:nvSpPr>
        <p:spPr>
          <a:xfrm rot="18226800">
            <a:off x="4556880" y="2451240"/>
            <a:ext cx="129960" cy="138240"/>
          </a:xfrm>
          <a:prstGeom prst="ellipse">
            <a:avLst/>
          </a:prstGeom>
          <a:gradFill rotWithShape="0">
            <a:gsLst>
              <a:gs pos="0">
                <a:srgbClr val="c0504d"/>
              </a:gs>
              <a:gs pos="100000">
                <a:srgbClr val="57242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42"/>
          <p:cNvSpPr/>
          <p:nvPr/>
        </p:nvSpPr>
        <p:spPr>
          <a:xfrm rot="18226800">
            <a:off x="4556880" y="2685240"/>
            <a:ext cx="130320" cy="138240"/>
          </a:xfrm>
          <a:prstGeom prst="ellipse">
            <a:avLst/>
          </a:prstGeom>
          <a:gradFill rotWithShape="0">
            <a:gsLst>
              <a:gs pos="0">
                <a:srgbClr val="c0504d"/>
              </a:gs>
              <a:gs pos="100000">
                <a:srgbClr val="5d27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43"/>
          <p:cNvSpPr/>
          <p:nvPr/>
        </p:nvSpPr>
        <p:spPr>
          <a:xfrm rot="18226800">
            <a:off x="5528160" y="2809080"/>
            <a:ext cx="130320" cy="137880"/>
          </a:xfrm>
          <a:prstGeom prst="ellipse">
            <a:avLst/>
          </a:prstGeom>
          <a:gradFill rotWithShape="0">
            <a:gsLst>
              <a:gs pos="0">
                <a:srgbClr val="3e3e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44"/>
          <p:cNvSpPr/>
          <p:nvPr/>
        </p:nvSpPr>
        <p:spPr>
          <a:xfrm rot="18226800">
            <a:off x="5385600" y="2952000"/>
            <a:ext cx="130320" cy="138240"/>
          </a:xfrm>
          <a:prstGeom prst="ellipse">
            <a:avLst/>
          </a:prstGeom>
          <a:gradFill rotWithShape="0">
            <a:gsLst>
              <a:gs pos="0">
                <a:srgbClr val="3e3e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7"/>
          <p:cNvSpPr/>
          <p:nvPr/>
        </p:nvSpPr>
        <p:spPr>
          <a:xfrm>
            <a:off x="928800" y="1785960"/>
            <a:ext cx="26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Имущественная поддерж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8"/>
          <p:cNvSpPr/>
          <p:nvPr/>
        </p:nvSpPr>
        <p:spPr>
          <a:xfrm>
            <a:off x="108000" y="5734080"/>
            <a:ext cx="4000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Поддержка инноваций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промышленного производства МС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9"/>
          <p:cNvSpPr/>
          <p:nvPr/>
        </p:nvSpPr>
        <p:spPr>
          <a:xfrm>
            <a:off x="54000" y="4076640"/>
            <a:ext cx="271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Поддерж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сельскохозяйственного произво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54"/>
          <p:cNvGrpSpPr/>
          <p:nvPr/>
        </p:nvGrpSpPr>
        <p:grpSpPr>
          <a:xfrm>
            <a:off x="6215760" y="3217320"/>
            <a:ext cx="732240" cy="745920"/>
            <a:chOff x="6215760" y="3217320"/>
            <a:chExt cx="732240" cy="745920"/>
          </a:xfrm>
        </p:grpSpPr>
        <p:sp>
          <p:nvSpPr>
            <p:cNvPr id="102" name="Oval 55"/>
            <p:cNvSpPr/>
            <p:nvPr/>
          </p:nvSpPr>
          <p:spPr>
            <a:xfrm rot="21345000">
              <a:off x="6240600" y="3241800"/>
              <a:ext cx="682560" cy="69696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6c6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6"/>
            <p:cNvSpPr/>
            <p:nvPr/>
          </p:nvSpPr>
          <p:spPr>
            <a:xfrm rot="21345000">
              <a:off x="6296400" y="3239280"/>
              <a:ext cx="526680" cy="262800"/>
            </a:xfrm>
            <a:custGeom>
              <a:avLst/>
              <a:gdLst>
                <a:gd name="textAreaLeft" fmla="*/ 0 w 526680"/>
                <a:gd name="textAreaRight" fmla="*/ 527040 w 52668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Oval 58"/>
          <p:cNvSpPr/>
          <p:nvPr/>
        </p:nvSpPr>
        <p:spPr>
          <a:xfrm rot="17972400">
            <a:off x="5728320" y="3640320"/>
            <a:ext cx="129960" cy="138240"/>
          </a:xfrm>
          <a:prstGeom prst="ellipse">
            <a:avLst/>
          </a:prstGeom>
          <a:gradFill rotWithShape="0">
            <a:gsLst>
              <a:gs pos="0">
                <a:srgbClr val="8b8bb2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59"/>
          <p:cNvSpPr/>
          <p:nvPr/>
        </p:nvSpPr>
        <p:spPr>
          <a:xfrm rot="17972400">
            <a:off x="6032880" y="3589920"/>
            <a:ext cx="131760" cy="152640"/>
          </a:xfrm>
          <a:prstGeom prst="ellipse">
            <a:avLst/>
          </a:prstGeom>
          <a:gradFill rotWithShape="0">
            <a:gsLst>
              <a:gs pos="0">
                <a:srgbClr val="3e3e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66"/>
          <p:cNvSpPr/>
          <p:nvPr/>
        </p:nvSpPr>
        <p:spPr>
          <a:xfrm rot="18226800">
            <a:off x="3599640" y="2737080"/>
            <a:ext cx="129960" cy="138240"/>
          </a:xfrm>
          <a:prstGeom prst="ellipse">
            <a:avLst/>
          </a:prstGeom>
          <a:gradFill rotWithShape="0">
            <a:gsLst>
              <a:gs pos="0">
                <a:srgbClr val="c0504d"/>
              </a:gs>
              <a:gs pos="100000">
                <a:srgbClr val="57242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67"/>
          <p:cNvSpPr/>
          <p:nvPr/>
        </p:nvSpPr>
        <p:spPr>
          <a:xfrm rot="18226800">
            <a:off x="3813840" y="2899440"/>
            <a:ext cx="130320" cy="138240"/>
          </a:xfrm>
          <a:prstGeom prst="ellipse">
            <a:avLst/>
          </a:prstGeom>
          <a:gradFill rotWithShape="0">
            <a:gsLst>
              <a:gs pos="0">
                <a:srgbClr val="c0504d"/>
              </a:gs>
              <a:gs pos="100000">
                <a:srgbClr val="5d27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54"/>
          <p:cNvGrpSpPr/>
          <p:nvPr/>
        </p:nvGrpSpPr>
        <p:grpSpPr>
          <a:xfrm>
            <a:off x="6144120" y="4503240"/>
            <a:ext cx="732240" cy="745560"/>
            <a:chOff x="6144120" y="4503240"/>
            <a:chExt cx="732240" cy="745560"/>
          </a:xfrm>
        </p:grpSpPr>
        <p:sp>
          <p:nvSpPr>
            <p:cNvPr id="109" name="Oval 55"/>
            <p:cNvSpPr/>
            <p:nvPr/>
          </p:nvSpPr>
          <p:spPr>
            <a:xfrm rot="21345000">
              <a:off x="6168960" y="4527720"/>
              <a:ext cx="682560" cy="69660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6c6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6"/>
            <p:cNvSpPr/>
            <p:nvPr/>
          </p:nvSpPr>
          <p:spPr>
            <a:xfrm rot="21345000">
              <a:off x="6224760" y="4525200"/>
              <a:ext cx="526680" cy="262800"/>
            </a:xfrm>
            <a:custGeom>
              <a:avLst/>
              <a:gdLst>
                <a:gd name="textAreaLeft" fmla="*/ 0 w 526680"/>
                <a:gd name="textAreaRight" fmla="*/ 527040 w 52668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Oval 58"/>
          <p:cNvSpPr/>
          <p:nvPr/>
        </p:nvSpPr>
        <p:spPr>
          <a:xfrm rot="17972400">
            <a:off x="5742720" y="4449960"/>
            <a:ext cx="129960" cy="138240"/>
          </a:xfrm>
          <a:prstGeom prst="ellipse">
            <a:avLst/>
          </a:prstGeom>
          <a:gradFill rotWithShape="0">
            <a:gsLst>
              <a:gs pos="0">
                <a:srgbClr val="3e3e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59"/>
          <p:cNvSpPr/>
          <p:nvPr/>
        </p:nvSpPr>
        <p:spPr>
          <a:xfrm rot="17972400">
            <a:off x="5961600" y="4518720"/>
            <a:ext cx="131760" cy="152280"/>
          </a:xfrm>
          <a:prstGeom prst="ellipse">
            <a:avLst/>
          </a:prstGeom>
          <a:gradFill rotWithShape="0">
            <a:gsLst>
              <a:gs pos="0">
                <a:srgbClr val="3e3e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54"/>
          <p:cNvGrpSpPr/>
          <p:nvPr/>
        </p:nvGrpSpPr>
        <p:grpSpPr>
          <a:xfrm>
            <a:off x="5072760" y="5503320"/>
            <a:ext cx="732240" cy="745920"/>
            <a:chOff x="5072760" y="5503320"/>
            <a:chExt cx="732240" cy="745920"/>
          </a:xfrm>
        </p:grpSpPr>
        <p:sp>
          <p:nvSpPr>
            <p:cNvPr id="114" name="Oval 55"/>
            <p:cNvSpPr/>
            <p:nvPr/>
          </p:nvSpPr>
          <p:spPr>
            <a:xfrm rot="21345000">
              <a:off x="5097600" y="5527800"/>
              <a:ext cx="682560" cy="69696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6c6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56"/>
            <p:cNvSpPr/>
            <p:nvPr/>
          </p:nvSpPr>
          <p:spPr>
            <a:xfrm rot="21345000">
              <a:off x="5153400" y="5525280"/>
              <a:ext cx="526680" cy="262800"/>
            </a:xfrm>
            <a:custGeom>
              <a:avLst/>
              <a:gdLst>
                <a:gd name="textAreaLeft" fmla="*/ 0 w 526680"/>
                <a:gd name="textAreaRight" fmla="*/ 527040 w 52668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Oval 58"/>
          <p:cNvSpPr/>
          <p:nvPr/>
        </p:nvSpPr>
        <p:spPr>
          <a:xfrm rot="17972400">
            <a:off x="5099760" y="5092920"/>
            <a:ext cx="129960" cy="138240"/>
          </a:xfrm>
          <a:prstGeom prst="ellipse">
            <a:avLst/>
          </a:prstGeom>
          <a:gradFill rotWithShape="0">
            <a:gsLst>
              <a:gs pos="0">
                <a:srgbClr val="3e3e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59"/>
          <p:cNvSpPr/>
          <p:nvPr/>
        </p:nvSpPr>
        <p:spPr>
          <a:xfrm rot="17972400">
            <a:off x="5175000" y="5304960"/>
            <a:ext cx="133200" cy="152640"/>
          </a:xfrm>
          <a:prstGeom prst="ellipse">
            <a:avLst/>
          </a:prstGeom>
          <a:gradFill rotWithShape="0">
            <a:gsLst>
              <a:gs pos="0">
                <a:srgbClr val="3e3e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4"/>
          <p:cNvSpPr/>
          <p:nvPr/>
        </p:nvSpPr>
        <p:spPr>
          <a:xfrm>
            <a:off x="884160" y="2928960"/>
            <a:ext cx="158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инансов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ддерж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6"/>
          <p:cNvSpPr/>
          <p:nvPr/>
        </p:nvSpPr>
        <p:spPr>
          <a:xfrm>
            <a:off x="5585400" y="5735520"/>
            <a:ext cx="283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ддерж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нешнеэкономичес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ея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7"/>
          <p:cNvSpPr/>
          <p:nvPr/>
        </p:nvSpPr>
        <p:spPr>
          <a:xfrm>
            <a:off x="142920" y="-7920"/>
            <a:ext cx="871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Calibri"/>
              </a:rPr>
              <a:t>Виды государственной поддержки малого и среднего предпринимательства в Омском муниципальном центре поддержки предпринимательства (в соответствии с 209-ФЗ от 24.07.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98"/>
          <p:cNvSpPr/>
          <p:nvPr/>
        </p:nvSpPr>
        <p:spPr>
          <a:xfrm>
            <a:off x="3634200" y="1052640"/>
            <a:ext cx="224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Информационная</a:t>
            </a: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поддерж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1"/>
          <p:cNvSpPr/>
          <p:nvPr/>
        </p:nvSpPr>
        <p:spPr>
          <a:xfrm>
            <a:off x="5845320" y="1857240"/>
            <a:ext cx="232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сультацион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ддерж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2"/>
          <p:cNvSpPr/>
          <p:nvPr/>
        </p:nvSpPr>
        <p:spPr>
          <a:xfrm>
            <a:off x="7037280" y="2857680"/>
            <a:ext cx="199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ддерж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обла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дгот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д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3"/>
          <p:cNvSpPr/>
          <p:nvPr/>
        </p:nvSpPr>
        <p:spPr>
          <a:xfrm>
            <a:off x="6565680" y="4786200"/>
            <a:ext cx="225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ддерж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месленни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54"/>
          <p:cNvGrpSpPr/>
          <p:nvPr/>
        </p:nvGrpSpPr>
        <p:grpSpPr>
          <a:xfrm>
            <a:off x="4286880" y="1645560"/>
            <a:ext cx="732240" cy="745920"/>
            <a:chOff x="4286880" y="1645560"/>
            <a:chExt cx="732240" cy="745920"/>
          </a:xfrm>
        </p:grpSpPr>
        <p:sp>
          <p:nvSpPr>
            <p:cNvPr id="126" name="Oval 55"/>
            <p:cNvSpPr/>
            <p:nvPr/>
          </p:nvSpPr>
          <p:spPr>
            <a:xfrm rot="21345000">
              <a:off x="4311720" y="1670040"/>
              <a:ext cx="682560" cy="69696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6c6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56"/>
            <p:cNvSpPr/>
            <p:nvPr/>
          </p:nvSpPr>
          <p:spPr>
            <a:xfrm rot="21345000">
              <a:off x="4367520" y="1667520"/>
              <a:ext cx="526680" cy="262800"/>
            </a:xfrm>
            <a:custGeom>
              <a:avLst/>
              <a:gdLst>
                <a:gd name="textAreaLeft" fmla="*/ 0 w 526680"/>
                <a:gd name="textAreaRight" fmla="*/ 527040 w 52668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54"/>
          <p:cNvGrpSpPr/>
          <p:nvPr/>
        </p:nvGrpSpPr>
        <p:grpSpPr>
          <a:xfrm>
            <a:off x="3624840" y="5541480"/>
            <a:ext cx="732240" cy="745560"/>
            <a:chOff x="3624840" y="5541480"/>
            <a:chExt cx="732240" cy="745560"/>
          </a:xfrm>
        </p:grpSpPr>
        <p:sp>
          <p:nvSpPr>
            <p:cNvPr id="129" name="Oval 55"/>
            <p:cNvSpPr/>
            <p:nvPr/>
          </p:nvSpPr>
          <p:spPr>
            <a:xfrm rot="21345000">
              <a:off x="3649680" y="5565960"/>
              <a:ext cx="682560" cy="69660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6c6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56"/>
            <p:cNvSpPr/>
            <p:nvPr/>
          </p:nvSpPr>
          <p:spPr>
            <a:xfrm rot="21345000">
              <a:off x="3705480" y="5563440"/>
              <a:ext cx="526680" cy="262800"/>
            </a:xfrm>
            <a:custGeom>
              <a:avLst/>
              <a:gdLst>
                <a:gd name="textAreaLeft" fmla="*/ 0 w 526680"/>
                <a:gd name="textAreaRight" fmla="*/ 527040 w 52668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Oval 58"/>
          <p:cNvSpPr/>
          <p:nvPr/>
        </p:nvSpPr>
        <p:spPr>
          <a:xfrm rot="17972400">
            <a:off x="4099680" y="5092920"/>
            <a:ext cx="129960" cy="138240"/>
          </a:xfrm>
          <a:prstGeom prst="ellipse">
            <a:avLst/>
          </a:prstGeom>
          <a:gradFill rotWithShape="0">
            <a:gsLst>
              <a:gs pos="0">
                <a:srgbClr val="3e3e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58"/>
          <p:cNvSpPr/>
          <p:nvPr/>
        </p:nvSpPr>
        <p:spPr>
          <a:xfrm rot="17972400">
            <a:off x="4056840" y="5340600"/>
            <a:ext cx="129960" cy="138240"/>
          </a:xfrm>
          <a:prstGeom prst="ellipse">
            <a:avLst/>
          </a:prstGeom>
          <a:gradFill rotWithShape="0">
            <a:gsLst>
              <a:gs pos="0">
                <a:srgbClr val="3e3e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54"/>
          <p:cNvGrpSpPr/>
          <p:nvPr/>
        </p:nvGrpSpPr>
        <p:grpSpPr>
          <a:xfrm>
            <a:off x="2953440" y="2083680"/>
            <a:ext cx="732240" cy="745920"/>
            <a:chOff x="2953440" y="2083680"/>
            <a:chExt cx="732240" cy="745920"/>
          </a:xfrm>
        </p:grpSpPr>
        <p:sp>
          <p:nvSpPr>
            <p:cNvPr id="134" name="Oval 55"/>
            <p:cNvSpPr/>
            <p:nvPr/>
          </p:nvSpPr>
          <p:spPr>
            <a:xfrm rot="21345000">
              <a:off x="2978280" y="2108160"/>
              <a:ext cx="682560" cy="69696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6c6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56"/>
            <p:cNvSpPr/>
            <p:nvPr/>
          </p:nvSpPr>
          <p:spPr>
            <a:xfrm rot="21345000">
              <a:off x="3034080" y="2105640"/>
              <a:ext cx="526680" cy="262800"/>
            </a:xfrm>
            <a:custGeom>
              <a:avLst/>
              <a:gdLst>
                <a:gd name="textAreaLeft" fmla="*/ 0 w 526680"/>
                <a:gd name="textAreaRight" fmla="*/ 527040 w 52668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54"/>
          <p:cNvGrpSpPr/>
          <p:nvPr/>
        </p:nvGrpSpPr>
        <p:grpSpPr>
          <a:xfrm>
            <a:off x="2315160" y="3191760"/>
            <a:ext cx="732240" cy="745920"/>
            <a:chOff x="2315160" y="3191760"/>
            <a:chExt cx="732240" cy="745920"/>
          </a:xfrm>
        </p:grpSpPr>
        <p:sp>
          <p:nvSpPr>
            <p:cNvPr id="137" name="Oval 55"/>
            <p:cNvSpPr/>
            <p:nvPr/>
          </p:nvSpPr>
          <p:spPr>
            <a:xfrm rot="21345000">
              <a:off x="2340000" y="3216240"/>
              <a:ext cx="682560" cy="69696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6c6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56"/>
            <p:cNvSpPr/>
            <p:nvPr/>
          </p:nvSpPr>
          <p:spPr>
            <a:xfrm rot="21345000">
              <a:off x="2395800" y="3213720"/>
              <a:ext cx="526680" cy="262800"/>
            </a:xfrm>
            <a:custGeom>
              <a:avLst/>
              <a:gdLst>
                <a:gd name="textAreaLeft" fmla="*/ 0 w 526680"/>
                <a:gd name="textAreaRight" fmla="*/ 527040 w 52668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54"/>
          <p:cNvGrpSpPr/>
          <p:nvPr/>
        </p:nvGrpSpPr>
        <p:grpSpPr>
          <a:xfrm>
            <a:off x="2459520" y="4631760"/>
            <a:ext cx="732240" cy="745920"/>
            <a:chOff x="2459520" y="4631760"/>
            <a:chExt cx="732240" cy="745920"/>
          </a:xfrm>
        </p:grpSpPr>
        <p:sp>
          <p:nvSpPr>
            <p:cNvPr id="140" name="Oval 55"/>
            <p:cNvSpPr/>
            <p:nvPr/>
          </p:nvSpPr>
          <p:spPr>
            <a:xfrm rot="21345000">
              <a:off x="2484360" y="4656240"/>
              <a:ext cx="682560" cy="69696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6c6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56"/>
            <p:cNvSpPr/>
            <p:nvPr/>
          </p:nvSpPr>
          <p:spPr>
            <a:xfrm rot="21345000">
              <a:off x="2540160" y="4653720"/>
              <a:ext cx="526680" cy="262800"/>
            </a:xfrm>
            <a:custGeom>
              <a:avLst/>
              <a:gdLst>
                <a:gd name="textAreaLeft" fmla="*/ 0 w 526680"/>
                <a:gd name="textAreaRight" fmla="*/ 527040 w 52668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50"/>
          <p:cNvSpPr/>
          <p:nvPr/>
        </p:nvSpPr>
        <p:spPr>
          <a:xfrm>
            <a:off x="155520" y="2181240"/>
            <a:ext cx="1874880" cy="59616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60033"/>
                </a:solidFill>
                <a:latin typeface="Calibri"/>
              </a:rPr>
              <a:t>Территориальные органы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60033"/>
                </a:solidFill>
                <a:latin typeface="Calibri"/>
              </a:rPr>
              <a:t>федеральных органов исполнительной власти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66"/>
          <p:cNvSpPr/>
          <p:nvPr/>
        </p:nvSpPr>
        <p:spPr>
          <a:xfrm>
            <a:off x="3679920" y="1195560"/>
            <a:ext cx="1850760" cy="5476680"/>
          </a:xfrm>
          <a:prstGeom prst="upDownArrow">
            <a:avLst>
              <a:gd name="adj1" fmla="val 72731"/>
              <a:gd name="adj2" fmla="val 11672"/>
            </a:avLst>
          </a:prstGeom>
          <a:solidFill>
            <a:srgbClr val="b5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Двойная стрелка влево/вправо 99"/>
          <p:cNvSpPr/>
          <p:nvPr/>
        </p:nvSpPr>
        <p:spPr>
          <a:xfrm rot="5400000">
            <a:off x="3393360" y="3564720"/>
            <a:ext cx="2428560" cy="2928960"/>
          </a:xfrm>
          <a:prstGeom prst="leftRightArrow">
            <a:avLst>
              <a:gd name="adj1" fmla="val 78213"/>
              <a:gd name="adj2" fmla="val 22306"/>
            </a:avLst>
          </a:prstGeom>
          <a:solidFill>
            <a:srgbClr val="ffcc99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250920" y="1371600"/>
            <a:ext cx="2448000" cy="647640"/>
          </a:xfrm>
          <a:prstGeom prst="flowChartAlternateProcess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Представительной орга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муниципального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образов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3214800" y="2190600"/>
            <a:ext cx="2786040" cy="638280"/>
          </a:xfrm>
          <a:prstGeom prst="flowChartAlternateProcess">
            <a:avLst/>
          </a:prstGeom>
          <a:solidFill>
            <a:srgbClr val="b7b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Структурное подразделение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(должностное  лицо) по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развитию предприниматель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6877080" y="1595520"/>
            <a:ext cx="2232000" cy="519120"/>
          </a:xfrm>
          <a:prstGeom prst="flowChartAlternateProcess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Экономический сове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муниципального образов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1"/>
          <p:cNvSpPr/>
          <p:nvPr/>
        </p:nvSpPr>
        <p:spPr>
          <a:xfrm>
            <a:off x="3780000" y="1725480"/>
            <a:ext cx="1641240" cy="459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6"/>
          <p:cNvSpPr/>
          <p:nvPr/>
        </p:nvSpPr>
        <p:spPr>
          <a:xfrm>
            <a:off x="879840" y="44280"/>
            <a:ext cx="70617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Calibri"/>
              </a:rPr>
              <a:t>Схема взаимо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Calibri"/>
              </a:rPr>
              <a:t>Омского Муниципального центра поддержки предприниматель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7"/>
          <p:cNvSpPr/>
          <p:nvPr/>
        </p:nvSpPr>
        <p:spPr>
          <a:xfrm>
            <a:off x="6818400" y="2416320"/>
            <a:ext cx="2219400" cy="519120"/>
          </a:xfrm>
          <a:prstGeom prst="flowChartAlternateProcess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Совет предпринимателей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муниципального образов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Группа 13" descr=""/>
          <p:cNvPicPr/>
          <p:nvPr/>
        </p:nvPicPr>
        <p:blipFill>
          <a:blip r:embed="rId1"/>
          <a:stretch/>
        </p:blipFill>
        <p:spPr>
          <a:xfrm>
            <a:off x="6632640" y="3144960"/>
            <a:ext cx="2455920" cy="6714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43"/>
          <p:cNvSpPr/>
          <p:nvPr/>
        </p:nvSpPr>
        <p:spPr>
          <a:xfrm>
            <a:off x="0" y="6176880"/>
            <a:ext cx="9144000" cy="219240"/>
          </a:xfrm>
          <a:prstGeom prst="flowChartAlternateProcess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убъекты малого и среднего предприниматель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Блок-схема: ручной ввод 19"/>
          <p:cNvSpPr/>
          <p:nvPr/>
        </p:nvSpPr>
        <p:spPr>
          <a:xfrm flipV="1" rot="5400000">
            <a:off x="857160" y="3886200"/>
            <a:ext cx="1643040" cy="2500200"/>
          </a:xfrm>
          <a:prstGeom prst="flowChartManualInpu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Блок-схема: ручной ввод 20"/>
          <p:cNvSpPr/>
          <p:nvPr/>
        </p:nvSpPr>
        <p:spPr>
          <a:xfrm rot="5400000">
            <a:off x="6679440" y="3922200"/>
            <a:ext cx="1643040" cy="2428560"/>
          </a:xfrm>
          <a:prstGeom prst="flowChartManualInpu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1"/>
          <p:cNvSpPr/>
          <p:nvPr/>
        </p:nvSpPr>
        <p:spPr>
          <a:xfrm rot="17221200">
            <a:off x="-82440" y="4877280"/>
            <a:ext cx="123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2"/>
          <p:cNvSpPr/>
          <p:nvPr/>
        </p:nvSpPr>
        <p:spPr>
          <a:xfrm rot="4332600">
            <a:off x="7821720" y="4971960"/>
            <a:ext cx="169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институ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3"/>
          <p:cNvSpPr/>
          <p:nvPr/>
        </p:nvSpPr>
        <p:spPr>
          <a:xfrm>
            <a:off x="857160" y="4314960"/>
            <a:ext cx="2071800" cy="13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Информационно-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онсультационные пунк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Удаленные рабочие места МЦП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онсультационные пункты Аграрного центр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Фонд микрофинансир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икрофинансовые организаци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онсалтинговые компани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4"/>
          <p:cNvSpPr/>
          <p:nvPr/>
        </p:nvSpPr>
        <p:spPr>
          <a:xfrm>
            <a:off x="6267600" y="4314960"/>
            <a:ext cx="2334960" cy="14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коопера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рантийный фон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логовый фон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зинговые комп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нд  микрофинанс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ты и субсидии из бюдже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Прямая со стрелкой 40"/>
          <p:cNvCxnSpPr/>
          <p:nvPr/>
        </p:nvCxnSpPr>
        <p:spPr>
          <a:xfrm flipH="1">
            <a:off x="712440" y="5957640"/>
            <a:ext cx="2160" cy="216360"/>
          </a:xfrm>
          <a:prstGeom prst="straightConnector1">
            <a:avLst/>
          </a:prstGeom>
          <a:ln w="25560">
            <a:solidFill>
              <a:srgbClr val="9393fc"/>
            </a:solidFill>
            <a:miter/>
            <a:headEnd len="sm" type="arrow" w="sm"/>
            <a:tailEnd len="sm" type="arrow" w="sm"/>
          </a:ln>
        </p:spPr>
      </p:cxnSp>
      <p:cxnSp>
        <p:nvCxnSpPr>
          <p:cNvPr id="160" name="Прямая со стрелкой 41"/>
          <p:cNvCxnSpPr/>
          <p:nvPr/>
        </p:nvCxnSpPr>
        <p:spPr>
          <a:xfrm flipH="1">
            <a:off x="1355400" y="5957640"/>
            <a:ext cx="2160" cy="216360"/>
          </a:xfrm>
          <a:prstGeom prst="straightConnector1">
            <a:avLst/>
          </a:prstGeom>
          <a:ln w="25560">
            <a:solidFill>
              <a:srgbClr val="9393fc"/>
            </a:solidFill>
            <a:miter/>
            <a:headEnd len="sm" type="arrow" w="sm"/>
            <a:tailEnd len="sm" type="arrow" w="sm"/>
          </a:ln>
        </p:spPr>
      </p:cxnSp>
      <p:cxnSp>
        <p:nvCxnSpPr>
          <p:cNvPr id="161" name="Прямая со стрелкой 42"/>
          <p:cNvCxnSpPr/>
          <p:nvPr/>
        </p:nvCxnSpPr>
        <p:spPr>
          <a:xfrm flipH="1">
            <a:off x="2785680" y="5957640"/>
            <a:ext cx="2160" cy="216360"/>
          </a:xfrm>
          <a:prstGeom prst="straightConnector1">
            <a:avLst/>
          </a:prstGeom>
          <a:ln w="25560">
            <a:solidFill>
              <a:srgbClr val="9393fc"/>
            </a:solidFill>
            <a:miter/>
            <a:headEnd len="sm" type="arrow" w="sm"/>
            <a:tailEnd len="sm" type="arrow" w="sm"/>
          </a:ln>
        </p:spPr>
      </p:cxnSp>
      <p:cxnSp>
        <p:nvCxnSpPr>
          <p:cNvPr id="162" name="Прямая со стрелкой 43"/>
          <p:cNvCxnSpPr/>
          <p:nvPr/>
        </p:nvCxnSpPr>
        <p:spPr>
          <a:xfrm flipH="1">
            <a:off x="2069280" y="5957640"/>
            <a:ext cx="2520" cy="216360"/>
          </a:xfrm>
          <a:prstGeom prst="straightConnector1">
            <a:avLst/>
          </a:prstGeom>
          <a:ln w="25560">
            <a:solidFill>
              <a:srgbClr val="9393fc"/>
            </a:solidFill>
            <a:miter/>
            <a:headEnd len="sm" type="arrow" w="sm"/>
            <a:tailEnd len="sm" type="arrow" w="sm"/>
          </a:ln>
        </p:spPr>
      </p:cxnSp>
      <p:cxnSp>
        <p:nvCxnSpPr>
          <p:cNvPr id="163" name="Прямая со стрелкой 44"/>
          <p:cNvCxnSpPr/>
          <p:nvPr/>
        </p:nvCxnSpPr>
        <p:spPr>
          <a:xfrm flipH="1">
            <a:off x="6287760" y="5957640"/>
            <a:ext cx="2160" cy="216360"/>
          </a:xfrm>
          <a:prstGeom prst="straightConnector1">
            <a:avLst/>
          </a:prstGeom>
          <a:ln w="25560">
            <a:solidFill>
              <a:srgbClr val="9393fc"/>
            </a:solidFill>
            <a:miter/>
            <a:headEnd len="sm" type="arrow" w="sm"/>
            <a:tailEnd len="sm" type="arrow" w="sm"/>
          </a:ln>
        </p:spPr>
      </p:cxnSp>
      <p:cxnSp>
        <p:nvCxnSpPr>
          <p:cNvPr id="164" name="Прямая со стрелкой 45"/>
          <p:cNvCxnSpPr/>
          <p:nvPr/>
        </p:nvCxnSpPr>
        <p:spPr>
          <a:xfrm flipH="1">
            <a:off x="6930720" y="5957640"/>
            <a:ext cx="2160" cy="216360"/>
          </a:xfrm>
          <a:prstGeom prst="straightConnector1">
            <a:avLst/>
          </a:prstGeom>
          <a:ln w="25560">
            <a:solidFill>
              <a:srgbClr val="9393fc"/>
            </a:solidFill>
            <a:miter/>
            <a:headEnd len="sm" type="arrow" w="sm"/>
            <a:tailEnd len="sm" type="arrow" w="sm"/>
          </a:ln>
        </p:spPr>
      </p:cxnSp>
      <p:cxnSp>
        <p:nvCxnSpPr>
          <p:cNvPr id="165" name="Прямая со стрелкой 46"/>
          <p:cNvCxnSpPr/>
          <p:nvPr/>
        </p:nvCxnSpPr>
        <p:spPr>
          <a:xfrm flipH="1">
            <a:off x="7571520" y="5957640"/>
            <a:ext cx="2520" cy="216360"/>
          </a:xfrm>
          <a:prstGeom prst="straightConnector1">
            <a:avLst/>
          </a:prstGeom>
          <a:ln w="25560">
            <a:solidFill>
              <a:srgbClr val="9393fc"/>
            </a:solidFill>
            <a:miter/>
            <a:headEnd len="sm" type="arrow" w="sm"/>
            <a:tailEnd len="sm" type="arrow" w="sm"/>
          </a:ln>
        </p:spPr>
      </p:cxnSp>
      <p:cxnSp>
        <p:nvCxnSpPr>
          <p:cNvPr id="166" name="Прямая со стрелкой 47"/>
          <p:cNvCxnSpPr/>
          <p:nvPr/>
        </p:nvCxnSpPr>
        <p:spPr>
          <a:xfrm flipH="1">
            <a:off x="8216640" y="5957640"/>
            <a:ext cx="2160" cy="216360"/>
          </a:xfrm>
          <a:prstGeom prst="straightConnector1">
            <a:avLst/>
          </a:prstGeom>
          <a:ln w="25560">
            <a:solidFill>
              <a:srgbClr val="9393fc"/>
            </a:solidFill>
            <a:miter/>
            <a:headEnd len="sm" type="arrow" w="sm"/>
            <a:tailEnd len="sm" type="arrow" w="sm"/>
          </a:ln>
        </p:spPr>
      </p:cxnSp>
      <p:sp>
        <p:nvSpPr>
          <p:cNvPr id="167" name="TextBox 50"/>
          <p:cNvSpPr/>
          <p:nvPr/>
        </p:nvSpPr>
        <p:spPr>
          <a:xfrm>
            <a:off x="196920" y="2247840"/>
            <a:ext cx="1874880" cy="59616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60033"/>
                </a:solidFill>
                <a:latin typeface="Calibri"/>
              </a:rPr>
              <a:t>Территориальные органы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60033"/>
                </a:solidFill>
                <a:latin typeface="Calibri"/>
              </a:rPr>
              <a:t>федеральных органов исполнительной власти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51"/>
          <p:cNvSpPr/>
          <p:nvPr/>
        </p:nvSpPr>
        <p:spPr>
          <a:xfrm>
            <a:off x="247680" y="2300400"/>
            <a:ext cx="1874880" cy="59616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60033"/>
                </a:solidFill>
                <a:latin typeface="Calibri"/>
              </a:rPr>
              <a:t>Территориальные органы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60033"/>
                </a:solidFill>
                <a:latin typeface="Calibri"/>
              </a:rPr>
              <a:t>федеральных органов исполнительной власти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Овал 74"/>
          <p:cNvSpPr/>
          <p:nvPr/>
        </p:nvSpPr>
        <p:spPr>
          <a:xfrm>
            <a:off x="2786040" y="3019320"/>
            <a:ext cx="3571920" cy="857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униципа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центр поддержки  предпринимательства – «многофункциональное окно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Прямая со стрелкой 101"/>
          <p:cNvCxnSpPr>
            <a:stCxn id="146" idx="3"/>
          </p:cNvCxnSpPr>
          <p:nvPr/>
        </p:nvCxnSpPr>
        <p:spPr>
          <a:xfrm>
            <a:off x="6000480" y="2509560"/>
            <a:ext cx="632520" cy="972360"/>
          </a:xfrm>
          <a:prstGeom prst="straightConnector1">
            <a:avLst/>
          </a:prstGeom>
          <a:ln w="31680">
            <a:solidFill>
              <a:srgbClr val="ff66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1" name="Прямая со стрелкой 103"/>
          <p:cNvCxnSpPr/>
          <p:nvPr/>
        </p:nvCxnSpPr>
        <p:spPr>
          <a:xfrm flipH="1" flipV="1">
            <a:off x="5958720" y="1760040"/>
            <a:ext cx="903960" cy="602640"/>
          </a:xfrm>
          <a:prstGeom prst="straightConnector1">
            <a:avLst/>
          </a:prstGeom>
          <a:ln w="31680">
            <a:solidFill>
              <a:srgbClr val="9393f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2" name="Прямая со стрелкой 105"/>
          <p:cNvCxnSpPr>
            <a:stCxn id="147" idx="1"/>
            <a:endCxn id="173" idx="3"/>
          </p:cNvCxnSpPr>
          <p:nvPr/>
        </p:nvCxnSpPr>
        <p:spPr>
          <a:xfrm flipH="1" flipV="1">
            <a:off x="6000480" y="1685520"/>
            <a:ext cx="876960" cy="170640"/>
          </a:xfrm>
          <a:prstGeom prst="straightConnector1">
            <a:avLst/>
          </a:prstGeom>
          <a:ln w="31680">
            <a:solidFill>
              <a:srgbClr val="9393f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Прямая со стрелкой 107"/>
          <p:cNvCxnSpPr>
            <a:stCxn id="145" idx="3"/>
            <a:endCxn id="173" idx="1"/>
          </p:cNvCxnSpPr>
          <p:nvPr/>
        </p:nvCxnSpPr>
        <p:spPr>
          <a:xfrm flipV="1">
            <a:off x="2698560" y="1685160"/>
            <a:ext cx="516600" cy="10440"/>
          </a:xfrm>
          <a:prstGeom prst="straightConnector1">
            <a:avLst/>
          </a:prstGeom>
          <a:ln w="31680">
            <a:solidFill>
              <a:srgbClr val="9393f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5" name="Прямая со стрелкой 109"/>
          <p:cNvCxnSpPr>
            <a:stCxn id="168" idx="3"/>
          </p:cNvCxnSpPr>
          <p:nvPr/>
        </p:nvCxnSpPr>
        <p:spPr>
          <a:xfrm flipV="1">
            <a:off x="2122560" y="1936080"/>
            <a:ext cx="1054800" cy="835560"/>
          </a:xfrm>
          <a:prstGeom prst="straightConnector1">
            <a:avLst/>
          </a:prstGeom>
          <a:ln w="31680">
            <a:solidFill>
              <a:srgbClr val="ffcc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Прямая со стрелкой 111"/>
          <p:cNvCxnSpPr>
            <a:stCxn id="168" idx="3"/>
            <a:endCxn id="146" idx="1"/>
          </p:cNvCxnSpPr>
          <p:nvPr/>
        </p:nvCxnSpPr>
        <p:spPr>
          <a:xfrm flipV="1">
            <a:off x="2122560" y="2509560"/>
            <a:ext cx="1092960" cy="262080"/>
          </a:xfrm>
          <a:prstGeom prst="straightConnector1">
            <a:avLst/>
          </a:prstGeom>
          <a:ln w="31680">
            <a:solidFill>
              <a:srgbClr val="ffcc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7" name="Прямая со стрелкой 113"/>
          <p:cNvCxnSpPr>
            <a:stCxn id="168" idx="3"/>
            <a:endCxn id="169" idx="2"/>
          </p:cNvCxnSpPr>
          <p:nvPr/>
        </p:nvCxnSpPr>
        <p:spPr>
          <a:xfrm>
            <a:off x="2122200" y="2771280"/>
            <a:ext cx="664200" cy="677160"/>
          </a:xfrm>
          <a:prstGeom prst="straightConnector1">
            <a:avLst/>
          </a:prstGeom>
          <a:ln w="31680">
            <a:solidFill>
              <a:srgbClr val="33996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8" name="Прямая со стрелкой 115"/>
          <p:cNvCxnSpPr>
            <a:stCxn id="169" idx="6"/>
          </p:cNvCxnSpPr>
          <p:nvPr/>
        </p:nvCxnSpPr>
        <p:spPr>
          <a:xfrm>
            <a:off x="6357600" y="3447720"/>
            <a:ext cx="275400" cy="34200"/>
          </a:xfrm>
          <a:prstGeom prst="straightConnector1">
            <a:avLst/>
          </a:prstGeom>
          <a:ln w="31680">
            <a:solidFill>
              <a:srgbClr val="339966"/>
            </a:solidFill>
            <a:miter/>
            <a:headEnd len="med" type="arrow" w="med"/>
            <a:tailEnd len="med" type="arrow" w="med"/>
          </a:ln>
        </p:spPr>
      </p:cxnSp>
      <p:sp>
        <p:nvSpPr>
          <p:cNvPr id="179" name="Двойная стрелка влево/вправо 116"/>
          <p:cNvSpPr/>
          <p:nvPr/>
        </p:nvSpPr>
        <p:spPr>
          <a:xfrm rot="7377000">
            <a:off x="2701800" y="3830400"/>
            <a:ext cx="709560" cy="357120"/>
          </a:xfrm>
          <a:prstGeom prst="leftRightArrow">
            <a:avLst>
              <a:gd name="adj1" fmla="val 50000"/>
              <a:gd name="adj2" fmla="val 50012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Двойная стрелка влево/вправо 117"/>
          <p:cNvSpPr/>
          <p:nvPr/>
        </p:nvSpPr>
        <p:spPr>
          <a:xfrm rot="3231600">
            <a:off x="5757840" y="3833640"/>
            <a:ext cx="728640" cy="357120"/>
          </a:xfrm>
          <a:prstGeom prst="leftRightArrow">
            <a:avLst>
              <a:gd name="adj1" fmla="val 50000"/>
              <a:gd name="adj2" fmla="val 53152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3"/>
          <p:cNvSpPr/>
          <p:nvPr/>
        </p:nvSpPr>
        <p:spPr>
          <a:xfrm>
            <a:off x="3795840" y="2828880"/>
            <a:ext cx="1628640" cy="219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7b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Прямая со стрелкой 120"/>
          <p:cNvCxnSpPr>
            <a:stCxn id="150" idx="2"/>
          </p:cNvCxnSpPr>
          <p:nvPr/>
        </p:nvCxnSpPr>
        <p:spPr>
          <a:xfrm flipH="1">
            <a:off x="7926120" y="2935080"/>
            <a:ext cx="2160" cy="322920"/>
          </a:xfrm>
          <a:prstGeom prst="straightConnector1">
            <a:avLst/>
          </a:prstGeom>
          <a:ln w="31680">
            <a:solidFill>
              <a:srgbClr val="ff66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3" name="Прямая со стрелкой 121"/>
          <p:cNvCxnSpPr/>
          <p:nvPr/>
        </p:nvCxnSpPr>
        <p:spPr>
          <a:xfrm flipH="1">
            <a:off x="3928680" y="5957640"/>
            <a:ext cx="2160" cy="216360"/>
          </a:xfrm>
          <a:prstGeom prst="straightConnector1">
            <a:avLst/>
          </a:prstGeom>
          <a:ln w="25560">
            <a:solidFill>
              <a:srgbClr val="9393fc"/>
            </a:solidFill>
            <a:miter/>
            <a:headEnd len="sm" type="arrow" w="sm"/>
            <a:tailEnd len="sm" type="arrow" w="sm"/>
          </a:ln>
        </p:spPr>
      </p:cxnSp>
      <p:cxnSp>
        <p:nvCxnSpPr>
          <p:cNvPr id="184" name="Прямая со стрелкой 122"/>
          <p:cNvCxnSpPr/>
          <p:nvPr/>
        </p:nvCxnSpPr>
        <p:spPr>
          <a:xfrm flipH="1">
            <a:off x="5571360" y="5957640"/>
            <a:ext cx="2520" cy="216360"/>
          </a:xfrm>
          <a:prstGeom prst="straightConnector1">
            <a:avLst/>
          </a:prstGeom>
          <a:ln w="25560">
            <a:solidFill>
              <a:srgbClr val="9393fc"/>
            </a:solidFill>
            <a:miter/>
            <a:headEnd len="sm" type="arrow" w="sm"/>
            <a:tailEnd len="sm" type="arrow" w="sm"/>
          </a:ln>
        </p:spPr>
      </p:cxnSp>
      <p:sp>
        <p:nvSpPr>
          <p:cNvPr id="185" name="Прямоугольник 125"/>
          <p:cNvSpPr/>
          <p:nvPr/>
        </p:nvSpPr>
        <p:spPr>
          <a:xfrm>
            <a:off x="334800" y="3600360"/>
            <a:ext cx="1500480" cy="506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Центры занятости насел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Прямая со стрелкой 127"/>
          <p:cNvCxnSpPr>
            <a:stCxn id="185" idx="3"/>
            <a:endCxn id="169" idx="2"/>
          </p:cNvCxnSpPr>
          <p:nvPr/>
        </p:nvCxnSpPr>
        <p:spPr>
          <a:xfrm flipV="1">
            <a:off x="1834920" y="3447360"/>
            <a:ext cx="951480" cy="407160"/>
          </a:xfrm>
          <a:prstGeom prst="straightConnector1">
            <a:avLst/>
          </a:prstGeom>
          <a:ln w="31680">
            <a:solidFill>
              <a:srgbClr val="339966"/>
            </a:solidFill>
            <a:miter/>
            <a:headEnd len="med" type="arrow" w="med"/>
            <a:tailEnd len="med" type="arrow" w="med"/>
          </a:ln>
        </p:spPr>
      </p:cxnSp>
      <p:sp>
        <p:nvSpPr>
          <p:cNvPr id="187" name="Двойная стрелка влево/вправо 129"/>
          <p:cNvSpPr/>
          <p:nvPr/>
        </p:nvSpPr>
        <p:spPr>
          <a:xfrm>
            <a:off x="2944800" y="4886280"/>
            <a:ext cx="519120" cy="428760"/>
          </a:xfrm>
          <a:prstGeom prst="leftRightArrow">
            <a:avLst>
              <a:gd name="adj1" fmla="val 50000"/>
              <a:gd name="adj2" fmla="val 3245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Двойная стрелка влево/вправо 130"/>
          <p:cNvSpPr/>
          <p:nvPr/>
        </p:nvSpPr>
        <p:spPr>
          <a:xfrm>
            <a:off x="5776920" y="4867200"/>
            <a:ext cx="500040" cy="428760"/>
          </a:xfrm>
          <a:prstGeom prst="leftRightArrow">
            <a:avLst>
              <a:gd name="adj1" fmla="val 50000"/>
              <a:gd name="adj2" fmla="val 3245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Прямая со стрелкой 134"/>
          <p:cNvCxnSpPr>
            <a:stCxn id="146" idx="3"/>
            <a:endCxn id="150" idx="1"/>
          </p:cNvCxnSpPr>
          <p:nvPr/>
        </p:nvCxnSpPr>
        <p:spPr>
          <a:xfrm>
            <a:off x="6000480" y="2509560"/>
            <a:ext cx="818280" cy="167040"/>
          </a:xfrm>
          <a:prstGeom prst="straightConnector1">
            <a:avLst/>
          </a:prstGeom>
          <a:ln w="31680">
            <a:solidFill>
              <a:srgbClr val="ff66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0" name="Прямая со стрелкой 120"/>
          <p:cNvCxnSpPr/>
          <p:nvPr/>
        </p:nvCxnSpPr>
        <p:spPr>
          <a:xfrm flipH="1">
            <a:off x="7935120" y="2099880"/>
            <a:ext cx="2520" cy="322920"/>
          </a:xfrm>
          <a:prstGeom prst="straightConnector1">
            <a:avLst/>
          </a:prstGeom>
          <a:ln w="31680">
            <a:solidFill>
              <a:srgbClr val="ff6600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AutoShape 4"/>
          <p:cNvSpPr/>
          <p:nvPr/>
        </p:nvSpPr>
        <p:spPr>
          <a:xfrm>
            <a:off x="3214800" y="1433520"/>
            <a:ext cx="2786040" cy="503280"/>
          </a:xfrm>
          <a:prstGeom prst="flowChartAlternateProcess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Орган местного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самоуправления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муниципального образов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Овал 32"/>
          <p:cNvSpPr/>
          <p:nvPr/>
        </p:nvSpPr>
        <p:spPr>
          <a:xfrm>
            <a:off x="2916360" y="814320"/>
            <a:ext cx="3311280" cy="40788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Региональный центр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оддержки предпринимательств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Group 74" descr=""/>
          <p:cNvPicPr/>
          <p:nvPr/>
        </p:nvPicPr>
        <p:blipFill>
          <a:blip r:embed="rId2"/>
          <a:stretch/>
        </p:blipFill>
        <p:spPr>
          <a:xfrm>
            <a:off x="3524400" y="4091040"/>
            <a:ext cx="2236680" cy="1888920"/>
          </a:xfrm>
          <a:prstGeom prst="rect">
            <a:avLst/>
          </a:prstGeom>
          <a:ln w="0">
            <a:noFill/>
          </a:ln>
        </p:spPr>
      </p:pic>
      <p:grpSp>
        <p:nvGrpSpPr>
          <p:cNvPr id="193" name="Group 77"/>
          <p:cNvGrpSpPr/>
          <p:nvPr/>
        </p:nvGrpSpPr>
        <p:grpSpPr>
          <a:xfrm>
            <a:off x="6765840" y="712800"/>
            <a:ext cx="2244960" cy="864720"/>
            <a:chOff x="6765840" y="712800"/>
            <a:chExt cx="2244960" cy="864720"/>
          </a:xfrm>
        </p:grpSpPr>
        <p:sp>
          <p:nvSpPr>
            <p:cNvPr id="194" name="Овал 74"/>
            <p:cNvSpPr/>
            <p:nvPr/>
          </p:nvSpPr>
          <p:spPr>
            <a:xfrm>
              <a:off x="6765840" y="712800"/>
              <a:ext cx="2244960" cy="69876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76"/>
            <p:cNvSpPr/>
            <p:nvPr/>
          </p:nvSpPr>
          <p:spPr>
            <a:xfrm>
              <a:off x="7125480" y="722160"/>
              <a:ext cx="147312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Центры поддержк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предпринимательства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других муниципальны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бразовани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6" name="Прямая со стрелкой 88"/>
          <p:cNvCxnSpPr/>
          <p:nvPr/>
        </p:nvCxnSpPr>
        <p:spPr>
          <a:xfrm flipV="1">
            <a:off x="6012000" y="1172880"/>
            <a:ext cx="923040" cy="2010240"/>
          </a:xfrm>
          <a:prstGeom prst="straightConnector1">
            <a:avLst/>
          </a:prstGeom>
          <a:ln w="31680">
            <a:solidFill>
              <a:srgbClr val="33996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88"/>
          <p:cNvCxnSpPr/>
          <p:nvPr/>
        </p:nvCxnSpPr>
        <p:spPr>
          <a:xfrm>
            <a:off x="6217920" y="1031400"/>
            <a:ext cx="579960" cy="51480"/>
          </a:xfrm>
          <a:prstGeom prst="straightConnector1">
            <a:avLst/>
          </a:prstGeom>
          <a:ln w="31680">
            <a:solidFill>
              <a:srgbClr val="339966"/>
            </a:solidFill>
            <a:miter/>
            <a:headEnd len="med" type="arrow" w="med"/>
            <a:tailEnd len="med" type="arrow" w="med"/>
          </a:ln>
        </p:spPr>
      </p:cxnSp>
    </p:spTree>
  </p:cSld>
  <p:transition spd="med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57320" y="171360"/>
            <a:ext cx="8829360" cy="6515280"/>
          </a:xfrm>
          <a:prstGeom prst="rect">
            <a:avLst/>
          </a:prstGeom>
          <a:ln w="0">
            <a:noFill/>
          </a:ln>
        </p:spPr>
      </p:pic>
      <p:grpSp>
        <p:nvGrpSpPr>
          <p:cNvPr id="199" name="32-конечная звезда 16"/>
          <p:cNvGrpSpPr/>
          <p:nvPr/>
        </p:nvGrpSpPr>
        <p:grpSpPr>
          <a:xfrm>
            <a:off x="3260880" y="828720"/>
            <a:ext cx="2908080" cy="3133800"/>
            <a:chOff x="3260880" y="828720"/>
            <a:chExt cx="2908080" cy="3133800"/>
          </a:xfrm>
        </p:grpSpPr>
        <p:pic>
          <p:nvPicPr>
            <p:cNvPr id="200" name="32-конечная звезда 16" descr=""/>
            <p:cNvPicPr/>
            <p:nvPr/>
          </p:nvPicPr>
          <p:blipFill>
            <a:blip r:embed="rId2"/>
            <a:stretch/>
          </p:blipFill>
          <p:spPr>
            <a:xfrm>
              <a:off x="3260880" y="828720"/>
              <a:ext cx="2908080" cy="31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3957480" y="1577880"/>
              <a:ext cx="151452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Picture 6" descr=""/>
          <p:cNvPicPr/>
          <p:nvPr/>
        </p:nvPicPr>
        <p:blipFill>
          <a:blip r:embed="rId3"/>
          <a:stretch/>
        </p:blipFill>
        <p:spPr>
          <a:xfrm>
            <a:off x="4143240" y="1571760"/>
            <a:ext cx="925560" cy="158580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15"/>
          <p:cNvSpPr/>
          <p:nvPr/>
        </p:nvSpPr>
        <p:spPr>
          <a:xfrm>
            <a:off x="0" y="857160"/>
            <a:ext cx="3214800" cy="7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9" descr="SFO2009-2"/>
          <p:cNvPicPr/>
          <p:nvPr/>
        </p:nvPicPr>
        <p:blipFill>
          <a:blip r:embed="rId4"/>
          <a:stretch/>
        </p:blipFill>
        <p:spPr>
          <a:xfrm>
            <a:off x="177840" y="1500120"/>
            <a:ext cx="2952720" cy="13366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7"/>
          <p:cNvSpPr/>
          <p:nvPr/>
        </p:nvSpPr>
        <p:spPr>
          <a:xfrm>
            <a:off x="214200" y="214200"/>
            <a:ext cx="8715600" cy="428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Информационно-консультационная система поддержки малого и среднего предпринимательств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в Омском муниципальном Центре поддержки предпринимательств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3"/>
          <p:cNvSpPr/>
          <p:nvPr/>
        </p:nvSpPr>
        <p:spPr>
          <a:xfrm rot="20775600">
            <a:off x="3081240" y="2427120"/>
            <a:ext cx="1295640" cy="84168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210240 h 841680"/>
              <a:gd name="textAreaBottom" fmla="*/ 631440 h 841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4"/>
          <p:cNvSpPr/>
          <p:nvPr/>
        </p:nvSpPr>
        <p:spPr>
          <a:xfrm rot="10800000">
            <a:off x="5143320" y="1999800"/>
            <a:ext cx="1136520" cy="785880"/>
          </a:xfrm>
          <a:custGeom>
            <a:avLst/>
            <a:gdLst>
              <a:gd name="textAreaLeft" fmla="*/ 177480 w 1136520"/>
              <a:gd name="textAreaRight" fmla="*/ 994680 w 1136520"/>
              <a:gd name="textAreaTop" fmla="*/ 196560 h 785880"/>
              <a:gd name="textAreaBottom" fmla="*/ 589680 h 785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5"/>
          <p:cNvSpPr/>
          <p:nvPr/>
        </p:nvSpPr>
        <p:spPr>
          <a:xfrm rot="13379400">
            <a:off x="4809960" y="3207600"/>
            <a:ext cx="1603440" cy="625320"/>
          </a:xfrm>
          <a:custGeom>
            <a:avLst/>
            <a:gdLst>
              <a:gd name="textAreaLeft" fmla="*/ 250560 w 1603440"/>
              <a:gd name="textAreaRight" fmla="*/ 1403280 w 1603440"/>
              <a:gd name="textAreaTop" fmla="*/ 156240 h 625320"/>
              <a:gd name="textAreaBottom" fmla="*/ 469080 h 625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d2d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3"/>
          <p:cNvSpPr/>
          <p:nvPr/>
        </p:nvSpPr>
        <p:spPr>
          <a:xfrm>
            <a:off x="6264360" y="3571920"/>
            <a:ext cx="247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оектн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нформационны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4"/>
          <p:cNvSpPr/>
          <p:nvPr/>
        </p:nvSpPr>
        <p:spPr>
          <a:xfrm>
            <a:off x="6487200" y="5616720"/>
            <a:ext cx="2493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едоставление информации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    из банков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рганизация стажиров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бразовательные меро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Экспертиза качества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9"/>
          <p:cNvSpPr/>
          <p:nvPr/>
        </p:nvSpPr>
        <p:spPr>
          <a:xfrm>
            <a:off x="108000" y="4932360"/>
            <a:ext cx="247968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ередовой мировой опыт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    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3" descr=""/>
          <p:cNvPicPr/>
          <p:nvPr/>
        </p:nvPicPr>
        <p:blipFill>
          <a:blip r:embed="rId1"/>
          <a:stretch/>
        </p:blipFill>
        <p:spPr>
          <a:xfrm>
            <a:off x="71280" y="287280"/>
            <a:ext cx="9001440" cy="6262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3366ff"/>
                </a:solidFill>
                <a:latin typeface="Arial"/>
                <a:ea typeface="Arial"/>
              </a:rPr>
              <a:t>Открытие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униципального учреждения </a:t>
            </a:r>
            <a:br>
              <a:rPr sz="3200"/>
            </a:br>
            <a:r>
              <a:rPr b="0" lang="ru-RU" sz="3200" spc="-1" strike="noStrike">
                <a:solidFill>
                  <a:srgbClr val="3366ff"/>
                </a:solidFill>
                <a:latin typeface="Arial"/>
                <a:ea typeface="Arial"/>
              </a:rPr>
              <a:t>«</a:t>
            </a:r>
            <a:r>
              <a:rPr b="1" lang="ru-RU" sz="3200" spc="-1" strike="noStrike">
                <a:solidFill>
                  <a:srgbClr val="3366ff"/>
                </a:solidFill>
                <a:latin typeface="Arial"/>
                <a:ea typeface="Arial"/>
              </a:rPr>
              <a:t>Омский городской центр поддержки предпринимательства</a:t>
            </a:r>
            <a:r>
              <a:rPr b="0" lang="ru-RU" sz="3200" spc="-1" strike="noStrike">
                <a:solidFill>
                  <a:srgbClr val="3366ff"/>
                </a:solidFill>
                <a:latin typeface="Arial"/>
                <a:ea typeface="Arial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оржественная церемония состоится </a:t>
            </a:r>
            <a:br>
              <a:rPr sz="3200"/>
            </a:br>
            <a:r>
              <a:rPr b="1" lang="ru-RU" sz="3200" spc="-1" strike="noStrike">
                <a:solidFill>
                  <a:srgbClr val="3366ff"/>
                </a:solidFill>
                <a:latin typeface="Arial"/>
                <a:ea typeface="Arial"/>
              </a:rPr>
              <a:t>28 мая в 10</a:t>
            </a:r>
            <a:r>
              <a:rPr b="1" lang="ru-RU" sz="3200" spc="-1" strike="noStrike" u="sng" baseline="30000">
                <a:solidFill>
                  <a:srgbClr val="3366ff"/>
                </a:solidFill>
                <a:uFillTx/>
                <a:latin typeface="Arial"/>
                <a:ea typeface="Arial"/>
              </a:rPr>
              <a:t>00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часов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 адресу </a:t>
            </a:r>
            <a:r>
              <a:rPr b="1" lang="ru-RU" sz="3200" spc="-1" strike="noStrike">
                <a:solidFill>
                  <a:srgbClr val="3366ff"/>
                </a:solidFill>
                <a:latin typeface="Arial"/>
                <a:ea typeface="Arial"/>
              </a:rPr>
              <a:t>ул. Степная, 7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0040" y="-7128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ff"/>
                </a:solidFill>
                <a:latin typeface="Arial"/>
                <a:ea typeface="Arial"/>
              </a:rPr>
              <a:t>Структура организац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07640" y="714240"/>
            <a:ext cx="871524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1120" indent="-321120">
              <a:lnSpc>
                <a:spcPct val="110000"/>
              </a:lnSpc>
              <a:spcBef>
                <a:spcPts val="550"/>
              </a:spcBef>
              <a:spcAft>
                <a:spcPts val="1100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Отдел поддержки субъектов малого и среднего предпринимательства 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казание информационных и консультационных услуг малому и среднему бизнесу по вопросам права, налогообложения, бухгалтерского учета, кредитования, бизнес-планирования, предоставления имущественной и финансовой поддержки, доступа к информационным базам данны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110000"/>
              </a:lnSpc>
              <a:spcBef>
                <a:spcPts val="550"/>
              </a:spcBef>
              <a:spcAft>
                <a:spcPts val="1100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Организационно-аналитический отдел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казание бизнесу помощь в обучении, переобучении и повышении квалификации работников; организация участия в выставках, ярмарках, презентациях, форумах в Омске, других регионах России и за рубежом; проведении семинаров, конференций, тренингов и других образовательных мероприятий, в том числе семинаров для начинающих предпринимателе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110000"/>
              </a:lnSpc>
              <a:spcBef>
                <a:spcPts val="550"/>
              </a:spcBef>
              <a:spcAft>
                <a:spcPts val="11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06280" y="188640"/>
            <a:ext cx="86868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3366ff"/>
                </a:solidFill>
                <a:latin typeface="Arial"/>
                <a:ea typeface="Arial"/>
              </a:rPr>
              <a:t>Взаимодействие Центра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79280" y="1168200"/>
            <a:ext cx="84297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3366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бщественные организации предпринимателей Ом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3366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оммерческие и общественные организации, реализующие проекты в сфере развития малого и среднего бизне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3366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рганы власти города и обл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3366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ерриториальные подразделения федеральных органов вл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4560" y="3409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3366ff"/>
                </a:solidFill>
                <a:latin typeface="Arial"/>
                <a:ea typeface="Arial"/>
              </a:rPr>
              <a:t>Режим работы учреждения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14200" y="1814400"/>
            <a:ext cx="878688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 понедельника по четверг – с 8:30 до 17:45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 пятницу – с 8:30 до 16:30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елефоны: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72-97-2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72-97-2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24-19-03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Адрес в Интернете: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www.omskcpp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315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000" spc="-1" strike="noStrike">
                <a:solidFill>
                  <a:srgbClr val="3366ff"/>
                </a:solidFill>
                <a:latin typeface="Arial"/>
              </a:rPr>
              <a:t>Благодарю за внимание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7500960" y="1758960"/>
            <a:ext cx="1357200" cy="4549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Arial"/>
                <a:ea typeface="Arial"/>
              </a:rPr>
              <a:t>Субъекты малого предприниматель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8920" y="1709640"/>
            <a:ext cx="720108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малые предприятия и индивидуальные предприниматели (предприниматели, действующие без образования юридического лица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560" y="43920"/>
            <a:ext cx="9180360" cy="16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ff"/>
                </a:solidFill>
                <a:latin typeface="Arial"/>
                <a:ea typeface="Arial"/>
              </a:rPr>
              <a:t>Основные полномочия гражданина, осуществляющего свою деятельность без образования юридического л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5840" y="1928520"/>
            <a:ext cx="8400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озможность от своего имени заключать гражданско-правовые сделки, в том числе хозяйственные догово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амостоятельность в уплате налог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озможность использовать труд наемных работ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озможность защищать свои права в су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ff"/>
                </a:solidFill>
                <a:latin typeface="Arial"/>
                <a:ea typeface="Arial"/>
              </a:rPr>
              <a:t>Индивидуальный предпринимате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79280" y="1380960"/>
            <a:ext cx="761544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раждане (физические лица) Российской Федерации, не ограниченные в установленном федеральным законом порядке в своей дееспособ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раждане (физические лица) иностранных государств и лица без гражданства в пределах полномочий, установленных Федеральным закон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7715160" y="4714920"/>
            <a:ext cx="925560" cy="1585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709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66ff"/>
                </a:solidFill>
                <a:latin typeface="Arial"/>
                <a:ea typeface="Arial"/>
              </a:rPr>
              <a:t>Преимущества</a:t>
            </a:r>
            <a:r>
              <a:rPr b="1" lang="ru-RU" sz="30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1" i="1" lang="ru-RU" sz="3000" spc="-1" strike="noStrike">
                <a:solidFill>
                  <a:srgbClr val="3366ff"/>
                </a:solidFill>
                <a:latin typeface="Arial"/>
                <a:ea typeface="Arial"/>
              </a:rPr>
              <a:t>предпринимательской деятельности без образования юридического лиц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920" y="1384200"/>
            <a:ext cx="90360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575"/>
              </a:spcBef>
              <a:spcAft>
                <a:spcPts val="1001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Процедура регистрации в качестве индивидуального предпринимателя несложна и не занимает много времени и средств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spcAft>
                <a:spcPts val="1001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Индивидуальный предприниматель применяет упрощенный (по сравнению с предприятиями) порядок ведения учета и отчетности, который не требует специального бухгалтерского образования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spcAft>
                <a:spcPts val="1001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В сфере потребительского рынка и услуг с правовой точки зрения индивидуальный предприниматель выступает на равных с юридическими лицами (п. 3 ст. 23 ГК РФ). Индивидуальный предприниматель имеет право, в частности, иметь свой расчетный счет в банке, личную печать, заключать сделки и подписывать договоры, получать банковский кредит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2920" y="709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66ff"/>
                </a:solidFill>
                <a:latin typeface="Arial"/>
                <a:ea typeface="Arial"/>
              </a:rPr>
              <a:t>Преимущества предпринимательской деятельности без образования юридического лиц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42920" y="1428480"/>
            <a:ext cx="87868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1049"/>
              </a:spcAft>
              <a:buClr>
                <a:srgbClr val="00206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авки налогообложения для индивидуального предпринимателя значительно ниже, чем у юридических ли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1049"/>
              </a:spcAft>
              <a:buClr>
                <a:srgbClr val="00206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ндивидуальный предприниматель уплачивает минимальное (по сравнению с предприятиями) количество налог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1049"/>
              </a:spcAft>
              <a:buClr>
                <a:srgbClr val="00206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дприниматель как физическое лицо имеет ряд налоговых льгот, предусмотренных Налоговым кодексом Р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1049"/>
              </a:spcAft>
              <a:buClr>
                <a:srgbClr val="00206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зыскание имущества и денежных средств предпринимателя производится только в судебном поряд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1049"/>
              </a:spcAft>
              <a:buClr>
                <a:srgbClr val="00206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080" y="259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ff"/>
                </a:solidFill>
                <a:latin typeface="Arial"/>
                <a:ea typeface="Arial"/>
              </a:rPr>
              <a:t>Использование предпринимателем наемного тру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920" y="1900080"/>
            <a:ext cx="8229600" cy="34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lnSpc>
                <a:spcPct val="100000"/>
              </a:lnSpc>
              <a:spcBef>
                <a:spcPts val="1800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Особенности трудового договор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lnSpc>
                <a:spcPct val="100000"/>
              </a:lnSpc>
              <a:spcBef>
                <a:spcPts val="1800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Договор о полной материальной ответственност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lnSpc>
                <a:spcPct val="100000"/>
              </a:lnSpc>
              <a:spcBef>
                <a:spcPts val="1800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Договоры гражданско-правового характер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lnSpc>
                <a:spcPct val="100000"/>
              </a:lnSpc>
              <a:spcBef>
                <a:spcPts val="1800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6929280" y="4452840"/>
            <a:ext cx="1810080" cy="2000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ff"/>
                </a:solidFill>
                <a:latin typeface="Arial"/>
                <a:ea typeface="Arial"/>
              </a:rPr>
              <a:t>Денежные расчеты предпринимателя с население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79280" y="148428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lnSpc>
                <a:spcPct val="100000"/>
              </a:lnSpc>
              <a:spcBef>
                <a:spcPts val="850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  <a:ea typeface="Arial"/>
              </a:rPr>
              <a:t>Денежные расчеты с населением без применения ККМ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462960" indent="-462960">
              <a:lnSpc>
                <a:spcPct val="100000"/>
              </a:lnSpc>
              <a:spcBef>
                <a:spcPts val="850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  <a:ea typeface="Arial"/>
              </a:rPr>
              <a:t>Денежные расчеты с населением с применением ККМ: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  <a:ea typeface="Arial"/>
              </a:rPr>
              <a:t>выбор ККМ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  <a:ea typeface="Arial"/>
              </a:rPr>
              <a:t>заключение договора на техническое обслуживание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  <a:ea typeface="Arial"/>
              </a:rPr>
              <a:t>регистрация ККМ в налоговых органах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462960" indent="-46296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8:12:42Z</dcterms:created>
  <dc:creator>ok</dc:creator>
  <dc:description/>
  <dc:language>en-US</dc:language>
  <cp:lastModifiedBy>ОПСА</cp:lastModifiedBy>
  <dcterms:modified xsi:type="dcterms:W3CDTF">2012-07-25T08:11:42Z</dcterms:modified>
  <cp:revision>52</cp:revision>
  <dc:subject/>
  <dc:title>Слайд 1</dc:title>
</cp:coreProperties>
</file>