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208-8860-4682-812A-3E47830E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830-2EB5-43AC-AC8E-C9F6E7E1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8D3-27DF-42BE-8286-943D2EE5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089-90B0-4E3E-8553-1231FB42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CC0-BEA9-431C-9F77-A6D99E1F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576-14AB-4803-9D1E-82EEE6F4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333-D58A-467A-9998-0887626F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D8A-7C12-42BF-848D-3A1344F4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173-7797-40B9-B45E-869B2618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D85-15CD-4784-A0F2-55CEA909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B83-C724-4163-82D2-98E880E3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18F-A585-48BF-86D4-CE84D2F8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294A-43C1-4E3F-9204-2CF08DBCA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168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90512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5800"/>
                </a:solidFill>
                <a:latin typeface="Verdana"/>
              </a:rPr>
              <a:t>Ролевая игра «Публичное выступление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7:39:0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