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6C84-85E9-43F8-9893-C5FC18137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9ACB-6984-4857-9AAE-7FC77B94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EE8A-7E12-451E-A577-B0EFAEC0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04D0-EF08-46ED-ABD3-EAD7AE6F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59DC-2A12-486D-A578-F878A4AD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A73B-815C-42CC-94EC-850C00AE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0EFA-DF11-48AF-8D6E-64B5923D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913B-E1AF-499D-929D-4A3F8183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EBC9-98FD-4C79-AD69-98D1C44F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BA95-1024-40E9-87DF-90CAAA9D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B977-CAE1-4859-AAD1-4FB06EB7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4C76-F61F-49FA-B070-12CB603D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4238-FD15-4FC0-914B-CEE8EEE058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1"/>
          <p:cNvSpPr/>
          <p:nvPr/>
        </p:nvSpPr>
        <p:spPr>
          <a:xfrm>
            <a:off x="378720" y="674640"/>
            <a:ext cx="84560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Есть древняя профессия на свет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И она прошла через 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Знает каждый житель на планете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Это медицинская сест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Под белыми халатами незрим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Бьётся сердце жарко, как костё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В борьбе за жизнь стоит неутомим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Армия российских медсестё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46"/>
          <p:cNvGrpSpPr/>
          <p:nvPr/>
        </p:nvGrpSpPr>
        <p:grpSpPr>
          <a:xfrm>
            <a:off x="-31680" y="0"/>
            <a:ext cx="9175680" cy="466200"/>
            <a:chOff x="-31680" y="0"/>
            <a:chExt cx="9175680" cy="466200"/>
          </a:xfrm>
        </p:grpSpPr>
        <p:pic>
          <p:nvPicPr>
            <p:cNvPr id="43" name="Picture 2" descr=""/>
            <p:cNvPicPr/>
            <p:nvPr/>
          </p:nvPicPr>
          <p:blipFill>
            <a:blip r:embed="rId1"/>
            <a:stretch/>
          </p:blipFill>
          <p:spPr>
            <a:xfrm>
              <a:off x="-1080" y="0"/>
              <a:ext cx="914508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Заголовок 1"/>
            <p:cNvSpPr/>
            <p:nvPr/>
          </p:nvSpPr>
          <p:spPr>
            <a:xfrm>
              <a:off x="227160" y="76320"/>
              <a:ext cx="86785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Verdana"/>
                </a:rPr>
                <a:t>Гимн Омской профессиональной сестринской ассоциа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Прямоугольник 4"/>
            <p:cNvGrpSpPr/>
            <p:nvPr/>
          </p:nvGrpSpPr>
          <p:grpSpPr>
            <a:xfrm>
              <a:off x="-31680" y="365040"/>
              <a:ext cx="9175320" cy="101160"/>
              <a:chOff x="-31680" y="365040"/>
              <a:chExt cx="9175320" cy="101160"/>
            </a:xfrm>
          </p:grpSpPr>
          <p:pic>
            <p:nvPicPr>
              <p:cNvPr id="46" name="Прямоугольник 4" descr=""/>
              <p:cNvPicPr/>
              <p:nvPr/>
            </p:nvPicPr>
            <p:blipFill>
              <a:blip r:embed="rId2"/>
              <a:stretch/>
            </p:blipFill>
            <p:spPr>
              <a:xfrm>
                <a:off x="-31680" y="365040"/>
                <a:ext cx="9175320" cy="10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-13680" y="383040"/>
                <a:ext cx="91450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0" y="1090800"/>
            <a:ext cx="9144000" cy="40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Медицинские сёстры,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медицинские сёстры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Иного не ищут пути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И вместе с врачами по первому зову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На помощь готовы прийти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24"/>
          <p:cNvGrpSpPr/>
          <p:nvPr/>
        </p:nvGrpSpPr>
        <p:grpSpPr>
          <a:xfrm>
            <a:off x="-31680" y="0"/>
            <a:ext cx="9175680" cy="466200"/>
            <a:chOff x="-31680" y="0"/>
            <a:chExt cx="9175680" cy="46620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-1080" y="0"/>
              <a:ext cx="914508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Заголовок 1"/>
            <p:cNvSpPr/>
            <p:nvPr/>
          </p:nvSpPr>
          <p:spPr>
            <a:xfrm>
              <a:off x="227160" y="76320"/>
              <a:ext cx="86785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Verdana"/>
                </a:rPr>
                <a:t>Гимн Омской профессиональной сестринской ассоциа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Прямоугольник 4"/>
            <p:cNvGrpSpPr/>
            <p:nvPr/>
          </p:nvGrpSpPr>
          <p:grpSpPr>
            <a:xfrm>
              <a:off x="-31680" y="365040"/>
              <a:ext cx="9175320" cy="101160"/>
              <a:chOff x="-31680" y="365040"/>
              <a:chExt cx="9175320" cy="101160"/>
            </a:xfrm>
          </p:grpSpPr>
          <p:pic>
            <p:nvPicPr>
              <p:cNvPr id="53" name="Прямоугольник 4" descr=""/>
              <p:cNvPicPr/>
              <p:nvPr/>
            </p:nvPicPr>
            <p:blipFill>
              <a:blip r:embed="rId2"/>
              <a:stretch/>
            </p:blipFill>
            <p:spPr>
              <a:xfrm>
                <a:off x="-31680" y="365040"/>
                <a:ext cx="9175320" cy="10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-13680" y="383040"/>
                <a:ext cx="91450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56600" y="606240"/>
            <a:ext cx="8958960" cy="58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Они пришли работать по призванью,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Забыв подчас про собственный недуг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В любое время суток, днём и ночью,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С собою ласку и покой несут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А если завтра позовет Отчизна,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Невзгоды мы поделим вместе с ней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И преданных защитников России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Готовы грудью заслонить своей.</a:t>
            </a: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22"/>
          <p:cNvGrpSpPr/>
          <p:nvPr/>
        </p:nvGrpSpPr>
        <p:grpSpPr>
          <a:xfrm>
            <a:off x="-31680" y="0"/>
            <a:ext cx="9175680" cy="466200"/>
            <a:chOff x="-31680" y="0"/>
            <a:chExt cx="9175680" cy="466200"/>
          </a:xfrm>
        </p:grpSpPr>
        <p:pic>
          <p:nvPicPr>
            <p:cNvPr id="57" name="Picture 2" descr=""/>
            <p:cNvPicPr/>
            <p:nvPr/>
          </p:nvPicPr>
          <p:blipFill>
            <a:blip r:embed="rId1"/>
            <a:stretch/>
          </p:blipFill>
          <p:spPr>
            <a:xfrm>
              <a:off x="-1080" y="0"/>
              <a:ext cx="914508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Заголовок 1"/>
            <p:cNvSpPr/>
            <p:nvPr/>
          </p:nvSpPr>
          <p:spPr>
            <a:xfrm>
              <a:off x="227160" y="76320"/>
              <a:ext cx="86785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Verdana"/>
                </a:rPr>
                <a:t>Гимн Омской профессиональной сестринской ассоциа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Прямоугольник 4"/>
            <p:cNvGrpSpPr/>
            <p:nvPr/>
          </p:nvGrpSpPr>
          <p:grpSpPr>
            <a:xfrm>
              <a:off x="-31680" y="365040"/>
              <a:ext cx="9175320" cy="101160"/>
              <a:chOff x="-31680" y="365040"/>
              <a:chExt cx="9175320" cy="101160"/>
            </a:xfrm>
          </p:grpSpPr>
          <p:pic>
            <p:nvPicPr>
              <p:cNvPr id="60" name="Прямоугольник 4" descr=""/>
              <p:cNvPicPr/>
              <p:nvPr/>
            </p:nvPicPr>
            <p:blipFill>
              <a:blip r:embed="rId2"/>
              <a:stretch/>
            </p:blipFill>
            <p:spPr>
              <a:xfrm>
                <a:off x="-31680" y="365040"/>
                <a:ext cx="9175320" cy="10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-13680" y="383040"/>
                <a:ext cx="91450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8"/>
          <p:cNvSpPr/>
          <p:nvPr/>
        </p:nvSpPr>
        <p:spPr>
          <a:xfrm>
            <a:off x="0" y="1091160"/>
            <a:ext cx="9144000" cy="40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Медицинские сёстры,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медицинские сёстры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Иного не ищут пути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И вместе с врачами по первому зову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На помощь готовы прийти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25"/>
          <p:cNvGrpSpPr/>
          <p:nvPr/>
        </p:nvGrpSpPr>
        <p:grpSpPr>
          <a:xfrm>
            <a:off x="-31680" y="0"/>
            <a:ext cx="9175680" cy="466200"/>
            <a:chOff x="-31680" y="0"/>
            <a:chExt cx="9175680" cy="46620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-1080" y="0"/>
              <a:ext cx="914508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Заголовок 1"/>
            <p:cNvSpPr/>
            <p:nvPr/>
          </p:nvSpPr>
          <p:spPr>
            <a:xfrm>
              <a:off x="227160" y="76320"/>
              <a:ext cx="86785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Verdana"/>
                </a:rPr>
                <a:t>Гимн Омской профессиональной сестринской ассоциа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Прямоугольник 4"/>
            <p:cNvGrpSpPr/>
            <p:nvPr/>
          </p:nvGrpSpPr>
          <p:grpSpPr>
            <a:xfrm>
              <a:off x="-31680" y="365040"/>
              <a:ext cx="9175320" cy="101160"/>
              <a:chOff x="-31680" y="365040"/>
              <a:chExt cx="9175320" cy="101160"/>
            </a:xfrm>
          </p:grpSpPr>
          <p:pic>
            <p:nvPicPr>
              <p:cNvPr id="67" name="Прямоугольник 4" descr=""/>
              <p:cNvPicPr/>
              <p:nvPr/>
            </p:nvPicPr>
            <p:blipFill>
              <a:blip r:embed="rId2"/>
              <a:stretch/>
            </p:blipFill>
            <p:spPr>
              <a:xfrm>
                <a:off x="-31680" y="365040"/>
                <a:ext cx="9175320" cy="10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-13680" y="383040"/>
                <a:ext cx="91450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249840" y="1405440"/>
            <a:ext cx="881568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a00"/>
                </a:solidFill>
                <a:latin typeface="Arial"/>
              </a:rPr>
              <a:t>И пока живут на свете люди,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a00"/>
                </a:solidFill>
                <a:latin typeface="Arial"/>
              </a:rPr>
              <a:t>Было, есть и будет так всегда: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a00"/>
                </a:solidFill>
                <a:latin typeface="Arial"/>
              </a:rPr>
              <a:t>Скромная почётная профессия,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a00"/>
                </a:solidFill>
                <a:latin typeface="Arial"/>
              </a:rPr>
              <a:t>Знаем, не исчезнет никогда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22"/>
          <p:cNvGrpSpPr/>
          <p:nvPr/>
        </p:nvGrpSpPr>
        <p:grpSpPr>
          <a:xfrm>
            <a:off x="-31680" y="0"/>
            <a:ext cx="9175680" cy="466200"/>
            <a:chOff x="-31680" y="0"/>
            <a:chExt cx="9175680" cy="466200"/>
          </a:xfrm>
        </p:grpSpPr>
        <p:pic>
          <p:nvPicPr>
            <p:cNvPr id="71" name="Picture 2" descr=""/>
            <p:cNvPicPr/>
            <p:nvPr/>
          </p:nvPicPr>
          <p:blipFill>
            <a:blip r:embed="rId1"/>
            <a:stretch/>
          </p:blipFill>
          <p:spPr>
            <a:xfrm>
              <a:off x="-1080" y="0"/>
              <a:ext cx="914508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Заголовок 1"/>
            <p:cNvSpPr/>
            <p:nvPr/>
          </p:nvSpPr>
          <p:spPr>
            <a:xfrm>
              <a:off x="227160" y="76320"/>
              <a:ext cx="86785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Verdana"/>
                </a:rPr>
                <a:t>Гимн Омской профессиональной сестринской ассоциа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Прямоугольник 4"/>
            <p:cNvGrpSpPr/>
            <p:nvPr/>
          </p:nvGrpSpPr>
          <p:grpSpPr>
            <a:xfrm>
              <a:off x="-31680" y="365040"/>
              <a:ext cx="9175320" cy="101160"/>
              <a:chOff x="-31680" y="365040"/>
              <a:chExt cx="9175320" cy="101160"/>
            </a:xfrm>
          </p:grpSpPr>
          <p:pic>
            <p:nvPicPr>
              <p:cNvPr id="74" name="Прямоугольник 4" descr=""/>
              <p:cNvPicPr/>
              <p:nvPr/>
            </p:nvPicPr>
            <p:blipFill>
              <a:blip r:embed="rId2"/>
              <a:stretch/>
            </p:blipFill>
            <p:spPr>
              <a:xfrm>
                <a:off x="-31680" y="365040"/>
                <a:ext cx="9175320" cy="10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"/>
              <p:cNvSpPr/>
              <p:nvPr/>
            </p:nvSpPr>
            <p:spPr>
              <a:xfrm>
                <a:off x="-13680" y="383040"/>
                <a:ext cx="91450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0" y="708120"/>
            <a:ext cx="9144000" cy="56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Медицинские сёстры,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медицинские сёстры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Иного не ищут пути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И вместе с врачами по первому зову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На помощь готовы прийти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И вместе с врачами по первому зову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На помощь готовы прийти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22"/>
          <p:cNvGrpSpPr/>
          <p:nvPr/>
        </p:nvGrpSpPr>
        <p:grpSpPr>
          <a:xfrm>
            <a:off x="-31680" y="0"/>
            <a:ext cx="9175680" cy="466200"/>
            <a:chOff x="-31680" y="0"/>
            <a:chExt cx="9175680" cy="466200"/>
          </a:xfrm>
        </p:grpSpPr>
        <p:pic>
          <p:nvPicPr>
            <p:cNvPr id="78" name="Picture 2" descr=""/>
            <p:cNvPicPr/>
            <p:nvPr/>
          </p:nvPicPr>
          <p:blipFill>
            <a:blip r:embed="rId1"/>
            <a:stretch/>
          </p:blipFill>
          <p:spPr>
            <a:xfrm>
              <a:off x="-1080" y="0"/>
              <a:ext cx="914508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Заголовок 1"/>
            <p:cNvSpPr/>
            <p:nvPr/>
          </p:nvSpPr>
          <p:spPr>
            <a:xfrm>
              <a:off x="227160" y="76320"/>
              <a:ext cx="86785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Verdana"/>
                </a:rPr>
                <a:t>Гимн Омской профессиональной сестринской ассоциа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Прямоугольник 4"/>
            <p:cNvGrpSpPr/>
            <p:nvPr/>
          </p:nvGrpSpPr>
          <p:grpSpPr>
            <a:xfrm>
              <a:off x="-31680" y="365040"/>
              <a:ext cx="9175320" cy="101160"/>
              <a:chOff x="-31680" y="365040"/>
              <a:chExt cx="9175320" cy="101160"/>
            </a:xfrm>
          </p:grpSpPr>
          <p:pic>
            <p:nvPicPr>
              <p:cNvPr id="81" name="Прямоугольник 4" descr=""/>
              <p:cNvPicPr/>
              <p:nvPr/>
            </p:nvPicPr>
            <p:blipFill>
              <a:blip r:embed="rId2"/>
              <a:stretch/>
            </p:blipFill>
            <p:spPr>
              <a:xfrm>
                <a:off x="-31680" y="365040"/>
                <a:ext cx="9175320" cy="10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>
                <a:off x="-13680" y="383040"/>
                <a:ext cx="91450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ПСА</cp:lastModifiedBy>
  <dcterms:modified xsi:type="dcterms:W3CDTF">2010-11-26T04:54:17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