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5F3-3A5C-40C3-882C-A8774654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4E0-4FB7-476A-919D-FF5A1CE6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7EF-38B9-42B4-AC85-A3F6C60D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346-A94B-4AFB-83A7-D56ED7C3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5CA-C957-4080-937D-F3F9B2B5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D27-C07E-4B56-94DC-74378EB0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4E7-C023-486F-ADFD-C78C9959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886-5F64-4A52-983E-525F2D73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01E-A5F8-47EF-8DDA-88B5FF14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2ED-DB81-4364-A758-DE357A1B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F41-0E4C-45CF-AC40-0FFD576B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762-6D0C-4B7F-81F5-E458673B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3655-DC84-4112-A626-132D55D15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80880" y="19810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1f3f5f"/>
                </a:solidFill>
                <a:latin typeface="Arial"/>
              </a:rPr>
              <a:t>Круг закрытия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224080" y="4227480"/>
            <a:ext cx="436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3f5f"/>
                </a:solidFill>
                <a:latin typeface="Tahoma"/>
              </a:rPr>
              <a:t>Ольга Александр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3f5f"/>
                </a:solidFill>
                <a:latin typeface="Tahoma"/>
              </a:rPr>
              <a:t>Буч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1170000" y="127080"/>
            <a:ext cx="8082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Региональный семинар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для медицинских сестер онкологической службы «Научно  обоснованные методы поддержки онкобольных  и ухаживающих за ними лиц»,  27 – 29 мая 2015 г., г. Омс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D:\Документы\ОПСА\18. Конкурсы\2014 г\Всероссийский конкурс 2014г\Номинация Лучшая старшая медицинская сестра\Фото\Бучко О.А\4х6.jpg"/>
          <p:cNvPicPr/>
          <p:nvPr/>
        </p:nvPicPr>
        <p:blipFill>
          <a:blip r:embed="rId1"/>
          <a:stretch/>
        </p:blipFill>
        <p:spPr>
          <a:xfrm>
            <a:off x="304920" y="3733920"/>
            <a:ext cx="1752480" cy="2628720"/>
          </a:xfrm>
          <a:prstGeom prst="rect">
            <a:avLst/>
          </a:prstGeom>
          <a:ln w="19080">
            <a:solidFill>
              <a:srgbClr val="0032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219320" y="0"/>
            <a:ext cx="7924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Открытое пространст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602360" y="1203480"/>
            <a:ext cx="564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Круг закрыт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28600" y="2438280"/>
            <a:ext cx="792468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0280" indent="-800280">
              <a:lnSpc>
                <a:spcPct val="110000"/>
              </a:lnSpc>
              <a:spcBef>
                <a:spcPts val="12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f3f5f"/>
                </a:solidFill>
                <a:latin typeface="Arial"/>
              </a:rPr>
              <a:t>1. Чему Вы научились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800280" indent="-800280">
              <a:lnSpc>
                <a:spcPct val="110000"/>
              </a:lnSpc>
              <a:spcBef>
                <a:spcPts val="12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f3f5f"/>
                </a:solidFill>
                <a:latin typeface="Arial"/>
              </a:rPr>
              <a:t>2. Что Вы будете с этим делать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1230288932_3D-Character-(33)"/>
          <p:cNvPicPr/>
          <p:nvPr/>
        </p:nvPicPr>
        <p:blipFill>
          <a:blip r:embed="rId1"/>
          <a:stretch/>
        </p:blipFill>
        <p:spPr>
          <a:xfrm>
            <a:off x="6778800" y="4737240"/>
            <a:ext cx="22190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371600" y="-7632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Открытое пространст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Рисунки\Анимация\Свечи\Новая папка\616188854.gif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5-05-25T12:51:2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