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16E-A268-4677-9AA3-9A5C1130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7AA-AEF9-42EC-98C1-7988DBBF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86E-BEA9-4420-B292-07983949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46D-90A0-4F0A-B09F-75649C94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009-A66C-4626-8E7B-8CEDC676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0C0-8AB6-4350-96BA-4FBE6D91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670-B421-4E1B-B402-22CF2D17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7C5-E2BB-42F7-A69A-619E9675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CFF-0900-4804-B523-A5C8B769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D8F-D3E8-47D2-A64F-895488E0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0F3-0475-41D0-B9A0-37F37DAF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915-0C8B-43FF-8E48-8C60607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CC20-FD08-49C6-9BA5-71E58F1A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5.gif"/><Relationship Id="rId14" Type="http://schemas.openxmlformats.org/officeDocument/2006/relationships/image" Target="../media/image4.gif"/><Relationship Id="rId15" Type="http://schemas.openxmlformats.org/officeDocument/2006/relationships/image" Target="../media/image5.gif"/><Relationship Id="rId16" Type="http://schemas.openxmlformats.org/officeDocument/2006/relationships/image" Target="../media/image4.gif"/><Relationship Id="rId17" Type="http://schemas.openxmlformats.org/officeDocument/2006/relationships/image" Target="../media/image5.gif"/><Relationship Id="rId1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87631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здравляем с Днем рождения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37500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047760" cy="281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1120" y="1828800"/>
            <a:ext cx="4647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800"/>
                </a:solidFill>
                <a:latin typeface="Arial"/>
              </a:rPr>
              <a:t>Лейба Ольгу Ивановн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4267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0416800">
            <a:off x="6324480" y="3200040"/>
            <a:ext cx="161928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18853200">
            <a:off x="3151440" y="1039320"/>
            <a:ext cx="1238040" cy="113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53280" y="57150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267080" y="57150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5715000" y="14479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6248520" y="22860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8001000" y="312408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914400" y="18288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685800" y="59436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8610480" y="11430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3581280" y="472428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8305920" y="4191120"/>
            <a:ext cx="30960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3:17:5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