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81B-1ABD-4239-9851-E5FE2758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E9FC-76DB-42DC-9965-368F2EC6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AE1-C7DF-4547-A2E3-1EB435EA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4655-87DB-4E9E-8DCB-E6B27C47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D8F-07E5-47D2-BBF4-8B48EBE8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D2EB-3AFA-457A-AD79-7CD38D6C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BB0C-AED3-40E5-B6CE-8E1FDA40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811-69F2-4A6C-B73B-1A580305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CE7D-5BDB-4AA4-851F-3B732ED0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288B-DBC3-4FC4-8E48-339FF64C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3063-017E-45CD-A924-4D2DA1DC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8F0-6D4B-4E78-A5CB-2244EC67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1517-D5C1-43A6-AB1E-34EBF38D0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200" y="324000"/>
            <a:ext cx="2521080" cy="352728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ffffff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2666880" y="3200400"/>
            <a:ext cx="62024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5 - 28 мая 201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г. Ом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Прямоугольник 4"/>
          <p:cNvGrpSpPr/>
          <p:nvPr/>
        </p:nvGrpSpPr>
        <p:grpSpPr>
          <a:xfrm>
            <a:off x="-19080" y="4127400"/>
            <a:ext cx="9175680" cy="169920"/>
            <a:chOff x="-19080" y="4127400"/>
            <a:chExt cx="9175680" cy="169920"/>
          </a:xfrm>
        </p:grpSpPr>
        <p:pic>
          <p:nvPicPr>
            <p:cNvPr id="45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-19080" y="4127400"/>
              <a:ext cx="91756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414324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51000" y="407880"/>
            <a:ext cx="2131920" cy="3156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71520" y="2338560"/>
            <a:ext cx="514440" cy="51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00200" y="4648320"/>
            <a:ext cx="5943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006600"/>
                </a:solidFill>
                <a:latin typeface="Verdana"/>
              </a:rPr>
              <a:t>2 день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307800"/>
            <a:ext cx="66294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региональный семинар    в рамках международного проекта «Лидерство в переговор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1200240" y="1260360"/>
            <a:ext cx="210960" cy="2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9T04:49:1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