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15F-976E-4F60-A27F-F34503AA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EDF-F5B2-48F1-AB90-65FCB1F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77D-030F-4148-ABEE-A4AE199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928-C792-4FA0-B92C-6A570842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7D4DE-2051-4383-8733-D9665CA2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1A3BE-EEBC-41DE-8512-4397E3BC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E716E-24A5-4BCB-8E83-D8300890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BC46C-5E98-4276-8605-51553F53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852D8-6BF3-46CC-842E-10A8B24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D5B4F-B57C-4536-AFE1-D8B43F4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FD49-83AE-41AF-94D1-8CF8137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1F1-0E61-4376-A9E7-FBBF72A2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640BC-3E67-465D-B736-2BCAC72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5A595-1EFC-4098-BBBD-13B60B8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C6875-2E74-46C3-A1BD-D982651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DEA68-4751-4AB6-A6E2-A1631DE6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4281-B6AC-4D34-BB56-C6D1410C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1666-F183-44DD-AB99-0FD37DFA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7FA6-5B4C-46FD-AC6E-C2E219F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5082-5F54-4D87-8199-E255893A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04B5-C0BD-417C-8835-6D3B126C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0DC3-1797-496B-A6F9-B9D23F5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330-38FF-4D77-A5AE-4C853D43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C92C-AD41-4152-B933-D9A1CA3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D9DF-77CB-49B3-A14C-041A6D0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3D36-2431-4595-96BD-F3D1F46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BF80-B60B-48D2-8FF7-5033FF8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C29D-BE57-467A-857A-CC1A1773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DB13-0149-430B-B665-43CA7357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1C46-CEDF-4811-B86B-2604C1E5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B2C-0F6A-42C8-9F8B-416EF85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981-D5D8-4BAA-AC9C-C55DF01E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803-E5CD-46B4-817F-38FC7B32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F9B-3F43-4512-A994-79DD6E8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1C8-BFAF-45C7-880A-94FC52E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514-FADD-4322-B88C-A827F20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5BA9-C582-4BB6-BBAD-A3032535EE4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EA10-E5DD-411B-B7EB-330932ABA33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243D-A9DE-4ECA-A8FB-12991666B7C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6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Заголовок 1"/>
          <p:cNvSpPr/>
          <p:nvPr/>
        </p:nvSpPr>
        <p:spPr>
          <a:xfrm>
            <a:off x="216000" y="0"/>
            <a:ext cx="86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дзаголовок 2"/>
          <p:cNvSpPr/>
          <p:nvPr/>
        </p:nvSpPr>
        <p:spPr>
          <a:xfrm>
            <a:off x="179280" y="1628640"/>
            <a:ext cx="8785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5800"/>
                </a:solidFill>
                <a:latin typeface="Verdana"/>
              </a:rPr>
              <a:t>Отчет о проведении семинарских занятий в рамках Международного проекта «Лидерство в переговорах» в БУЗОО КПБ им. Н.Н. Солоднико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2627280" y="5084640"/>
            <a:ext cx="6337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Некрасова Н.А., старшая медицинская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стационара на дому для детей (ОИЛ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БУЗОО КПБ им. Н.Н. Солодникова, г. О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algn="r">
              <a:lnSpc>
                <a:spcPct val="11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00"/>
                </a:solidFill>
                <a:latin typeface="Verdana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48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4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6"/>
          <p:cNvSpPr/>
          <p:nvPr/>
        </p:nvSpPr>
        <p:spPr>
          <a:xfrm>
            <a:off x="133200" y="692280"/>
            <a:ext cx="90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правления работы семинара способствовал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76360" y="1628640"/>
            <a:ext cx="8172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Развитию навыков лидерства и ведению перего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олучению объема знаний по решению проблем, связанных с условиями труда в ежедневной прак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feed-icon-6"/>
          <p:cNvPicPr/>
          <p:nvPr/>
        </p:nvPicPr>
        <p:blipFill>
          <a:blip r:embed="rId3"/>
          <a:stretch/>
        </p:blipFill>
        <p:spPr>
          <a:xfrm>
            <a:off x="179280" y="184464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feed-icon-6"/>
          <p:cNvPicPr/>
          <p:nvPr/>
        </p:nvPicPr>
        <p:blipFill>
          <a:blip r:embed="rId4"/>
          <a:stretch/>
        </p:blipFill>
        <p:spPr>
          <a:xfrm>
            <a:off x="179280" y="3357720"/>
            <a:ext cx="451080" cy="45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56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5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6"/>
          <p:cNvSpPr/>
          <p:nvPr/>
        </p:nvSpPr>
        <p:spPr>
          <a:xfrm>
            <a:off x="0" y="692280"/>
            <a:ext cx="914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остижения в области совершенствования профессионализма и педагогическо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2720" y="1484280"/>
            <a:ext cx="8280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Зиновьева И.С.- утверждена на должность старшей медсестры 18 отделения, студентка 2 курса факультета ВСО Н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Миллер Н.П.- утверждена на должность старшей медсестры 26 отделения, окончила ГОУ ОО «Медицинский колледж» по специальности «Сестринское дело», квалификация «М/с-организат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feed-icon-6"/>
          <p:cNvPicPr/>
          <p:nvPr/>
        </p:nvPicPr>
        <p:blipFill>
          <a:blip r:embed="rId3"/>
          <a:stretch/>
        </p:blipFill>
        <p:spPr>
          <a:xfrm>
            <a:off x="179280" y="155736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feed-icon-6"/>
          <p:cNvPicPr/>
          <p:nvPr/>
        </p:nvPicPr>
        <p:blipFill>
          <a:blip r:embed="rId4"/>
          <a:stretch/>
        </p:blipFill>
        <p:spPr>
          <a:xfrm>
            <a:off x="179280" y="3213000"/>
            <a:ext cx="451080" cy="45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64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6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6"/>
          <p:cNvSpPr/>
          <p:nvPr/>
        </p:nvSpPr>
        <p:spPr>
          <a:xfrm>
            <a:off x="0" y="692280"/>
            <a:ext cx="914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остижения в области совершенствования профессионализма и педагогическо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612720" y="1341360"/>
            <a:ext cx="878364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Прохоренко Н.В.- окончила МЗОО ГОУ «Медицинский колледж» по специальности «Сестринское дело», квалификация «М/с с углубленной подготовкой по направлению «Психиатрия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Калиновская И.Ю.- студентка 2 курса факультета «Менеджмент» Омского филиала Московской финансово-промышленной акад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feed-icon-6"/>
          <p:cNvPicPr/>
          <p:nvPr/>
        </p:nvPicPr>
        <p:blipFill>
          <a:blip r:embed="rId3"/>
          <a:stretch/>
        </p:blipFill>
        <p:spPr>
          <a:xfrm>
            <a:off x="179280" y="148428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feed-icon-6"/>
          <p:cNvPicPr/>
          <p:nvPr/>
        </p:nvPicPr>
        <p:blipFill>
          <a:blip r:embed="rId4"/>
          <a:stretch/>
        </p:blipFill>
        <p:spPr>
          <a:xfrm>
            <a:off x="179280" y="3933720"/>
            <a:ext cx="451080" cy="45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72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7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6"/>
          <p:cNvSpPr/>
          <p:nvPr/>
        </p:nvSpPr>
        <p:spPr>
          <a:xfrm>
            <a:off x="0" y="692280"/>
            <a:ext cx="914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остижения в области совершенствования профессионализма и педагогическо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612720" y="1700280"/>
            <a:ext cx="8280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Хитрова О.А.- поступила в МЗОО ГОУ «Медицинский колледж» на повышенный уровень образования по специальности «Сестринское дело», квалификация «М/с с углубленной подготовкой по направлению «Психиатрия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feed-icon-6"/>
          <p:cNvPicPr/>
          <p:nvPr/>
        </p:nvPicPr>
        <p:blipFill>
          <a:blip r:embed="rId3"/>
          <a:stretch/>
        </p:blipFill>
        <p:spPr>
          <a:xfrm>
            <a:off x="179280" y="1844640"/>
            <a:ext cx="451080" cy="45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79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8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6"/>
          <p:cNvSpPr/>
          <p:nvPr/>
        </p:nvSpPr>
        <p:spPr>
          <a:xfrm>
            <a:off x="0" y="26028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лючевые чл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мской профессиональной сестринской ассоц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633240" y="1628640"/>
            <a:ext cx="8259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S6005431"/>
          <p:cNvPicPr/>
          <p:nvPr/>
        </p:nvPicPr>
        <p:blipFill>
          <a:blip r:embed="rId3"/>
          <a:stretch/>
        </p:blipFill>
        <p:spPr>
          <a:xfrm>
            <a:off x="6012000" y="1557360"/>
            <a:ext cx="2246040" cy="33116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788000" y="5157360"/>
            <a:ext cx="4356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астник проекта, ключевой член - старшая медицинская сестра 18 отдел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иновьева И.С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6" name="Picture 12" descr="S6005431"/>
          <p:cNvPicPr/>
          <p:nvPr/>
        </p:nvPicPr>
        <p:blipFill>
          <a:blip r:embed="rId4"/>
          <a:stretch/>
        </p:blipFill>
        <p:spPr>
          <a:xfrm>
            <a:off x="684360" y="1989000"/>
            <a:ext cx="4038480" cy="30290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287" name="Rectangle 13"/>
          <p:cNvSpPr/>
          <p:nvPr/>
        </p:nvSpPr>
        <p:spPr>
          <a:xfrm>
            <a:off x="324000" y="5157720"/>
            <a:ext cx="435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лючевые члены ОП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КПБ им. Н.Н. Солод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89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9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7"/>
          <p:cNvSpPr/>
          <p:nvPr/>
        </p:nvSpPr>
        <p:spPr>
          <a:xfrm>
            <a:off x="612720" y="1557360"/>
            <a:ext cx="8531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Улучшение информирования медицинских сестер о деятельности Общественных сестрински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Активизация работы Совета по сестринскому 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feed-icon-6"/>
          <p:cNvPicPr/>
          <p:nvPr/>
        </p:nvPicPr>
        <p:blipFill>
          <a:blip r:embed="rId3"/>
          <a:stretch/>
        </p:blipFill>
        <p:spPr>
          <a:xfrm>
            <a:off x="179280" y="1700280"/>
            <a:ext cx="451080" cy="450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395280" y="620640"/>
            <a:ext cx="878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оставленны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5" descr="feed-icon-6"/>
          <p:cNvPicPr/>
          <p:nvPr/>
        </p:nvPicPr>
        <p:blipFill>
          <a:blip r:embed="rId4"/>
          <a:stretch/>
        </p:blipFill>
        <p:spPr>
          <a:xfrm>
            <a:off x="179280" y="4437000"/>
            <a:ext cx="451080" cy="45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97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755640" y="404640"/>
            <a:ext cx="8569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что сформирована команда, объединенная одной ц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важность семинара для практической работы и качество его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расширение профессионального кругозора у специалистов, обмена опы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95280" y="287280"/>
            <a:ext cx="8712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о итогам семинара участники отмети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1" descr="feed-icon-6"/>
          <p:cNvPicPr/>
          <p:nvPr/>
        </p:nvPicPr>
        <p:blipFill>
          <a:blip r:embed="rId3"/>
          <a:stretch/>
        </p:blipFill>
        <p:spPr>
          <a:xfrm>
            <a:off x="179280" y="1341360"/>
            <a:ext cx="451080" cy="451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3" descr="feed-icon-6"/>
          <p:cNvPicPr/>
          <p:nvPr/>
        </p:nvPicPr>
        <p:blipFill>
          <a:blip r:embed="rId4"/>
          <a:stretch/>
        </p:blipFill>
        <p:spPr>
          <a:xfrm>
            <a:off x="250920" y="2924280"/>
            <a:ext cx="450720" cy="4507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684360" y="5257440"/>
            <a:ext cx="845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6" descr="feed-icon-6"/>
          <p:cNvPicPr/>
          <p:nvPr/>
        </p:nvPicPr>
        <p:blipFill>
          <a:blip r:embed="rId5"/>
          <a:stretch/>
        </p:blipFill>
        <p:spPr>
          <a:xfrm>
            <a:off x="250920" y="4869000"/>
            <a:ext cx="450720" cy="45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07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30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6"/>
          <p:cNvSpPr/>
          <p:nvPr/>
        </p:nvSpPr>
        <p:spPr>
          <a:xfrm>
            <a:off x="755640" y="1268280"/>
            <a:ext cx="85694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развитие лидерских качеств и навыков коммун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раскрытие профессионального и творческого подхода к решению задач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" descr="feed-icon-6"/>
          <p:cNvPicPr/>
          <p:nvPr/>
        </p:nvPicPr>
        <p:blipFill>
          <a:blip r:embed="rId3"/>
          <a:stretch/>
        </p:blipFill>
        <p:spPr>
          <a:xfrm>
            <a:off x="250920" y="1754280"/>
            <a:ext cx="450720" cy="450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feed-icon-6"/>
          <p:cNvPicPr/>
          <p:nvPr/>
        </p:nvPicPr>
        <p:blipFill>
          <a:blip r:embed="rId4"/>
          <a:stretch/>
        </p:blipFill>
        <p:spPr>
          <a:xfrm>
            <a:off x="250920" y="3213000"/>
            <a:ext cx="450720" cy="4510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395280" y="287280"/>
            <a:ext cx="8712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о итогам семинара участники отмети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811440"/>
          </a:xfrm>
          <a:prstGeom prst="rect">
            <a:avLst/>
          </a:prstGeom>
          <a:ln w="0">
            <a:noFill/>
          </a:ln>
        </p:spPr>
      </p:pic>
      <p:grpSp>
        <p:nvGrpSpPr>
          <p:cNvPr id="315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31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Самые активные участники семинар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633240" y="1628640"/>
            <a:ext cx="8259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4" descr="S6005431"/>
          <p:cNvPicPr/>
          <p:nvPr/>
        </p:nvPicPr>
        <p:blipFill>
          <a:blip r:embed="rId3"/>
          <a:stretch/>
        </p:blipFill>
        <p:spPr>
          <a:xfrm>
            <a:off x="6012000" y="1557360"/>
            <a:ext cx="2246040" cy="33116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321" name="Picture 15" descr="S6005418"/>
          <p:cNvPicPr/>
          <p:nvPr/>
        </p:nvPicPr>
        <p:blipFill>
          <a:blip r:embed="rId4"/>
          <a:stretch/>
        </p:blipFill>
        <p:spPr>
          <a:xfrm>
            <a:off x="971640" y="1557360"/>
            <a:ext cx="2284200" cy="33116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464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Старшая медицинская сестр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26 отделени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Миллер Н.П.</a:t>
            </a:r>
            <a:endParaRPr b="0" lang="en-US" sz="18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788000" y="5157360"/>
            <a:ext cx="4356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Старшая медицинская сест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18 отдел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Зиновьева И.С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25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32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7"/>
          <p:cNvSpPr/>
          <p:nvPr/>
        </p:nvSpPr>
        <p:spPr>
          <a:xfrm>
            <a:off x="633240" y="1628640"/>
            <a:ext cx="8259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Процедурная медицинская сестра 8 отделени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Маркенко Е.И.</a:t>
            </a:r>
            <a:endParaRPr b="0" lang="en-US" sz="18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643280" y="5445000"/>
            <a:ext cx="450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Старшая медицинская сест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7 отделе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Verdana"/>
              </a:rPr>
              <a:t>Калиновская И.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Самые активные участники семинар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6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042920" y="1771560"/>
            <a:ext cx="2633760" cy="33861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333" name="Picture 17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651640" y="1844640"/>
            <a:ext cx="2592360" cy="338472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70" name="Прямоугольник 4"/>
          <p:cNvGrpSpPr/>
          <p:nvPr/>
        </p:nvGrpSpPr>
        <p:grpSpPr>
          <a:xfrm>
            <a:off x="-19080" y="1042920"/>
            <a:ext cx="9175680" cy="115920"/>
            <a:chOff x="-19080" y="1042920"/>
            <a:chExt cx="9175680" cy="115920"/>
          </a:xfrm>
        </p:grpSpPr>
        <p:pic>
          <p:nvPicPr>
            <p:cNvPr id="17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1042920"/>
              <a:ext cx="9175680" cy="1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1063800"/>
              <a:ext cx="9144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395280" y="476280"/>
            <a:ext cx="874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ериод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07.10.2009 г.-16.12.200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img067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395280" y="3162240"/>
            <a:ext cx="840744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35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33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6"/>
          <p:cNvSpPr/>
          <p:nvPr/>
        </p:nvSpPr>
        <p:spPr>
          <a:xfrm>
            <a:off x="611280" y="1773360"/>
            <a:ext cx="8388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в 23-х структурных подразделениях КПБ им. Н.Н. Солодник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роведены практические занятия с сестринским персоналом по теме «Лидерство в переговорах». Приняли участие 276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6360" y="28728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результатам семинарских занятий в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квартале 2010 г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8" descr="feed-icon-6"/>
          <p:cNvPicPr/>
          <p:nvPr/>
        </p:nvPicPr>
        <p:blipFill>
          <a:blip r:embed="rId3"/>
          <a:stretch/>
        </p:blipFill>
        <p:spPr>
          <a:xfrm>
            <a:off x="108000" y="1609560"/>
            <a:ext cx="450720" cy="4510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0"/>
          <p:cNvSpPr/>
          <p:nvPr/>
        </p:nvSpPr>
        <p:spPr>
          <a:xfrm>
            <a:off x="684360" y="5257440"/>
            <a:ext cx="845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34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34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8"/>
          <p:cNvSpPr/>
          <p:nvPr/>
        </p:nvSpPr>
        <p:spPr>
          <a:xfrm>
            <a:off x="539640" y="2421000"/>
            <a:ext cx="77043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5800"/>
                </a:solidFill>
                <a:latin typeface="Arial"/>
              </a:rPr>
              <a:t>Благодарю за внимание!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77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7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9"/>
          <p:cNvSpPr/>
          <p:nvPr/>
        </p:nvSpPr>
        <p:spPr>
          <a:xfrm>
            <a:off x="250920" y="620640"/>
            <a:ext cx="892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108000" y="115092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32400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рошли  обучение 24 специалиста сестринского звена из структурных подразделений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10000"/>
              </a:lnSpc>
              <a:spcBef>
                <a:spcPts val="3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RSCN298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995640" y="3117960"/>
            <a:ext cx="4897440" cy="3422520"/>
          </a:xfrm>
          <a:prstGeom prst="rect">
            <a:avLst/>
          </a:prstGeom>
          <a:ln w="57240">
            <a:solidFill>
              <a:srgbClr val="005800"/>
            </a:solidFill>
            <a:miter/>
          </a:ln>
        </p:spPr>
      </p:pic>
      <p:pic>
        <p:nvPicPr>
          <p:cNvPr id="184" name="Picture 17" descr="S6004947"/>
          <p:cNvPicPr/>
          <p:nvPr/>
        </p:nvPicPr>
        <p:blipFill>
          <a:blip r:embed="rId4"/>
          <a:stretch/>
        </p:blipFill>
        <p:spPr>
          <a:xfrm>
            <a:off x="0" y="0"/>
            <a:ext cx="1297080" cy="9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S6004951"/>
          <p:cNvPicPr/>
          <p:nvPr/>
        </p:nvPicPr>
        <p:blipFill>
          <a:blip r:embed="rId5"/>
          <a:stretch/>
        </p:blipFill>
        <p:spPr>
          <a:xfrm>
            <a:off x="1332000" y="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S6004977"/>
          <p:cNvPicPr/>
          <p:nvPr/>
        </p:nvPicPr>
        <p:blipFill>
          <a:blip r:embed="rId6"/>
          <a:stretch/>
        </p:blipFill>
        <p:spPr>
          <a:xfrm>
            <a:off x="2627280" y="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IMG_5900"/>
          <p:cNvPicPr/>
          <p:nvPr/>
        </p:nvPicPr>
        <p:blipFill>
          <a:blip r:embed="rId7"/>
          <a:stretch/>
        </p:blipFill>
        <p:spPr>
          <a:xfrm>
            <a:off x="3924360" y="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S6004970"/>
          <p:cNvPicPr/>
          <p:nvPr/>
        </p:nvPicPr>
        <p:blipFill>
          <a:blip r:embed="rId8"/>
          <a:stretch/>
        </p:blipFill>
        <p:spPr>
          <a:xfrm>
            <a:off x="5219640" y="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IMG_5887"/>
          <p:cNvPicPr/>
          <p:nvPr/>
        </p:nvPicPr>
        <p:blipFill>
          <a:blip r:embed="rId9"/>
          <a:stretch/>
        </p:blipFill>
        <p:spPr>
          <a:xfrm>
            <a:off x="6516720" y="0"/>
            <a:ext cx="1297080" cy="97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5" descr="S6004838"/>
          <p:cNvPicPr/>
          <p:nvPr/>
        </p:nvPicPr>
        <p:blipFill>
          <a:blip r:embed="rId10"/>
          <a:stretch/>
        </p:blipFill>
        <p:spPr>
          <a:xfrm>
            <a:off x="7812000" y="0"/>
            <a:ext cx="13320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2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9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8"/>
          <p:cNvSpPr/>
          <p:nvPr/>
        </p:nvSpPr>
        <p:spPr>
          <a:xfrm>
            <a:off x="324000" y="260280"/>
            <a:ext cx="92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79280" y="1341360"/>
            <a:ext cx="878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Главная медицинская сестра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Старшая медицинская сестра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5800"/>
                </a:solidFill>
                <a:uFillTx/>
                <a:latin typeface="Verdana"/>
              </a:rPr>
              <a:t>Дублеры старших медицинских сест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Палатная медицинская сестра –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Палатная медицинская сестра по работе с документацией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Процедурная медицинская сестра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Участковая медицинская сестра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Verdana"/>
              </a:rPr>
              <a:t>Медицинская сестра ФТО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8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9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395280" y="549360"/>
            <a:ext cx="8389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Изменение состава участников в 2009 год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22200" y="119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Aft>
                <a:spcPts val="2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0" y="1773360"/>
            <a:ext cx="918036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о причине кадровой перестановки                                         Васильева Л.П.         Гирфанова Е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о причине декретного отпуска  Шершнева И.В.       Толстоухова Е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 rot="16200000">
            <a:off x="4199760" y="2432520"/>
            <a:ext cx="312840" cy="577800"/>
          </a:xfrm>
          <a:prstGeom prst="downArrow">
            <a:avLst>
              <a:gd name="adj1" fmla="val 50000"/>
              <a:gd name="adj2" fmla="val 46174"/>
            </a:avLst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6200000">
            <a:off x="4128120" y="4951800"/>
            <a:ext cx="312840" cy="577800"/>
          </a:xfrm>
          <a:prstGeom prst="downArrow">
            <a:avLst>
              <a:gd name="adj1" fmla="val 50000"/>
              <a:gd name="adj2" fmla="val 46174"/>
            </a:avLst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" descr="feed-icon-6"/>
          <p:cNvPicPr/>
          <p:nvPr/>
        </p:nvPicPr>
        <p:blipFill>
          <a:blip r:embed="rId3"/>
          <a:stretch/>
        </p:blipFill>
        <p:spPr>
          <a:xfrm>
            <a:off x="0" y="1916280"/>
            <a:ext cx="45072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feed-icon-6"/>
          <p:cNvPicPr/>
          <p:nvPr/>
        </p:nvPicPr>
        <p:blipFill>
          <a:blip r:embed="rId4"/>
          <a:stretch/>
        </p:blipFill>
        <p:spPr>
          <a:xfrm>
            <a:off x="0" y="4437000"/>
            <a:ext cx="450720" cy="45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09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1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324000" y="620640"/>
            <a:ext cx="8856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Что удалось сдел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22200" y="119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Aft>
                <a:spcPts val="2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11280" y="1341360"/>
            <a:ext cx="439236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Verdana"/>
              </a:rPr>
              <a:t>Проведено 11 занятий по 1,5 часа каждое с использованием раздаточных материалов и мультимедийного сопрово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feed-icon-6"/>
          <p:cNvPicPr/>
          <p:nvPr/>
        </p:nvPicPr>
        <p:blipFill>
          <a:blip r:embed="rId3"/>
          <a:stretch/>
        </p:blipFill>
        <p:spPr>
          <a:xfrm>
            <a:off x="179280" y="155736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S6004893"/>
          <p:cNvPicPr/>
          <p:nvPr/>
        </p:nvPicPr>
        <p:blipFill>
          <a:blip r:embed="rId4"/>
          <a:stretch/>
        </p:blipFill>
        <p:spPr>
          <a:xfrm>
            <a:off x="5364000" y="4076640"/>
            <a:ext cx="3529080" cy="26463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217" name="Picture 17" descr="IMG_5885"/>
          <p:cNvPicPr/>
          <p:nvPr/>
        </p:nvPicPr>
        <p:blipFill>
          <a:blip r:embed="rId5"/>
          <a:stretch/>
        </p:blipFill>
        <p:spPr>
          <a:xfrm>
            <a:off x="5364000" y="1268280"/>
            <a:ext cx="3529080" cy="26463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19" name="Прямоугольник 4"/>
          <p:cNvGrpSpPr/>
          <p:nvPr/>
        </p:nvGrpSpPr>
        <p:grpSpPr>
          <a:xfrm>
            <a:off x="0" y="907920"/>
            <a:ext cx="9174240" cy="177840"/>
            <a:chOff x="0" y="907920"/>
            <a:chExt cx="9174240" cy="177840"/>
          </a:xfrm>
        </p:grpSpPr>
        <p:pic>
          <p:nvPicPr>
            <p:cNvPr id="22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0" y="907920"/>
              <a:ext cx="91742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9080" y="92700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6"/>
          <p:cNvSpPr/>
          <p:nvPr/>
        </p:nvSpPr>
        <p:spPr>
          <a:xfrm>
            <a:off x="684360" y="12682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24000" y="260280"/>
            <a:ext cx="88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икеры занят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611280" y="1268280"/>
            <a:ext cx="52560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Юрисконсульт больницы- Сорокина Ю.А., сессия «Система переговоров по оплате труда работников здравоохра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Verdana"/>
              </a:rPr>
              <a:t>Участница семинара- Миллер Н.П., сессия «Разрешение конфликтов. Переговоры. Ролевая игра (разрешение конфлик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feed-icon-6"/>
          <p:cNvPicPr/>
          <p:nvPr/>
        </p:nvPicPr>
        <p:blipFill>
          <a:blip r:embed="rId3"/>
          <a:stretch/>
        </p:blipFill>
        <p:spPr>
          <a:xfrm>
            <a:off x="179280" y="1341360"/>
            <a:ext cx="451080" cy="451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feed-icon-6"/>
          <p:cNvPicPr/>
          <p:nvPr/>
        </p:nvPicPr>
        <p:blipFill>
          <a:blip r:embed="rId4"/>
          <a:stretch/>
        </p:blipFill>
        <p:spPr>
          <a:xfrm>
            <a:off x="179280" y="4292640"/>
            <a:ext cx="451080" cy="45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S6004848"/>
          <p:cNvPicPr/>
          <p:nvPr/>
        </p:nvPicPr>
        <p:blipFill>
          <a:blip r:embed="rId5"/>
          <a:stretch/>
        </p:blipFill>
        <p:spPr>
          <a:xfrm>
            <a:off x="5580000" y="2205000"/>
            <a:ext cx="3384720" cy="25401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29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3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684360" y="1413000"/>
            <a:ext cx="7848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79280" y="476280"/>
            <a:ext cx="89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подготовке семинарских занятий использованы тематически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900000" y="1844640"/>
            <a:ext cx="846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20000"/>
              </a:lnSpc>
              <a:spcBef>
                <a:spcPts val="3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S6005560"/>
          <p:cNvPicPr/>
          <p:nvPr/>
        </p:nvPicPr>
        <p:blipFill>
          <a:blip r:embed="rId3"/>
          <a:stretch/>
        </p:blipFill>
        <p:spPr>
          <a:xfrm>
            <a:off x="5508720" y="1700280"/>
            <a:ext cx="3333600" cy="44434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236" name="Picture 19" descr="feed-icon-6"/>
          <p:cNvPicPr/>
          <p:nvPr/>
        </p:nvPicPr>
        <p:blipFill>
          <a:blip r:embed="rId4"/>
          <a:stretch/>
        </p:blipFill>
        <p:spPr>
          <a:xfrm>
            <a:off x="179280" y="1484280"/>
            <a:ext cx="451080" cy="4507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0"/>
          <p:cNvSpPr/>
          <p:nvPr/>
        </p:nvSpPr>
        <p:spPr>
          <a:xfrm>
            <a:off x="755640" y="1413000"/>
            <a:ext cx="482436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Verdana"/>
              </a:rPr>
              <a:t>Руководство для преподавателя «Лидерство в пере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Verdana"/>
              </a:rPr>
              <a:t>Материалы по работе Международного совета медицинских сестер, Ассоциации медицинских сестер России, Омской профессиональной сестринской ассоциации, Совета по сестринскому делу и профсоюза БУЗОО КПБ им. Н.Н. Солод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2" descr="feed-icon-6"/>
          <p:cNvPicPr/>
          <p:nvPr/>
        </p:nvPicPr>
        <p:blipFill>
          <a:blip r:embed="rId5"/>
          <a:stretch/>
        </p:blipFill>
        <p:spPr>
          <a:xfrm>
            <a:off x="179280" y="2708280"/>
            <a:ext cx="451080" cy="45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40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241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6"/>
          <p:cNvSpPr/>
          <p:nvPr/>
        </p:nvSpPr>
        <p:spPr>
          <a:xfrm>
            <a:off x="324000" y="620640"/>
            <a:ext cx="885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сновные задачи семина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11280" y="1053720"/>
            <a:ext cx="8281800" cy="69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овышение престижа Общественных сестрински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Verdana"/>
              </a:rPr>
              <a:t>Повышение внимания на проблемы профессии и условий труда, влияющих на качество ухода за паци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feed-icon-6"/>
          <p:cNvPicPr/>
          <p:nvPr/>
        </p:nvPicPr>
        <p:blipFill>
          <a:blip r:embed="rId3"/>
          <a:stretch/>
        </p:blipFill>
        <p:spPr>
          <a:xfrm>
            <a:off x="179280" y="1341360"/>
            <a:ext cx="451080" cy="45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feed-icon-6"/>
          <p:cNvPicPr/>
          <p:nvPr/>
        </p:nvPicPr>
        <p:blipFill>
          <a:blip r:embed="rId4"/>
          <a:stretch/>
        </p:blipFill>
        <p:spPr>
          <a:xfrm>
            <a:off x="179280" y="4076640"/>
            <a:ext cx="451080" cy="45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36:25Z</dcterms:created>
  <dc:creator>User</dc:creator>
  <dc:description/>
  <dc:language>en-US</dc:language>
  <cp:lastModifiedBy>ОПСА</cp:lastModifiedBy>
  <dcterms:modified xsi:type="dcterms:W3CDTF">2012-07-25T08:04:56Z</dcterms:modified>
  <cp:revision>151</cp:revision>
  <dc:subject/>
  <dc:title>Слайд 1</dc:title>
</cp:coreProperties>
</file>