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FA3-7FB1-43AC-AA9F-3426D8C6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482-6784-4E7A-AD78-3396E52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36C-ED61-4F97-AD5E-EB73902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99D-AC3E-4A12-AFD8-08B188AB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F47C-9CD9-4F43-8532-C8417A62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15EE-33C2-4B57-98A9-65E04C74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70E-387B-4DC5-90FA-804C5C7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36ED-EB48-43A2-AC83-092EBB70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7CF-FA85-40DE-B5EF-20EC1DD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EB81-C0ED-4A15-A587-E70B7B4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70DA-31C3-4DA0-8A6C-4C48C91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D04-8A42-45C7-A6A9-C80B6ED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7C9C-59DD-4FBA-9C0B-68BF8A4C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0CA0-843E-4B24-90C6-11E8D1A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4F6-A115-4715-B510-BE514C1C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94E1-7500-4578-BC46-B14CE99B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3CE9-AD7F-472C-BBF6-5E849F8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40B-CC1B-491C-9B1B-6E9F6C75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9E2-16EB-41DC-AE04-385686EE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2EF-0183-4058-9990-7ACC6B4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470-135D-4AD3-8D74-DD096290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A0B-89EC-49B5-B691-3813848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A61-26BC-46FD-BFCE-25EDA52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BBB-4169-4D2F-B10B-CA0AAFF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D7FB-4AAF-4152-A21B-08363B4E05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163-9115-46C4-A10C-62251455EB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752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Arial"/>
              </a:rPr>
              <a:t>Рекрутинг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138564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37960" y="5835600"/>
            <a:ext cx="196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ahoma"/>
              </a:rPr>
              <a:t>О.А. Бучк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lvl="1" marL="12564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объяснить те сложности, с которыми сталкиваются рекрутеры и предложить стратегии борьбы с ни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564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объяснить преимущества членства в Ассо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564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ответить на критику и сомнения, адресованные Ассо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564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разработать стратегию рекрутин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6019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en-US" sz="4000" spc="-1" strike="noStrike">
                <a:solidFill>
                  <a:srgbClr val="005800"/>
                </a:solidFill>
                <a:latin typeface="Arial"/>
              </a:rPr>
              <a:t> Сценарий, насколько трудно вести рекрутинг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en-US" sz="4000" spc="-1" strike="noStrike">
                <a:solidFill>
                  <a:srgbClr val="005800"/>
                </a:solidFill>
                <a:latin typeface="Arial"/>
              </a:rPr>
              <a:t> Ролевая игра: рекрутинг в действ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en-US" sz="4000" spc="-1" strike="noStrike">
                <a:solidFill>
                  <a:srgbClr val="005800"/>
                </a:solidFill>
                <a:latin typeface="Arial"/>
              </a:rPr>
              <a:t> Разработка пл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трё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522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акторы, содействующие рекрутингу (вовлечению членов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услуги для членов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решение профессиональных проблем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юридическая помощь и представительство по рабочим проблемам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непрерывное образование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профессиональная халатность/преступления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роль делегатов Ассоциаци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800"/>
                </a:solidFill>
                <a:latin typeface="Arial"/>
              </a:rPr>
              <a:t>политика и публичнос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3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320" y="2895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63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6320" y="4800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763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6320" y="63244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324480" y="3960720"/>
            <a:ext cx="2438640" cy="2070360"/>
            <a:chOff x="6324480" y="3960720"/>
            <a:chExt cx="2438640" cy="207036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6400800" y="3962520"/>
              <a:ext cx="234324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400800" y="3960720"/>
              <a:ext cx="2286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24640" y="3962520"/>
              <a:ext cx="22860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3360" y="3962520"/>
              <a:ext cx="22860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3452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44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34520" y="5900760"/>
              <a:ext cx="2286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5965920"/>
              <a:ext cx="22860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0"/>
            <a:stretch/>
          </p:blipFill>
          <p:spPr>
            <a:xfrm>
              <a:off x="7227720" y="4973760"/>
              <a:ext cx="470160" cy="74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Планирование рекрутинга</a:t>
            </a:r>
            <a:endParaRPr b="1" lang="en-US" sz="5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5800"/>
                </a:solidFill>
                <a:latin typeface="Arial"/>
              </a:rPr>
              <a:t>важно сохранение членства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5800"/>
                </a:solidFill>
                <a:latin typeface="Arial"/>
              </a:rPr>
              <a:t>каждый должен участвовать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5800"/>
                </a:solidFill>
                <a:latin typeface="Arial"/>
              </a:rPr>
              <a:t>рекрутинг связан со всеми мероприятиями Ассоциации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5800"/>
                </a:solidFill>
                <a:latin typeface="Arial"/>
              </a:rPr>
              <a:t>важно хорошее планирование;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5800"/>
                </a:solidFill>
                <a:latin typeface="Arial"/>
              </a:rPr>
              <a:t>рекрутинг – это непрерывный процесс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32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3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632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63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6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Рекрутинг (вовлечение) и сохранение членов являются ключевым фактором выживания Ассоци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Четко знайте, что Ассоциация может предложить людям, и не бойтесь об этом говор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Развивайте навыки рекрутинга, со временем вам будет прощ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800"/>
                </a:solidFill>
                <a:latin typeface="Arial"/>
              </a:rPr>
              <a:t>Важен четкий план рекрутин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63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6320" y="5181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63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6-18T07:56:1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