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9D8B-37F8-4DC7-A4B3-02C922FF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13CE-DF56-4A7C-9489-5FA49828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5E6D-C09C-44AE-9E55-1E463994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A0C2-2418-4AB9-872B-D9C54C71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48A5-D89E-4FD8-83D1-C075953F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CA2-0CAC-49EE-B606-23BD8111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360-52B1-4B51-9EBA-6C5A9E41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6D1-8F41-43C9-B5C4-FE466A31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0E9F-4E49-490A-919C-BC2A4457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81A-40AE-4AFF-A893-51C045A0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00F2-480D-4A4D-8DEA-C180C0C0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76EF-C35F-437B-AB9F-3243DF43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02C5-E7AB-4602-BE1B-7CB4FA3CC9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0"/>
          <p:cNvSpPr/>
          <p:nvPr/>
        </p:nvSpPr>
        <p:spPr>
          <a:xfrm>
            <a:off x="228600" y="31680"/>
            <a:ext cx="8915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5"/>
          <p:cNvSpPr/>
          <p:nvPr/>
        </p:nvSpPr>
        <p:spPr>
          <a:xfrm>
            <a:off x="4203720" y="2378160"/>
            <a:ext cx="495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5800"/>
                </a:solidFill>
                <a:latin typeface="Verdana"/>
              </a:rPr>
              <a:t>Приглашаем на обед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6" descr=""/>
          <p:cNvPicPr/>
          <p:nvPr/>
        </p:nvPicPr>
        <p:blipFill>
          <a:blip r:embed="rId1"/>
          <a:stretch/>
        </p:blipFill>
        <p:spPr>
          <a:xfrm>
            <a:off x="0" y="1066680"/>
            <a:ext cx="4267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2-07-25T08:05:0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