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0DD-2AD0-46CD-BD57-EC7A861A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B34-869B-4231-8B78-4AF2E4D7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923-8D4E-4EB9-B165-3D1D2C4B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F160-0507-47FA-9371-86F39FF3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FBA-AF03-4B4D-9918-DC0AC129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75A-AFF1-4CDD-8DA6-09EDA2C3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CC7-A7B2-4CC2-970D-F157EAB1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5F8-86A1-4625-9893-0E6B1219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4F1-2841-4F4C-8247-DCBC581C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523-88BC-4C8B-A521-EC51FA2B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320-E7FE-426A-898E-AD120C4D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609-2A0E-4C5F-9FA8-7AC9240B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926B-D033-4419-8362-0EC105A4E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04760"/>
            <a:ext cx="8991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209680" y="2895480"/>
            <a:ext cx="4267080" cy="3581280"/>
            <a:chOff x="2209680" y="2895480"/>
            <a:chExt cx="4267080" cy="358128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209680" y="2895480"/>
              <a:ext cx="4041360" cy="353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5636520" y="5946480"/>
              <a:ext cx="840240" cy="53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838080" y="1004760"/>
            <a:ext cx="7315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5800"/>
                </a:solidFill>
                <a:latin typeface="Verdana"/>
              </a:rPr>
              <a:t>Кофе-пауз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3:21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