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800-5469-496B-90C8-35983E1F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9F1-8385-47E6-8836-B525633A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088-6053-4D51-BC74-DFE00988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BF3-2933-483D-BCFF-0E5E3020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1B36-1AB6-4280-9DA9-8A83C34C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CB5B-0958-4DC4-8DD3-462D3973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5632-2D9D-41C1-9DE3-9EC40288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BCC9-B4DC-4D07-84FF-50A0ADE4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04E6-D537-4A34-B7B3-85A8BF67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11E1-DC80-44E4-9EEC-2AA4985E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692B-DFF4-45C3-AB8F-81582EAF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A43-228E-4AF7-B844-57031B68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E9E4-BF8E-48C5-AA1C-B5C448DE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75C6-A006-4A05-B040-957F40D4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CA2C-2D9D-4B93-BD72-0B371280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F9FD-CDC9-4EC5-8DC8-738B2B9A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1C55-F172-426D-A2F3-A79FF2C3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B7B-6D1F-446D-A8F4-779E3307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F61-09FD-48B1-8612-EECC6DB7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077-D8C1-4331-A4D2-B7FE3750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E15-9893-4D6C-9FA4-2CF9C573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2B2-B63B-4EF3-BA0D-68D9453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BB9-78FE-4E81-88B9-DFA5770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1CC-8B0B-4468-B18C-14F960C8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DE22-FB5B-450C-9272-7FA02BADBA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C33-313F-497E-8741-67893C195C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9080" y="477720"/>
            <a:ext cx="90709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чет о реализации мини-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09920" y="4219200"/>
            <a:ext cx="5410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уководитель мини-проект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тепанова Н.В., МУЗ ГБ №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уратор: Кочеткова С.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ординатор: Дацюк С.Ф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77920" y="1628640"/>
            <a:ext cx="8686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«Омская профессиональная сестринская ассоциация – это наше настоящее и будущее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еминар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 Лидерство в переговорах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19" descr="DSC02833"/>
          <p:cNvPicPr/>
          <p:nvPr/>
        </p:nvPicPr>
        <p:blipFill>
          <a:blip r:embed="rId1"/>
          <a:stretch/>
        </p:blipFill>
        <p:spPr>
          <a:xfrm>
            <a:off x="1176480" y="1600200"/>
            <a:ext cx="3284280" cy="2189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DSC02834"/>
          <p:cNvPicPr/>
          <p:nvPr/>
        </p:nvPicPr>
        <p:blipFill>
          <a:blip r:embed="rId2"/>
          <a:stretch/>
        </p:blipFill>
        <p:spPr>
          <a:xfrm>
            <a:off x="5138640" y="160020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DSC02836"/>
          <p:cNvPicPr/>
          <p:nvPr/>
        </p:nvPicPr>
        <p:blipFill>
          <a:blip r:embed="rId3"/>
          <a:stretch/>
        </p:blipFill>
        <p:spPr>
          <a:xfrm>
            <a:off x="1176480" y="3941640"/>
            <a:ext cx="3284280" cy="2189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4" descr="DSC02838"/>
          <p:cNvPicPr/>
          <p:nvPr/>
        </p:nvPicPr>
        <p:blipFill>
          <a:blip r:embed="rId4"/>
          <a:stretch/>
        </p:blipFill>
        <p:spPr>
          <a:xfrm>
            <a:off x="5138640" y="394164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сти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ие сестры стали регулярно получать информацию о деятельности ассоци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илось отношение медицинских сестер к организ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лось количество членов ассоциации с 84% до 86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ие сестры стали активнее участвовать в мероприятиях проводимых ассоци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277920" y="2133720"/>
            <a:ext cx="8686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7756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Цель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влечь в члены ассоциации 5 человек участников семина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рмистрова Т. В.; Ненашева Н. А.; Николаева О. В.; Любавина Е. В.; Шиманская И. 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ысить информированность медицинских сестер о деятельности ассоци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43280" y="2775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ирование медицинских сестер о деятельности Омской профессиональной сестринской ассоциации, ассоциации медицинских сестер России, Международного совета медицинских сестер на семинарах и конферен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новление информации о деятельности ОПСА на стенде «Омская профессиональная сестринская ассоциация – наше вчера, сегодня, завтра» 1 раз в квар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7756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дение индивидуальных бесед с медицинскими сестрами, не являющимися членами ассоци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должить проведение семинаров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7756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ериод реализаци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сентября 2009г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апреля 2010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удалось сделать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влечено в члены ассоциации 5 медицинских сестер из участников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лучшилась информированность медицинских сестер о деятельности ОП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2775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Мероприятия, проведенные для достижения поставленных целе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аседании совета по сестринскому делу утвердили список и график проведения семинарских занятий «Лидерство в переговорах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 1 раз в квартал проводится обновление информации на стен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101_1412"/>
          <p:cNvPicPr/>
          <p:nvPr/>
        </p:nvPicPr>
        <p:blipFill>
          <a:blip r:embed="rId1"/>
          <a:stretch/>
        </p:blipFill>
        <p:spPr>
          <a:xfrm>
            <a:off x="5388120" y="4121280"/>
            <a:ext cx="278424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101_1403"/>
          <p:cNvPicPr/>
          <p:nvPr/>
        </p:nvPicPr>
        <p:blipFill>
          <a:blip r:embed="rId2"/>
          <a:stretch/>
        </p:blipFill>
        <p:spPr>
          <a:xfrm>
            <a:off x="5307120" y="1600200"/>
            <a:ext cx="294948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Мероприятия проведенные для достижения поставленных целе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52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а сестринская конференция на тему: «Медицинские сестры в авангарде инноваций». Присутствовало 85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 индивидуальные беседы с медицинскими сест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 семинар «Лидерство в переговорах» с 05.11.-10.12.2009г, в котором приняли участие 24 медицинские сес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101_1407"/>
          <p:cNvPicPr/>
          <p:nvPr/>
        </p:nvPicPr>
        <p:blipFill>
          <a:blip r:embed="rId1"/>
          <a:stretch/>
        </p:blipFill>
        <p:spPr>
          <a:xfrm>
            <a:off x="5307120" y="1600200"/>
            <a:ext cx="3441600" cy="255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101_1354"/>
          <p:cNvPicPr/>
          <p:nvPr/>
        </p:nvPicPr>
        <p:blipFill>
          <a:blip r:embed="rId2"/>
          <a:stretch/>
        </p:blipFill>
        <p:spPr>
          <a:xfrm>
            <a:off x="5307120" y="4259160"/>
            <a:ext cx="3441600" cy="255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6:55:19Z</dcterms:created>
  <dc:creator>User</dc:creator>
  <dc:description/>
  <dc:language>en-US</dc:language>
  <cp:lastModifiedBy>ОПСА</cp:lastModifiedBy>
  <dcterms:modified xsi:type="dcterms:W3CDTF">2012-07-25T08:00:47Z</dcterms:modified>
  <cp:revision>27</cp:revision>
  <dc:subject/>
  <dc:title>Отчет о реализации мини проекта участника регионального семинара международного проекта «Лидерство в переговорах» г. Омск</dc:title>
</cp:coreProperties>
</file>