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108-05D2-49F6-9E34-6A6AAB37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E3D-DA6E-4AB8-981D-21CC6600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C64A-7356-4297-B314-1D34ED5F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CA9B-3D9D-4506-912B-70DEC769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318960"/>
            <a:ext cx="8381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781-5846-4DD8-B560-B240F01D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FCF4-5145-48E8-8341-CDE03AE2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E52-7008-4B9A-97AA-9C2B4956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5F4-9D5A-4EE3-AC47-2E2D72E1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318960"/>
            <a:ext cx="8381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181-4C87-4E88-9E96-07C99673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C367-8E6F-48A2-B698-B2160346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E34-EC1D-4489-906B-F946932B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7AE-74AE-413D-B1C6-A8879855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Object 16"/>
          <p:cNvGraphicFramePr/>
          <p:nvPr/>
        </p:nvGraphicFramePr>
        <p:xfrm>
          <a:off x="0" y="237960"/>
          <a:ext cx="9144000" cy="73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7960"/>
                    <a:ext cx="914400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Rectangle 17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399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9d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867280" y="6536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657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863A-938A-450A-9D91-735DEE3DC34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6840" y="318960"/>
            <a:ext cx="8381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7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399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6" name="Object 18"/>
          <p:cNvGraphicFramePr/>
          <p:nvPr/>
        </p:nvGraphicFramePr>
        <p:xfrm>
          <a:off x="3240" y="0"/>
          <a:ext cx="9140760" cy="492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0"/>
                    <a:ext cx="914076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Text Box 14"/>
          <p:cNvSpPr/>
          <p:nvPr/>
        </p:nvSpPr>
        <p:spPr>
          <a:xfrm>
            <a:off x="4114800" y="586728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Rectangle 19"/>
          <p:cNvSpPr/>
          <p:nvPr/>
        </p:nvSpPr>
        <p:spPr>
          <a:xfrm>
            <a:off x="0" y="4869000"/>
            <a:ext cx="915516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9d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6840" y="318960"/>
            <a:ext cx="8381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"/>
          <p:cNvPicPr/>
          <p:nvPr/>
        </p:nvPicPr>
        <p:blipFill>
          <a:blip r:embed="rId1"/>
          <a:stretch/>
        </p:blipFill>
        <p:spPr>
          <a:xfrm>
            <a:off x="4067280" y="5880240"/>
            <a:ext cx="1225440" cy="573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тчет о реализации мини-проекта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«В единстве наша сила»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2009 – 2010 гг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06200" y="5446440"/>
            <a:ext cx="7273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уководитель мини-проекта: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Л.Протасова Главная медицинская сестра МУЗ ГБ № 6</a:t>
            </a:r>
            <a:endParaRPr b="1" lang="en-US" sz="2400" spc="-1" strike="noStrike">
              <a:solidFill>
                <a:srgbClr val="399d72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оординатор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С.Ф. Дацюк</a:t>
            </a:r>
            <a:endParaRPr b="1" lang="en-US" sz="2400" spc="-1" strike="noStrike">
              <a:solidFill>
                <a:srgbClr val="399d72"/>
              </a:solidFill>
              <a:latin typeface="Verdana"/>
            </a:endParaRPr>
          </a:p>
        </p:txBody>
      </p:sp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4562640" y="3414600"/>
            <a:ext cx="18720" cy="28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5"/>
          <p:cNvSpPr txBox="1"/>
          <p:nvPr/>
        </p:nvSpPr>
        <p:spPr>
          <a:xfrm>
            <a:off x="826920" y="1989000"/>
            <a:ext cx="756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99d72"/>
                    </a:gs>
                    <a:gs pos="100000">
                      <a:srgbClr val="9999ff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Благодарю за внимание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99d72"/>
                  </a:gs>
                  <a:gs pos="100000">
                    <a:srgbClr val="9999ff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3851280" y="5734080"/>
            <a:ext cx="1657440" cy="642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ижний колонтитул 4"/>
          <p:cNvSpPr/>
          <p:nvPr/>
        </p:nvSpPr>
        <p:spPr>
          <a:xfrm>
            <a:off x="5867280" y="653724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Номер слайда 5"/>
          <p:cNvSpPr/>
          <p:nvPr/>
        </p:nvSpPr>
        <p:spPr>
          <a:xfrm>
            <a:off x="365760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D49A-E73E-4477-9157-96C12EF4FE1D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8381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Цель проект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6407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85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1d528d"/>
                </a:solidFill>
                <a:latin typeface="Arial"/>
              </a:rPr>
              <a:t>Объединить и сплотить сестринский персонал учреждения МУЗ ГБ№6 для участия в сестринском движении</a:t>
            </a:r>
            <a:endParaRPr b="1" lang="en-US" sz="3400" spc="-1" strike="noStrike">
              <a:solidFill>
                <a:srgbClr val="399d72"/>
              </a:solidFill>
              <a:latin typeface="Verdana"/>
            </a:endParaRPr>
          </a:p>
          <a:p>
            <a:pPr marL="28800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99d72"/>
              </a:solidFill>
              <a:latin typeface="Verdana"/>
            </a:endParaRPr>
          </a:p>
          <a:p>
            <a:pPr marL="288000" indent="-288000">
              <a:lnSpc>
                <a:spcPct val="110000"/>
              </a:lnSpc>
              <a:spcBef>
                <a:spcPts val="85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1d528d"/>
                </a:solidFill>
                <a:latin typeface="Arial"/>
              </a:rPr>
              <a:t>Улучшить информированность медицинских сестер о деятельности ОПСА</a:t>
            </a:r>
            <a:endParaRPr b="1" lang="en-US" sz="3400" spc="-1" strike="noStrike">
              <a:solidFill>
                <a:srgbClr val="399d72"/>
              </a:solidFill>
              <a:latin typeface="Verdana"/>
            </a:endParaRPr>
          </a:p>
          <a:p>
            <a:pPr marL="28800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99d72"/>
              </a:solidFill>
              <a:latin typeface="Verdana"/>
            </a:endParaRPr>
          </a:p>
          <a:p>
            <a:pPr marL="28800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99d72"/>
              </a:solidFill>
              <a:latin typeface="Verdana"/>
            </a:endParaRPr>
          </a:p>
          <a:p>
            <a:pPr marL="28800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99d72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4"/>
          <p:cNvSpPr/>
          <p:nvPr/>
        </p:nvSpPr>
        <p:spPr>
          <a:xfrm>
            <a:off x="5867280" y="653724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Номер слайда 5"/>
          <p:cNvSpPr/>
          <p:nvPr/>
        </p:nvSpPr>
        <p:spPr>
          <a:xfrm>
            <a:off x="365760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F4BF-32D0-4A85-A94A-EEBED215074B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8381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адачи мини-проекта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AutoShape 46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AutoShape 47"/>
          <p:cNvSpPr/>
          <p:nvPr/>
        </p:nvSpPr>
        <p:spPr>
          <a:xfrm flipH="1" rot="5400000">
            <a:off x="-2016720" y="1910520"/>
            <a:ext cx="4032000" cy="3929040"/>
          </a:xfrm>
          <a:custGeom>
            <a:avLst/>
            <a:gdLst>
              <a:gd name="textAreaLeft" fmla="*/ -360 w 4032000"/>
              <a:gd name="textAreaRight" fmla="*/ 403200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399d72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AutoShape 49"/>
          <p:cNvSpPr/>
          <p:nvPr/>
        </p:nvSpPr>
        <p:spPr>
          <a:xfrm>
            <a:off x="2195640" y="4432320"/>
            <a:ext cx="6697440" cy="14446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готовить и установить информационный стенд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аша Ассоциация» и регулярно (1 раз квартал)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новлять информацию на стенде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AutoShape 50"/>
          <p:cNvSpPr/>
          <p:nvPr/>
        </p:nvSpPr>
        <p:spPr>
          <a:xfrm>
            <a:off x="2438280" y="2781360"/>
            <a:ext cx="6526440" cy="118584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лучшить информированность медицинских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стер о деятельности ОПС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AutoShape 51"/>
          <p:cNvSpPr/>
          <p:nvPr/>
        </p:nvSpPr>
        <p:spPr>
          <a:xfrm>
            <a:off x="1763640" y="1413000"/>
            <a:ext cx="6840720" cy="1079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еличить численность членов ОПСА с 51% до 76%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05" name="Group 60"/>
          <p:cNvGrpSpPr/>
          <p:nvPr/>
        </p:nvGrpSpPr>
        <p:grpSpPr>
          <a:xfrm>
            <a:off x="1042920" y="1628640"/>
            <a:ext cx="741600" cy="668520"/>
            <a:chOff x="1042920" y="1628640"/>
            <a:chExt cx="741600" cy="668520"/>
          </a:xfrm>
        </p:grpSpPr>
        <p:sp>
          <p:nvSpPr>
            <p:cNvPr id="106" name="Oval 61"/>
            <p:cNvSpPr/>
            <p:nvPr/>
          </p:nvSpPr>
          <p:spPr>
            <a:xfrm>
              <a:off x="1042920" y="1628640"/>
              <a:ext cx="741600" cy="668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7" name="Oval 62"/>
            <p:cNvSpPr/>
            <p:nvPr/>
          </p:nvSpPr>
          <p:spPr>
            <a:xfrm>
              <a:off x="1085040" y="1666080"/>
              <a:ext cx="656640" cy="591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8" name="Oval 63"/>
            <p:cNvSpPr/>
            <p:nvPr/>
          </p:nvSpPr>
          <p:spPr>
            <a:xfrm>
              <a:off x="1123560" y="1701360"/>
              <a:ext cx="579600" cy="52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" name="Oval 64"/>
            <p:cNvSpPr/>
            <p:nvPr/>
          </p:nvSpPr>
          <p:spPr>
            <a:xfrm>
              <a:off x="1123560" y="1701360"/>
              <a:ext cx="579600" cy="523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0" name="Oval 65"/>
            <p:cNvSpPr/>
            <p:nvPr/>
          </p:nvSpPr>
          <p:spPr>
            <a:xfrm>
              <a:off x="1161720" y="1735560"/>
              <a:ext cx="503280" cy="45468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" name="Oval 66"/>
            <p:cNvSpPr/>
            <p:nvPr/>
          </p:nvSpPr>
          <p:spPr>
            <a:xfrm>
              <a:off x="1161720" y="1735560"/>
              <a:ext cx="503280" cy="4546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2" name="Group 67"/>
          <p:cNvGrpSpPr/>
          <p:nvPr/>
        </p:nvGrpSpPr>
        <p:grpSpPr>
          <a:xfrm>
            <a:off x="1763640" y="3141720"/>
            <a:ext cx="750960" cy="703080"/>
            <a:chOff x="1763640" y="3141720"/>
            <a:chExt cx="750960" cy="703080"/>
          </a:xfrm>
        </p:grpSpPr>
        <p:sp>
          <p:nvSpPr>
            <p:cNvPr id="113" name="Oval 68"/>
            <p:cNvSpPr/>
            <p:nvPr/>
          </p:nvSpPr>
          <p:spPr>
            <a:xfrm>
              <a:off x="1763640" y="3141720"/>
              <a:ext cx="750960" cy="703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4" name="Oval 69"/>
            <p:cNvSpPr/>
            <p:nvPr/>
          </p:nvSpPr>
          <p:spPr>
            <a:xfrm>
              <a:off x="1806120" y="3181320"/>
              <a:ext cx="664920" cy="6224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5" name="Oval 70"/>
            <p:cNvSpPr/>
            <p:nvPr/>
          </p:nvSpPr>
          <p:spPr>
            <a:xfrm>
              <a:off x="1845360" y="3218040"/>
              <a:ext cx="586800" cy="55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6" name="Oval 71"/>
            <p:cNvSpPr/>
            <p:nvPr/>
          </p:nvSpPr>
          <p:spPr>
            <a:xfrm>
              <a:off x="1845360" y="3218040"/>
              <a:ext cx="586800" cy="550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7" name="Oval 72"/>
            <p:cNvSpPr/>
            <p:nvPr/>
          </p:nvSpPr>
          <p:spPr>
            <a:xfrm>
              <a:off x="1883880" y="3254400"/>
              <a:ext cx="509760" cy="47808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8" name="Oval 73"/>
            <p:cNvSpPr/>
            <p:nvPr/>
          </p:nvSpPr>
          <p:spPr>
            <a:xfrm>
              <a:off x="1883880" y="3254400"/>
              <a:ext cx="509760" cy="47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9" name="Group 74"/>
          <p:cNvGrpSpPr/>
          <p:nvPr/>
        </p:nvGrpSpPr>
        <p:grpSpPr>
          <a:xfrm>
            <a:off x="1476360" y="4653000"/>
            <a:ext cx="792000" cy="720720"/>
            <a:chOff x="1476360" y="4653000"/>
            <a:chExt cx="792000" cy="720720"/>
          </a:xfrm>
        </p:grpSpPr>
        <p:sp>
          <p:nvSpPr>
            <p:cNvPr id="120" name="Oval 75"/>
            <p:cNvSpPr/>
            <p:nvPr/>
          </p:nvSpPr>
          <p:spPr>
            <a:xfrm>
              <a:off x="1476360" y="4653000"/>
              <a:ext cx="792000" cy="7207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1" name="Oval 76"/>
            <p:cNvSpPr/>
            <p:nvPr/>
          </p:nvSpPr>
          <p:spPr>
            <a:xfrm>
              <a:off x="1521360" y="4693680"/>
              <a:ext cx="701280" cy="6382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2" name="Oval 77"/>
            <p:cNvSpPr/>
            <p:nvPr/>
          </p:nvSpPr>
          <p:spPr>
            <a:xfrm>
              <a:off x="1562760" y="4731480"/>
              <a:ext cx="618840" cy="56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3" name="Oval 78"/>
            <p:cNvSpPr/>
            <p:nvPr/>
          </p:nvSpPr>
          <p:spPr>
            <a:xfrm>
              <a:off x="1562760" y="4731480"/>
              <a:ext cx="618840" cy="5641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4" name="Oval 79"/>
            <p:cNvSpPr/>
            <p:nvPr/>
          </p:nvSpPr>
          <p:spPr>
            <a:xfrm>
              <a:off x="1603440" y="4768560"/>
              <a:ext cx="537480" cy="48996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5" name="Oval 80"/>
            <p:cNvSpPr/>
            <p:nvPr/>
          </p:nvSpPr>
          <p:spPr>
            <a:xfrm>
              <a:off x="1603440" y="4768560"/>
              <a:ext cx="537480" cy="48996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126" name="Picture 88" descr=""/>
          <p:cNvPicPr/>
          <p:nvPr/>
        </p:nvPicPr>
        <p:blipFill>
          <a:blip r:embed="rId1"/>
          <a:stretch/>
        </p:blipFill>
        <p:spPr>
          <a:xfrm>
            <a:off x="4562640" y="3414600"/>
            <a:ext cx="18720" cy="28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ижний колонтитул 4"/>
          <p:cNvSpPr/>
          <p:nvPr/>
        </p:nvSpPr>
        <p:spPr>
          <a:xfrm>
            <a:off x="5867280" y="653724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Номер слайда 5"/>
          <p:cNvSpPr/>
          <p:nvPr/>
        </p:nvSpPr>
        <p:spPr>
          <a:xfrm>
            <a:off x="365760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4552-424F-497A-A7F3-DCDDBB9E145D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068280"/>
            <a:ext cx="69832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01.09.2009г.    -  01.04.2010г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6407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grpSp>
        <p:nvGrpSpPr>
          <p:cNvPr id="131" name="Group 12"/>
          <p:cNvGrpSpPr/>
          <p:nvPr/>
        </p:nvGrpSpPr>
        <p:grpSpPr>
          <a:xfrm>
            <a:off x="971640" y="1125360"/>
            <a:ext cx="6841440" cy="1601640"/>
            <a:chOff x="971640" y="1125360"/>
            <a:chExt cx="6841440" cy="1601640"/>
          </a:xfrm>
        </p:grpSpPr>
        <p:grpSp>
          <p:nvGrpSpPr>
            <p:cNvPr id="132" name="Group 5"/>
            <p:cNvGrpSpPr/>
            <p:nvPr/>
          </p:nvGrpSpPr>
          <p:grpSpPr>
            <a:xfrm>
              <a:off x="971640" y="1268280"/>
              <a:ext cx="6841440" cy="1458720"/>
              <a:chOff x="971640" y="1268280"/>
              <a:chExt cx="6841440" cy="1458720"/>
            </a:xfrm>
          </p:grpSpPr>
          <p:sp>
            <p:nvSpPr>
              <p:cNvPr id="133" name="Oval 6"/>
              <p:cNvSpPr/>
              <p:nvPr/>
            </p:nvSpPr>
            <p:spPr>
              <a:xfrm>
                <a:off x="1046520" y="1314720"/>
                <a:ext cx="6766560" cy="141228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a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4" name="Oval 7"/>
              <p:cNvSpPr/>
              <p:nvPr/>
            </p:nvSpPr>
            <p:spPr>
              <a:xfrm>
                <a:off x="971640" y="1268280"/>
                <a:ext cx="6766560" cy="1411920"/>
              </a:xfrm>
              <a:prstGeom prst="ellipse">
                <a:avLst/>
              </a:prstGeom>
              <a:gradFill rotWithShape="0">
                <a:gsLst>
                  <a:gs pos="0">
                    <a:srgbClr val="d2d2ff"/>
                  </a:gs>
                  <a:gs pos="100000">
                    <a:srgbClr val="99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5" name="Oval 8"/>
            <p:cNvSpPr/>
            <p:nvPr/>
          </p:nvSpPr>
          <p:spPr>
            <a:xfrm>
              <a:off x="1293840" y="1125360"/>
              <a:ext cx="6124680" cy="1341720"/>
            </a:xfrm>
            <a:prstGeom prst="ellipse">
              <a:avLst/>
            </a:prstGeom>
            <a:gradFill rotWithShape="0">
              <a:gsLst>
                <a:gs pos="0">
                  <a:srgbClr val="1a4935"/>
                </a:gs>
                <a:gs pos="100000">
                  <a:srgbClr val="399d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6" name="Oval 9"/>
            <p:cNvSpPr/>
            <p:nvPr/>
          </p:nvSpPr>
          <p:spPr>
            <a:xfrm>
              <a:off x="1373040" y="1133640"/>
              <a:ext cx="5977080" cy="1307880"/>
            </a:xfrm>
            <a:prstGeom prst="ellipse">
              <a:avLst/>
            </a:prstGeom>
            <a:gradFill rotWithShape="0">
              <a:gsLst>
                <a:gs pos="0">
                  <a:srgbClr val="399d72">
                    <a:alpha val="0"/>
                  </a:srgbClr>
                </a:gs>
                <a:gs pos="100000">
                  <a:srgbClr val="badd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Oval 10"/>
            <p:cNvSpPr/>
            <p:nvPr/>
          </p:nvSpPr>
          <p:spPr>
            <a:xfrm>
              <a:off x="1434960" y="1146240"/>
              <a:ext cx="5686560" cy="1222200"/>
            </a:xfrm>
            <a:prstGeom prst="ellipse">
              <a:avLst/>
            </a:prstGeom>
            <a:gradFill rotWithShape="0">
              <a:gsLst>
                <a:gs pos="0">
                  <a:srgbClr val="2d7c5a"/>
                </a:gs>
                <a:gs pos="100000">
                  <a:srgbClr val="399d7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Oval 11"/>
            <p:cNvSpPr/>
            <p:nvPr/>
          </p:nvSpPr>
          <p:spPr>
            <a:xfrm>
              <a:off x="1735200" y="1173240"/>
              <a:ext cx="500688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9d7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39" name="Text Box 13"/>
          <p:cNvSpPr/>
          <p:nvPr/>
        </p:nvSpPr>
        <p:spPr>
          <a:xfrm>
            <a:off x="2124000" y="134136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ериод реализации мини-проекта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3"/>
          <p:cNvSpPr/>
          <p:nvPr/>
        </p:nvSpPr>
        <p:spPr>
          <a:xfrm>
            <a:off x="5867280" y="653724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365760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3741-4C30-45B3-B3BC-8064C175FBD7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8381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то удалось сдел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3" name="Group 44"/>
          <p:cNvGrpSpPr/>
          <p:nvPr/>
        </p:nvGrpSpPr>
        <p:grpSpPr>
          <a:xfrm>
            <a:off x="108000" y="978480"/>
            <a:ext cx="8785080" cy="5114520"/>
            <a:chOff x="108000" y="978480"/>
            <a:chExt cx="8785080" cy="5114520"/>
          </a:xfrm>
        </p:grpSpPr>
        <p:sp>
          <p:nvSpPr>
            <p:cNvPr id="144" name="AutoShape 32"/>
            <p:cNvSpPr/>
            <p:nvPr/>
          </p:nvSpPr>
          <p:spPr>
            <a:xfrm rot="6822000">
              <a:off x="864720" y="1660320"/>
              <a:ext cx="1728720" cy="366840"/>
            </a:xfrm>
            <a:prstGeom prst="rightArrow">
              <a:avLst>
                <a:gd name="adj1" fmla="val 50000"/>
                <a:gd name="adj2" fmla="val 117812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cecec"/>
                </a:gs>
                <a:gs pos="100000">
                  <a:srgbClr val="969696"/>
                </a:gs>
              </a:gsLst>
              <a:lin ang="20178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33"/>
            <p:cNvSpPr/>
            <p:nvPr/>
          </p:nvSpPr>
          <p:spPr>
            <a:xfrm>
              <a:off x="108000" y="2635200"/>
              <a:ext cx="2286000" cy="23050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305080"/>
                <a:gd name="textAreaBottom" fmla="*/ 2193480 h 2305080"/>
              </a:gdLst>
              <a:ahLst/>
              <a:rect l="textAreaLeft" t="textAreaTop" r="textAreaRight" b="textAreaBottom"/>
              <a:pathLst>
                <a:path w="21600" h="21780">
                  <a:moveTo>
                    <a:pt x="3600" y="0"/>
                  </a:moveTo>
                  <a:arcTo wR="3600" hR="3600" stAng="16200000" swAng="-5400000"/>
                  <a:lnTo>
                    <a:pt x="0" y="18180"/>
                  </a:lnTo>
                  <a:arcTo wR="3600" hR="3600" stAng="10800000" swAng="-5400000"/>
                  <a:lnTo>
                    <a:pt x="18000" y="217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5400000"/>
            </a:gradFill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Text Box 34"/>
            <p:cNvSpPr/>
            <p:nvPr/>
          </p:nvSpPr>
          <p:spPr>
            <a:xfrm>
              <a:off x="179280" y="2851200"/>
              <a:ext cx="20383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лучена поддержка главного врача в реализации мини-проект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35"/>
            <p:cNvSpPr/>
            <p:nvPr/>
          </p:nvSpPr>
          <p:spPr>
            <a:xfrm rot="5400000">
              <a:off x="1944000" y="2455920"/>
              <a:ext cx="3024360" cy="360360"/>
            </a:xfrm>
            <a:prstGeom prst="rightArrow">
              <a:avLst>
                <a:gd name="adj1" fmla="val 50000"/>
                <a:gd name="adj2" fmla="val 209815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cecec"/>
                </a:gs>
                <a:gs pos="100000">
                  <a:srgbClr val="969696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8" name="AutoShape 36"/>
            <p:cNvSpPr/>
            <p:nvPr/>
          </p:nvSpPr>
          <p:spPr>
            <a:xfrm>
              <a:off x="2484360" y="4148280"/>
              <a:ext cx="2303640" cy="187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ffff"/>
                </a:gs>
                <a:gs pos="50000">
                  <a:srgbClr val="ffffff"/>
                </a:gs>
                <a:gs pos="100000">
                  <a:srgbClr val="ccffff"/>
                </a:gs>
              </a:gsLst>
              <a:lin ang="5400000"/>
            </a:gra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9" name="Text Box 37"/>
            <p:cNvSpPr/>
            <p:nvPr/>
          </p:nvSpPr>
          <p:spPr>
            <a:xfrm>
              <a:off x="2340000" y="4435560"/>
              <a:ext cx="2592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зготовлен и установлен информационный стенд «Наша Ассоциация»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0" name="AutoShape 38"/>
            <p:cNvSpPr/>
            <p:nvPr/>
          </p:nvSpPr>
          <p:spPr>
            <a:xfrm rot="4818000">
              <a:off x="4384440" y="2203560"/>
              <a:ext cx="2516040" cy="360360"/>
            </a:xfrm>
            <a:prstGeom prst="rightArrow">
              <a:avLst>
                <a:gd name="adj1" fmla="val 50000"/>
                <a:gd name="adj2" fmla="val 17455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cecec"/>
                </a:gs>
                <a:gs pos="100000">
                  <a:srgbClr val="969696"/>
                </a:gs>
              </a:gsLst>
              <a:lin ang="582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AutoShape 39"/>
            <p:cNvSpPr/>
            <p:nvPr/>
          </p:nvSpPr>
          <p:spPr>
            <a:xfrm>
              <a:off x="4859280" y="3643200"/>
              <a:ext cx="2303640" cy="2449800"/>
            </a:xfrm>
            <a:custGeom>
              <a:avLst/>
              <a:gdLst>
                <a:gd name="textAreaLeft" fmla="*/ 112320 w 2303640"/>
                <a:gd name="textAreaRight" fmla="*/ 2191320 w 2303640"/>
                <a:gd name="textAreaTop" fmla="*/ 112320 h 2449800"/>
                <a:gd name="textAreaBottom" fmla="*/ 2337480 h 2449800"/>
              </a:gdLst>
              <a:ahLst/>
              <a:rect l="textAreaLeft" t="textAreaTop" r="textAreaRight" b="textAreaBottom"/>
              <a:pathLst>
                <a:path w="21600" h="22970">
                  <a:moveTo>
                    <a:pt x="3600" y="0"/>
                  </a:moveTo>
                  <a:arcTo wR="3600" hR="3600" stAng="16200000" swAng="-5400000"/>
                  <a:lnTo>
                    <a:pt x="0" y="19370"/>
                  </a:lnTo>
                  <a:arcTo wR="3600" hR="3600" stAng="10800000" swAng="-5400000"/>
                  <a:lnTo>
                    <a:pt x="18000" y="229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Text Box 40"/>
            <p:cNvSpPr/>
            <p:nvPr/>
          </p:nvSpPr>
          <p:spPr>
            <a:xfrm>
              <a:off x="4716360" y="3787920"/>
              <a:ext cx="25923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азначены ответственные лица за обновление информации на стенде (1 раз в квартал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AutoShape 41"/>
            <p:cNvSpPr/>
            <p:nvPr/>
          </p:nvSpPr>
          <p:spPr>
            <a:xfrm rot="2985000">
              <a:off x="5501160" y="1674000"/>
              <a:ext cx="1800360" cy="360360"/>
            </a:xfrm>
            <a:prstGeom prst="rightArrow">
              <a:avLst>
                <a:gd name="adj1" fmla="val 50000"/>
                <a:gd name="adj2" fmla="val 1249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cecec"/>
                </a:gs>
                <a:gs pos="100000">
                  <a:srgbClr val="969696"/>
                </a:gs>
              </a:gsLst>
              <a:lin ang="2418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4" name="AutoShape 42"/>
            <p:cNvSpPr/>
            <p:nvPr/>
          </p:nvSpPr>
          <p:spPr>
            <a:xfrm>
              <a:off x="7020000" y="1987560"/>
              <a:ext cx="1800000" cy="172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5400000"/>
            </a:gradFill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Text Box 43"/>
            <p:cNvSpPr/>
            <p:nvPr/>
          </p:nvSpPr>
          <p:spPr>
            <a:xfrm>
              <a:off x="7020000" y="2203560"/>
              <a:ext cx="1873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ривлечено в члены ОПСА   11 человек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ижний колонтитул 7"/>
          <p:cNvSpPr/>
          <p:nvPr/>
        </p:nvSpPr>
        <p:spPr>
          <a:xfrm>
            <a:off x="5867280" y="653724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Номер слайда 8"/>
          <p:cNvSpPr/>
          <p:nvPr/>
        </p:nvSpPr>
        <p:spPr>
          <a:xfrm>
            <a:off x="365760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6C90-E3DA-4084-87F1-F3E924DB1C48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1640" y="1413000"/>
            <a:ext cx="453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Mangal"/>
              </a:rPr>
              <a:t> </a:t>
            </a:r>
            <a:r>
              <a:rPr b="1" lang="ru-RU" sz="2800" spc="-1" strike="noStrike">
                <a:solidFill>
                  <a:srgbClr val="1d528d"/>
                </a:solidFill>
                <a:latin typeface="Mangal"/>
              </a:rPr>
              <a:t>Главная медицинская сестра С.Л.Протасова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99d72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Mangal"/>
              </a:rPr>
              <a:t> </a:t>
            </a:r>
            <a:r>
              <a:rPr b="1" lang="ru-RU" sz="2800" spc="-1" strike="noStrike">
                <a:solidFill>
                  <a:srgbClr val="1d528d"/>
                </a:solidFill>
                <a:latin typeface="Mangal"/>
              </a:rPr>
              <a:t>2 старших м/с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99d72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Mangal"/>
              </a:rPr>
              <a:t> </a:t>
            </a:r>
            <a:r>
              <a:rPr b="1" lang="ru-RU" sz="2800" spc="-1" strike="noStrike">
                <a:solidFill>
                  <a:srgbClr val="1d528d"/>
                </a:solidFill>
                <a:latin typeface="Mangal"/>
              </a:rPr>
              <a:t>3 процедурных м/с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99d72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Mangal"/>
              </a:rPr>
              <a:t> </a:t>
            </a:r>
            <a:r>
              <a:rPr b="1" lang="ru-RU" sz="2800" spc="-1" strike="noStrike">
                <a:solidFill>
                  <a:srgbClr val="1d528d"/>
                </a:solidFill>
                <a:latin typeface="Mangal"/>
              </a:rPr>
              <a:t>3 акушерки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99d72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Mangal"/>
              </a:rPr>
              <a:t> </a:t>
            </a:r>
            <a:r>
              <a:rPr b="1" lang="ru-RU" sz="2800" spc="-1" strike="noStrike">
                <a:solidFill>
                  <a:srgbClr val="1d528d"/>
                </a:solidFill>
                <a:latin typeface="Mangal"/>
              </a:rPr>
              <a:t>2 фельдшера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99d7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6840" y="318960"/>
            <a:ext cx="8381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частники проект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11" descr="DSC02470"/>
          <p:cNvPicPr/>
          <p:nvPr/>
        </p:nvPicPr>
        <p:blipFill>
          <a:blip r:embed="rId1"/>
          <a:stretch/>
        </p:blipFill>
        <p:spPr>
          <a:xfrm>
            <a:off x="34920" y="981000"/>
            <a:ext cx="4608360" cy="34578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2"/>
          <p:cNvSpPr/>
          <p:nvPr/>
        </p:nvSpPr>
        <p:spPr>
          <a:xfrm>
            <a:off x="0" y="5013360"/>
            <a:ext cx="8675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Mangal"/>
              </a:rPr>
              <a:t>14 человек являются медицинскими сестрами профильных подразделений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7"/>
          <p:cNvSpPr/>
          <p:nvPr/>
        </p:nvSpPr>
        <p:spPr>
          <a:xfrm>
            <a:off x="5867280" y="653724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Номер слайда 8"/>
          <p:cNvSpPr/>
          <p:nvPr/>
        </p:nvSpPr>
        <p:spPr>
          <a:xfrm>
            <a:off x="365760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2F48-F39D-4F53-A27D-2D2FF29D4E7F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8381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Мероприятия, проведенные для достижения поставленных целей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67280" y="1700280"/>
            <a:ext cx="4789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бщебольничная сестринская конференция «Роль и значимость ОПСА в развитии сестринского дела»</a:t>
            </a:r>
            <a:endParaRPr b="1" lang="en-US" sz="20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4211640" y="4219560"/>
            <a:ext cx="468144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оведены семинарские занятия «Лидерство в переговорах по 16,5 – часовой программе с 01.09.09г.  По 01.04.10г.». К проведению занятий были привлечены 24 медицинских работник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68" name="Picture 27" descr="DSC02460"/>
          <p:cNvPicPr/>
          <p:nvPr/>
        </p:nvPicPr>
        <p:blipFill>
          <a:blip r:embed="rId1"/>
          <a:stretch/>
        </p:blipFill>
        <p:spPr>
          <a:xfrm>
            <a:off x="108000" y="3743280"/>
            <a:ext cx="3816360" cy="2854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8" descr="DSC02446"/>
          <p:cNvPicPr/>
          <p:nvPr/>
        </p:nvPicPr>
        <p:blipFill>
          <a:blip r:embed="rId2"/>
          <a:stretch/>
        </p:blipFill>
        <p:spPr>
          <a:xfrm>
            <a:off x="108000" y="990720"/>
            <a:ext cx="3887640" cy="2809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ижний колонтитул 4"/>
          <p:cNvSpPr/>
          <p:nvPr/>
        </p:nvSpPr>
        <p:spPr>
          <a:xfrm>
            <a:off x="5867280" y="653724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Номер слайда 5"/>
          <p:cNvSpPr/>
          <p:nvPr/>
        </p:nvSpPr>
        <p:spPr>
          <a:xfrm>
            <a:off x="365760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A96B-7FAE-4EF5-B3E8-8699B988F285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8381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Мероприятия, проведенные для достижения поставленных целей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4032000" cy="2230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DSC02517"/>
          <p:cNvPicPr/>
          <p:nvPr/>
        </p:nvPicPr>
        <p:blipFill>
          <a:blip r:embed="rId2"/>
          <a:stretch/>
        </p:blipFill>
        <p:spPr>
          <a:xfrm>
            <a:off x="324000" y="3500280"/>
            <a:ext cx="4032000" cy="2799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4643280" y="1557360"/>
            <a:ext cx="4249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Изготовили и установили информационный стенд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«Наша Ассоциация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716360" y="3586320"/>
            <a:ext cx="424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азначили ответственных лиц за обновление информации на стенде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ижний колонтитул 4"/>
          <p:cNvSpPr/>
          <p:nvPr/>
        </p:nvSpPr>
        <p:spPr>
          <a:xfrm>
            <a:off x="5867280" y="653724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Номер слайда 5"/>
          <p:cNvSpPr/>
          <p:nvPr/>
        </p:nvSpPr>
        <p:spPr>
          <a:xfrm>
            <a:off x="365760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1CFD-29B5-43BD-9CB4-AA456D1FC2D4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8381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Достижения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Повысилась информированность о значении деятельности ОПСА в продвижении сестринского дела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79280" y="3141720"/>
            <a:ext cx="8713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Увеличилось количество членов Омской профессиональной сестринской ассоциации МУЗ «Городская больница №6» с 51% до 81%</a:t>
            </a:r>
            <a:br>
              <a:rPr sz="2800"/>
            </a:b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79280" y="4869000"/>
            <a:ext cx="6985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Изготовили и установили информационный стенд «Наша Ассоциация»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8:20:11Z</dcterms:created>
  <dc:creator>Пользователь</dc:creator>
  <dc:description/>
  <dc:language>en-US</dc:language>
  <cp:lastModifiedBy>ОПСА</cp:lastModifiedBy>
  <dcterms:modified xsi:type="dcterms:W3CDTF">2012-07-25T08:00:35Z</dcterms:modified>
  <cp:revision>23</cp:revision>
  <dc:subject/>
  <dc:title>PowerPoint Template</dc:title>
</cp:coreProperties>
</file>