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й региональный семинар "Лидерство в переговорах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DDBB-DB69-4E08-87CA-90F3EF50BD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региональный семинар "Лидерство в переговорах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9CF-FE26-44B7-882C-EA7E7B77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278-4D6C-475B-9BA4-7A6DE8ED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86633-1C4D-42FE-8B4C-3E091E5D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66FA0-E6BE-4C25-A34A-7DD4FFE6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AE7E2-2480-47DE-AEEE-92A71001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7B0AC-F4B3-4E86-8D26-54AD8D1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F5ECC-C52C-4A84-87E7-9E9F7CC1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F57DC-9B0B-477A-8A08-9A62878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BF629-5D80-45CE-AF8D-7AD41483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7772B-22BB-4F07-972D-2926B485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E7585-135B-4AB4-A498-A3F4CBC5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96ED5-B301-43D2-B53F-A84300FD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BC6-4008-4185-8E3F-8C3CA145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F9ECE-5AD7-4064-9D43-58B4E21F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D5687-49D0-482B-97A6-8F60952D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79812-B211-4703-9EF8-B6D8E732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7B69A-BBE5-4FE1-BD80-D413D8D8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DED66-592D-48A7-8A90-641C0DD6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15EF3-1C5D-4FD5-B874-A64EFC21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5F252-79C5-468D-B3EA-74AD3E7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3850F-D41B-46B4-BA54-7F8F1E2C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F7175-A9A9-4EE9-B686-43D5D1FD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999B2-6466-4191-9531-AFE49166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0BA-9148-426E-BFDC-7E24290A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CD235-CD25-49F0-A0C7-7C5BB178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C5006-5F55-4409-B312-FDEF53EB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1D6A0-A723-4BAC-9919-14A5665B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FE4C0-847D-4C95-88D5-B6B3362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1462D-20CF-4220-85E6-C4DFB193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C53BA-75B4-4BAF-993E-76E288EA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E8287-2D0B-4F4A-9A95-B8DB510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CD96D-DDBF-4AB2-9CB9-8225BDE9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94A49-3F0C-47BB-9880-BC916D20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AC23A-0E67-4D97-8AFD-DAD093F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A1EC-45D8-4062-B222-D15C17FC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42486-6D7E-42F4-999E-4B601947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63345-4DC4-447E-B178-D0AB79D7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C3842-3F1F-4E82-815B-4C3D6B05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39E1E-096C-49CB-A27B-DF5C2AB1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EDC32-B152-4E67-AD8D-02FFDEA7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C66E1-4FE9-44F1-BB51-28C24FC8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40D18-DD19-48AE-BC65-BD070C85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19C5C-4F46-4573-A0A7-D84E517A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F155A-74A9-45D8-81A0-989C70B7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F7D74-8304-4BDB-8048-C4B58CB4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58CF-AB31-42A2-8465-8526DD15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BC4E5-C98E-42D3-A4E3-F0B3B13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73956-DC73-4E64-BABD-71017055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C8628-404C-4F05-9DB3-BDB63DD3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A076C-449F-4B15-A45C-1B5C60D2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36F6D-5059-437B-B424-1DD2BC7D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0A88-4F3E-444F-9A4F-8FD93BD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FC25-68E3-4C99-8F27-13A03550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77DB-2CF7-4DE7-A1CE-A54565C5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3F3B-1337-49FD-979C-AC969E82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598F-ED3B-4296-9CC9-3650DB4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728-62CD-430D-8456-FE45D0C3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EC58-05F0-46CC-9BDB-81267E2A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546B-D57E-4A4D-BD58-0C04A5E9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5EAC-D96B-49F9-9511-2B0A9511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6287-1F6B-4740-9849-9BEA97E5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A8AC-3159-47D8-BE96-33D722E1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7730-DBF1-46C9-B153-0E9219FF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93EB-F651-4A6F-9754-AD88EBB4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61C0-C8A4-409F-8E96-2BD7330A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2B2B-992A-4F63-826E-9E9EDC2D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0A3F-02E5-4476-B66A-43C0BB8F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B4C-DC11-4870-B45E-2FC85E6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B2C6-04E7-4479-9547-477F9B7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31BD-3DC2-4F3A-ACD0-AA246C8D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0CF5-21E3-4C2A-BAF4-8661E20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B6BB-234E-42E5-BB81-A91AC264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9362-7723-4418-BF9B-30D235B6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7FB7-C225-422C-B1A6-BED7A4D4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C205-6C66-40D4-BCF1-E01710C3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BAAB-1D6F-41A4-862E-D7F6DD01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8A3CD-F466-48BA-8935-B8AC61A5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7D56-618C-48DD-9C05-ADA2E251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C11-440F-47E0-BCAC-B58DBE11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7B128-D32B-4D55-B12C-EEA5C8C4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6DCE-E6FC-4C3B-9785-7C2597B5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3F620-F34C-417E-BD29-84A129B6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0267F-D726-4E66-A66D-739AD337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4ED6-C1AF-408E-811C-8895AD6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42C7-6094-44FB-ACC2-968F09AC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3FA9-7B68-41A0-AADD-321734E4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AFA45-9D09-478F-9ABE-58B7912B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F751-1B82-4FF3-B254-85F9FAD2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AC1B9-7D6D-429F-B4D7-D85BBF95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8E8-70AC-490B-A5A9-2BEE4B9F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8CB5-3580-4D07-B23E-3DE05823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629D1-8C27-4A86-BE43-C53B9D70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72B5-C6D0-42BF-83B6-3FD8494C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FE22-E9CA-4127-87D5-9C896465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2734-5CAD-4F5D-A6F9-926726E5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10F20-877F-49E6-8A28-24BFB406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5FDCB-FC93-4102-AB1B-1369EAEA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F9636-EF01-4393-8975-F36304DF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6E99-3F64-4384-AE90-455054C9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B7A42-F9A6-416E-B875-9214E02E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C74-0C58-414C-9A1F-64ABF006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9BDA-4ECF-452D-A99B-9AA6DC2C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AD7F-01D3-4637-B63A-22C5CCDC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C27DA-B3A1-4411-BC9A-E76AB039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89D7-5511-4CA0-BC1D-73CC530A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0C71F-4A97-4AD1-AB0C-3A5C1A2D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CF085-E6E9-47F2-BC42-8B1AC001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71BAC-24D6-446F-9564-3346973E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8D0CB-D7F6-487F-AD90-DA30037E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67E68-3619-439C-8FC6-17DB4BFB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A1F34-1F2B-4221-9108-91CC3F6A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5B7-9554-4A8C-80F1-A20816B7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8E02A-AC15-4A4C-9364-CE1881E4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CD0EB-AE0D-45EE-960D-92EDD374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90609-9976-4756-9081-4B07563F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94B27-55C4-43F0-AAC3-E8B462A8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357AB-ED1D-4050-89A8-C2C07ADB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EC915-F8F0-4278-BE48-B3B88B6C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06495-D171-47AD-82BF-66762701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CD79A-8312-4232-92A5-C5B28CB9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071B0-F723-49CE-A19C-4BEAAA5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8DFB-5CAD-43EE-A01E-B2E7F3B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2E2-F6B0-46EF-ABC6-A9DA2E12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095DF-CA73-401E-A35A-40B69651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2451A-42FE-4662-95C4-153044DC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5FBFA-EFE1-4010-96D8-D2C16B1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8E65F-6E8A-478C-95D3-6C427623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E209-F274-4ACB-98B9-ACCE9301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D4041-63FC-442D-92E4-198417FA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837A8-2350-4CA1-AA25-57483561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C1D31-ECC3-475D-90F1-B047A15E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CECB4-6348-445D-B807-981206DD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8689B-CFCF-4A3F-8B3A-83DDCC8D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FB0-72DF-4BD6-AF8B-1CB5A7B1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D3800-2A58-4484-82C6-BF835280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BD782-9C1B-43FC-9EED-57E5A9F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A8776-C1C3-4010-91B3-D30AC1D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BF67B-3BB9-4314-A03A-F58E1F7C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3972A-CC54-448D-9208-3745073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C6A58-967F-4C5F-93C9-66EBC5FB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3BB71-F3A8-4B4F-941C-0B1F4B8C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50377-52B4-4A42-BA80-682FABDA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CCD19-4A15-4F83-A0E3-9C224C14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EA2D8-646D-4895-96FF-A64651BC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66B0-8039-41C0-BDCA-FAD68E13BD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E32B-011E-4B7B-B241-65B803FA3B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FCC4-5411-437F-99C2-2F4132C21C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8A5-81EE-4E75-8A60-7DF5D56A64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0CAE-C54D-4C76-B107-F798C88B39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77AA-3D22-4C6D-A15B-792D5AF492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38A4-FEE2-4F15-99B6-8A6EAC3FE6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4149-F140-4AFB-8554-349DCAA66D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594-AC06-4BDB-8E5C-7E310A303A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F53D-A5E6-44B1-A664-BB4808F6A8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EDB0-FB71-40D4-B608-A92C40CC4E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CA4C-1855-43B6-BE80-E74F431433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0" y="51055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Arial"/>
              </a:rPr>
              <a:t>Руководитель мини-проекта: Сергеева Е.А.,         МУЗ «Одесская ЦРБ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Arial"/>
              </a:rPr>
              <a:t>Куратор: Муся Н.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Arial"/>
              </a:rPr>
              <a:t>Координатор: Мысикова Г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D:\фото\цветочки\IMG_2844.jpg"/>
          <p:cNvPicPr/>
          <p:nvPr/>
        </p:nvPicPr>
        <p:blipFill>
          <a:blip r:embed="rId1"/>
          <a:stretch/>
        </p:blipFill>
        <p:spPr>
          <a:xfrm>
            <a:off x="0" y="1752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4"/>
          <p:cNvSpPr/>
          <p:nvPr/>
        </p:nvSpPr>
        <p:spPr>
          <a:xfrm>
            <a:off x="2743200" y="990720"/>
            <a:ext cx="6248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d0d0d"/>
                </a:solidFill>
                <a:latin typeface="Arial"/>
              </a:rPr>
              <a:t>Отчет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d0d0d"/>
                </a:solidFill>
                <a:latin typeface="Arial"/>
              </a:rPr>
              <a:t>о реализации мини-проекта «В единстве – наша сила!»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d0d0d"/>
                </a:solidFill>
                <a:latin typeface="Arial"/>
              </a:rPr>
              <a:t>2009 – 2010 гг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Прямоугольник 3" descr=""/>
          <p:cNvPicPr/>
          <p:nvPr/>
        </p:nvPicPr>
        <p:blipFill>
          <a:blip r:embed="rId1"/>
          <a:stretch/>
        </p:blipFill>
        <p:spPr>
          <a:xfrm>
            <a:off x="146160" y="1341360"/>
            <a:ext cx="8845560" cy="4011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620720"/>
            <a:ext cx="8399520" cy="293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Прямоугольник 1" descr=""/>
          <p:cNvPicPr/>
          <p:nvPr/>
        </p:nvPicPr>
        <p:blipFill>
          <a:blip r:embed="rId1"/>
          <a:stretch/>
        </p:blipFill>
        <p:spPr>
          <a:xfrm>
            <a:off x="12600" y="835200"/>
            <a:ext cx="8979120" cy="6035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Прямоугольник 2" descr=""/>
          <p:cNvPicPr/>
          <p:nvPr/>
        </p:nvPicPr>
        <p:blipFill>
          <a:blip r:embed="rId1"/>
          <a:stretch/>
        </p:blipFill>
        <p:spPr>
          <a:xfrm>
            <a:off x="304920" y="2097000"/>
            <a:ext cx="8607240" cy="201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Прямоугольник 2" descr=""/>
          <p:cNvPicPr/>
          <p:nvPr/>
        </p:nvPicPr>
        <p:blipFill>
          <a:blip r:embed="rId1"/>
          <a:stretch/>
        </p:blipFill>
        <p:spPr>
          <a:xfrm>
            <a:off x="1414440" y="914400"/>
            <a:ext cx="6827760" cy="944640"/>
          </a:xfrm>
          <a:prstGeom prst="rect">
            <a:avLst/>
          </a:prstGeom>
          <a:ln w="0">
            <a:noFill/>
          </a:ln>
        </p:spPr>
      </p:pic>
      <p:sp>
        <p:nvSpPr>
          <p:cNvPr id="506" name="Содержимое 1"/>
          <p:cNvSpPr/>
          <p:nvPr/>
        </p:nvSpPr>
        <p:spPr>
          <a:xfrm>
            <a:off x="0" y="2209680"/>
            <a:ext cx="90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0c0"/>
                </a:solidFill>
                <a:latin typeface="Arial"/>
              </a:rPr>
              <a:t>1. Получена поддержка главного врача в реализации мини-проект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одержимое 1"/>
          <p:cNvSpPr/>
          <p:nvPr/>
        </p:nvSpPr>
        <p:spPr>
          <a:xfrm>
            <a:off x="0" y="34290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0c0"/>
                </a:solidFill>
                <a:latin typeface="Arial"/>
              </a:rPr>
              <a:t>2. Обновление информации на стенде - 1 раз в 3 месяц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0c0"/>
                </a:solidFill>
                <a:latin typeface="Arial"/>
              </a:rPr>
              <a:t>3. Проведение </a:t>
            </a:r>
            <a:r>
              <a:rPr b="1" lang="en-US" sz="2900" spc="-1" strike="noStrike">
                <a:solidFill>
                  <a:srgbClr val="0070c0"/>
                </a:solidFill>
                <a:latin typeface="Arial"/>
              </a:rPr>
              <a:t>II </a:t>
            </a:r>
            <a:r>
              <a:rPr b="1" lang="ru-RU" sz="2900" spc="-1" strike="noStrike">
                <a:solidFill>
                  <a:srgbClr val="0070c0"/>
                </a:solidFill>
                <a:latin typeface="Arial"/>
              </a:rPr>
              <a:t>семинара «Лидерство в переговорах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Прямоугольник 2" descr=""/>
          <p:cNvPicPr/>
          <p:nvPr/>
        </p:nvPicPr>
        <p:blipFill>
          <a:blip r:embed="rId1"/>
          <a:stretch/>
        </p:blipFill>
        <p:spPr>
          <a:xfrm>
            <a:off x="79200" y="841320"/>
            <a:ext cx="8985600" cy="555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E:\IMG_3588.JPG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41464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D:\фото\Новая папка\IMG_3546.JPG"/>
          <p:cNvPicPr/>
          <p:nvPr/>
        </p:nvPicPr>
        <p:blipFill>
          <a:blip r:embed="rId2"/>
          <a:stretch/>
        </p:blipFill>
        <p:spPr>
          <a:xfrm>
            <a:off x="762120" y="0"/>
            <a:ext cx="4495680" cy="3456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\\Тамара\папка обмена\фото общ\IMG_3720.jpg"/>
          <p:cNvPicPr/>
          <p:nvPr/>
        </p:nvPicPr>
        <p:blipFill>
          <a:blip r:embed="rId3"/>
          <a:stretch/>
        </p:blipFill>
        <p:spPr>
          <a:xfrm>
            <a:off x="0" y="325764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E:\IMG_3571.JPG"/>
          <p:cNvPicPr/>
          <p:nvPr/>
        </p:nvPicPr>
        <p:blipFill>
          <a:blip r:embed="rId1"/>
          <a:stretch/>
        </p:blipFill>
        <p:spPr>
          <a:xfrm>
            <a:off x="0" y="0"/>
            <a:ext cx="4495680" cy="35812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E:\IMG_3580.JPG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83220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5" descr="IMG_3583.JPG"/>
          <p:cNvPicPr/>
          <p:nvPr/>
        </p:nvPicPr>
        <p:blipFill>
          <a:blip r:embed="rId3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\\Тамара\папка обмена\фото общ\IMG_3688.jpg"/>
          <p:cNvPicPr/>
          <p:nvPr/>
        </p:nvPicPr>
        <p:blipFill>
          <a:blip r:embed="rId4"/>
          <a:stretch/>
        </p:blipFill>
        <p:spPr>
          <a:xfrm>
            <a:off x="4495680" y="3138480"/>
            <a:ext cx="4648320" cy="37195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719280"/>
            <a:ext cx="8601120" cy="3395520"/>
          </a:xfrm>
          <a:prstGeom prst="rect">
            <a:avLst/>
          </a:prstGeom>
          <a:ln w="0">
            <a:noFill/>
          </a:ln>
        </p:spPr>
      </p:pic>
      <p:pic>
        <p:nvPicPr>
          <p:cNvPr id="517" name="Таблица 4" descr=""/>
          <p:cNvPicPr/>
          <p:nvPr/>
        </p:nvPicPr>
        <p:blipFill>
          <a:blip r:embed="rId2"/>
          <a:stretch/>
        </p:blipFill>
        <p:spPr>
          <a:xfrm>
            <a:off x="1219320" y="4346640"/>
            <a:ext cx="7003800" cy="2511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4:01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