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DE4D-7E09-4D01-A4DC-43FAE545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704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160" y="3922200"/>
            <a:ext cx="704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AAC97-6FEC-4F75-BD37-40416667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392220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88040" y="392220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4AC79-FB14-4151-B356-B0E90E30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59360" y="129528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2920" y="129528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160" y="392220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59360" y="392220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42920" y="392220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C1F5C-FD70-46BB-BDE5-35587D8B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2EE6-C36E-4A77-BB3F-C1E91DB3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72A4-6E38-4757-9615-279E5EA0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00A0-B488-4C7C-8A37-B498D8F9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3BE5-0916-4BE4-B011-32E230CC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4697-D91E-43DC-8938-E0EC31A5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45720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D295-3B54-40C6-80EB-C601779B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76160" y="392220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E1D8-4082-4A4B-B80D-62B85F43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D7845-F21B-4B48-B211-71C3008B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88040" y="392220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4497-8F87-4E0D-93D1-18F1A402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76160" y="3922200"/>
            <a:ext cx="704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9AFB-9E2E-46A2-9AE3-A9EFB2F3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704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676160" y="3922200"/>
            <a:ext cx="704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A49D-BB9F-4913-8CC8-C7FDDED3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76160" y="392220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88040" y="392220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406F-2E8E-4B6C-8032-4E9E044A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59360" y="129528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2920" y="129528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676160" y="392220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059360" y="392220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2920" y="392220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1944-A943-406F-8D34-F2218E11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9A9FD-B0A6-4A42-AC05-ECF94EB6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2FC89-40A3-4781-94E4-736903E4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06413-0F57-4D07-9A64-2870AE7B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45720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2DB90-EA26-49A6-8062-CF2C8BC6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160" y="392220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AB65-76C3-49E5-9735-57DC94A9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88040" y="392220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03465-4087-4B40-AC4F-484917E1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160" y="3922200"/>
            <a:ext cx="704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A4658-6842-4A1B-A660-C4D21B0A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2"/>
          <p:cNvGraphicFramePr/>
          <p:nvPr/>
        </p:nvGraphicFramePr>
        <p:xfrm>
          <a:off x="0" y="0"/>
          <a:ext cx="18288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828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0c6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4ca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53400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4264-2477-472A-9726-B10447BC04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228600" y="15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0c6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4ca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805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638680" y="6400440"/>
            <a:ext cx="3135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a0c6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a0c6f8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3505320" y="640044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7B67-1B6C-47F2-863D-946EA3C705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image" Target="../media/image8.jpeg"/><Relationship Id="rId9" Type="http://schemas.openxmlformats.org/officeDocument/2006/relationships/image" Target="../media/image6.jpeg"/><Relationship Id="rId10" Type="http://schemas.openxmlformats.org/officeDocument/2006/relationships/image" Target="../media/image5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6.jpe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5638680" y="6400800"/>
            <a:ext cx="3135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a0c6f8"/>
                </a:solidFill>
                <a:latin typeface="Arial"/>
              </a:rPr>
              <a:t>www.themegallery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2971800" y="2895480"/>
            <a:ext cx="2936880" cy="380520"/>
            <a:chOff x="2971800" y="2895480"/>
            <a:chExt cx="2936880" cy="380520"/>
          </a:xfrm>
        </p:grpSpPr>
        <p:grpSp>
          <p:nvGrpSpPr>
            <p:cNvPr id="87" name="Group 4"/>
            <p:cNvGrpSpPr/>
            <p:nvPr/>
          </p:nvGrpSpPr>
          <p:grpSpPr>
            <a:xfrm>
              <a:off x="2971800" y="3103200"/>
              <a:ext cx="2936880" cy="172800"/>
              <a:chOff x="2971800" y="3103200"/>
              <a:chExt cx="2936880" cy="172800"/>
            </a:xfrm>
          </p:grpSpPr>
          <p:sp>
            <p:nvSpPr>
              <p:cNvPr id="88" name="Line 5"/>
              <p:cNvSpPr/>
              <p:nvPr/>
            </p:nvSpPr>
            <p:spPr>
              <a:xfrm>
                <a:off x="2971800" y="3200760"/>
                <a:ext cx="2819520" cy="0"/>
              </a:xfrm>
              <a:prstGeom prst="line">
                <a:avLst/>
              </a:prstGeom>
              <a:ln w="9360">
                <a:solidFill>
                  <a:srgbClr val="8b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6"/>
              <p:cNvSpPr/>
              <p:nvPr/>
            </p:nvSpPr>
            <p:spPr>
              <a:xfrm>
                <a:off x="5791320" y="3103200"/>
                <a:ext cx="117360" cy="172800"/>
              </a:xfrm>
              <a:prstGeom prst="ellipse">
                <a:avLst/>
              </a:prstGeom>
              <a:gradFill rotWithShape="0">
                <a:gsLst>
                  <a:gs pos="0">
                    <a:srgbClr val="a0c6f8"/>
                  </a:gs>
                  <a:gs pos="100000">
                    <a:srgbClr val="4a5c7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Line 7"/>
            <p:cNvSpPr/>
            <p:nvPr/>
          </p:nvSpPr>
          <p:spPr>
            <a:xfrm>
              <a:off x="2971800" y="2895480"/>
              <a:ext cx="0" cy="293040"/>
            </a:xfrm>
            <a:prstGeom prst="line">
              <a:avLst/>
            </a:prstGeom>
            <a:ln w="9360">
              <a:solidFill>
                <a:srgbClr val="8b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8"/>
          <p:cNvGrpSpPr/>
          <p:nvPr/>
        </p:nvGrpSpPr>
        <p:grpSpPr>
          <a:xfrm>
            <a:off x="5943600" y="1447560"/>
            <a:ext cx="2742480" cy="380880"/>
            <a:chOff x="5943600" y="1447560"/>
            <a:chExt cx="2742480" cy="380880"/>
          </a:xfrm>
        </p:grpSpPr>
        <p:sp>
          <p:nvSpPr>
            <p:cNvPr id="92" name="Line 9"/>
            <p:cNvSpPr/>
            <p:nvPr/>
          </p:nvSpPr>
          <p:spPr>
            <a:xfrm flipH="1">
              <a:off x="6067800" y="1527120"/>
              <a:ext cx="2618280" cy="0"/>
            </a:xfrm>
            <a:prstGeom prst="line">
              <a:avLst/>
            </a:prstGeom>
            <a:ln w="9360">
              <a:solidFill>
                <a:srgbClr val="8b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0"/>
            <p:cNvSpPr/>
            <p:nvPr/>
          </p:nvSpPr>
          <p:spPr>
            <a:xfrm rot="10800000">
              <a:off x="5943600" y="1447560"/>
              <a:ext cx="124560" cy="176760"/>
            </a:xfrm>
            <a:prstGeom prst="ellipse">
              <a:avLst/>
            </a:prstGeom>
            <a:gradFill rotWithShape="0">
              <a:gsLst>
                <a:gs pos="0">
                  <a:srgbClr val="a0c6f8"/>
                </a:gs>
                <a:gs pos="100000">
                  <a:srgbClr val="4a5c7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V="1">
              <a:off x="8681760" y="1528920"/>
              <a:ext cx="0" cy="299520"/>
            </a:xfrm>
            <a:prstGeom prst="line">
              <a:avLst/>
            </a:prstGeom>
            <a:ln w="9360">
              <a:solidFill>
                <a:srgbClr val="8b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WordArt 13"/>
          <p:cNvSpPr txBox="1"/>
          <p:nvPr/>
        </p:nvSpPr>
        <p:spPr>
          <a:xfrm>
            <a:off x="-76320" y="533520"/>
            <a:ext cx="92203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7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чет </a:t>
            </a:r>
            <a:endParaRPr b="1" i="1" lang="en-US" sz="44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7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7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 реализации мини-проекта</a:t>
            </a:r>
            <a:endParaRPr b="1" i="1" lang="en-US" sz="44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7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7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ерспективы-за нами"</a:t>
            </a:r>
            <a:endParaRPr b="1" i="1" lang="en-US" sz="44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7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7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009 - 2010 гг.</a:t>
            </a:r>
            <a:endParaRPr b="1" i="1" lang="en-US" sz="44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7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228600" y="152280"/>
            <a:ext cx="1066680" cy="457200"/>
          </a:xfrm>
          <a:prstGeom prst="rect">
            <a:avLst/>
          </a:prstGeom>
          <a:solidFill>
            <a:srgbClr val="ffffff"/>
          </a:solidFill>
          <a:ln w="3240">
            <a:solidFill>
              <a:srgbClr val="2f2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6934320" y="6400800"/>
            <a:ext cx="18288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2743200" y="3932280"/>
            <a:ext cx="6324480" cy="27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Aft>
                <a:spcPts val="14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Руководитель мини-проекта:             Е.В. Вершинина, МУЗ ГБ № 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Aft>
                <a:spcPts val="14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уратор мини-проекта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Aft>
                <a:spcPts val="14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Р.Е. Блитштейн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Aft>
                <a:spcPts val="14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оординатор международного проекта: Н.В.Коваленко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ижний колонтитул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822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1257120" y="1181520"/>
            <a:ext cx="258480" cy="258480"/>
            <a:chOff x="1257120" y="1181520"/>
            <a:chExt cx="258480" cy="258480"/>
          </a:xfrm>
        </p:grpSpPr>
        <p:sp>
          <p:nvSpPr>
            <p:cNvPr id="235" name="AutoShape 5"/>
            <p:cNvSpPr/>
            <p:nvPr/>
          </p:nvSpPr>
          <p:spPr>
            <a:xfrm rot="2700000">
              <a:off x="1294920" y="121932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6"/>
            <p:cNvSpPr/>
            <p:nvPr/>
          </p:nvSpPr>
          <p:spPr>
            <a:xfrm flipH="1" rot="18900000">
              <a:off x="1294920" y="1219320"/>
              <a:ext cx="182880" cy="18252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7"/>
          <p:cNvSpPr/>
          <p:nvPr/>
        </p:nvSpPr>
        <p:spPr>
          <a:xfrm>
            <a:off x="1523880" y="1003320"/>
            <a:ext cx="7620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b1f95"/>
                </a:solidFill>
                <a:latin typeface="Arial"/>
              </a:rPr>
              <a:t>Подготовлена и проведена конференция с участием ключевого члена на тему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b1f9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b1f95"/>
                </a:solidFill>
                <a:latin typeface="Arial"/>
              </a:rPr>
              <a:t>«Гигиеническое воспитание населения в деятельности медицинского работника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b1f95"/>
                </a:solidFill>
                <a:latin typeface="Arial"/>
              </a:rPr>
              <a:t>- «Деятельность общественных организаций и их вклад в развитие сестринского дела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1600200" y="620856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b1f95"/>
                </a:solidFill>
                <a:latin typeface="Arial"/>
              </a:rPr>
              <a:t>На конференции присутствовало 215 медсест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16"/>
          <p:cNvSpPr txBox="1"/>
          <p:nvPr/>
        </p:nvSpPr>
        <p:spPr>
          <a:xfrm>
            <a:off x="1295280" y="152280"/>
            <a:ext cx="7848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535e3"/>
                    </a:gs>
                    <a:gs pos="100000">
                      <a:srgbClr val="84e2e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роприятия, проведенные для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535e3"/>
                  </a:gs>
                  <a:gs pos="100000">
                    <a:srgbClr val="84e2e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535e3"/>
                    </a:gs>
                    <a:gs pos="100000">
                      <a:srgbClr val="84e2e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535e3"/>
                    </a:gs>
                    <a:gs pos="100000">
                      <a:srgbClr val="84e2e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стижения поставленных целей: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535e3"/>
                  </a:gs>
                  <a:gs pos="100000">
                    <a:srgbClr val="84e2e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535e3"/>
                    </a:gs>
                    <a:gs pos="100000">
                      <a:srgbClr val="84e2e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535e3"/>
                  </a:gs>
                  <a:gs pos="100000">
                    <a:srgbClr val="84e2e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7315200" y="6629400"/>
            <a:ext cx="1371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1" descr="P3100420"/>
          <p:cNvPicPr/>
          <p:nvPr/>
        </p:nvPicPr>
        <p:blipFill>
          <a:blip r:embed="rId1"/>
          <a:stretch/>
        </p:blipFill>
        <p:spPr>
          <a:xfrm>
            <a:off x="5562720" y="4648320"/>
            <a:ext cx="2743200" cy="1800000"/>
          </a:xfrm>
          <a:prstGeom prst="rect">
            <a:avLst/>
          </a:prstGeom>
          <a:ln w="9360">
            <a:solidFill>
              <a:srgbClr val="14caee"/>
            </a:solidFill>
            <a:miter/>
          </a:ln>
        </p:spPr>
      </p:pic>
      <p:pic>
        <p:nvPicPr>
          <p:cNvPr id="242" name="Picture 22" descr="P3100413"/>
          <p:cNvPicPr/>
          <p:nvPr/>
        </p:nvPicPr>
        <p:blipFill>
          <a:blip r:embed="rId2"/>
          <a:stretch/>
        </p:blipFill>
        <p:spPr>
          <a:xfrm>
            <a:off x="1600200" y="4724280"/>
            <a:ext cx="2819520" cy="1787760"/>
          </a:xfrm>
          <a:prstGeom prst="rect">
            <a:avLst/>
          </a:prstGeom>
          <a:ln w="9360">
            <a:solidFill>
              <a:srgbClr val="14caee"/>
            </a:solidFill>
            <a:miter/>
          </a:ln>
        </p:spPr>
      </p:pic>
      <p:pic>
        <p:nvPicPr>
          <p:cNvPr id="243" name="Picture 23" descr="P3100412"/>
          <p:cNvPicPr/>
          <p:nvPr/>
        </p:nvPicPr>
        <p:blipFill>
          <a:blip r:embed="rId3"/>
          <a:stretch/>
        </p:blipFill>
        <p:spPr>
          <a:xfrm>
            <a:off x="5562720" y="2895480"/>
            <a:ext cx="2819160" cy="1646280"/>
          </a:xfrm>
          <a:prstGeom prst="rect">
            <a:avLst/>
          </a:prstGeom>
          <a:ln w="9360">
            <a:solidFill>
              <a:srgbClr val="14caee"/>
            </a:solidFill>
            <a:miter/>
          </a:ln>
        </p:spPr>
      </p:pic>
      <p:pic>
        <p:nvPicPr>
          <p:cNvPr id="244" name="Picture 24" descr="P3100408"/>
          <p:cNvPicPr/>
          <p:nvPr/>
        </p:nvPicPr>
        <p:blipFill>
          <a:blip r:embed="rId4"/>
          <a:stretch/>
        </p:blipFill>
        <p:spPr>
          <a:xfrm>
            <a:off x="1676520" y="2971800"/>
            <a:ext cx="2743200" cy="1668600"/>
          </a:xfrm>
          <a:prstGeom prst="rect">
            <a:avLst/>
          </a:prstGeom>
          <a:ln w="9360">
            <a:solidFill>
              <a:srgbClr val="14caee"/>
            </a:solidFill>
            <a:miter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ижний колонтитул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8963e9">
                  <a:alpha val="36078"/>
                </a:srgbClr>
              </a:gs>
              <a:gs pos="100000">
                <a:srgbClr val="d7ca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2362320" y="3962520"/>
            <a:ext cx="6629400" cy="220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0c6f8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982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535e3"/>
                </a:solidFill>
                <a:latin typeface="Arial"/>
              </a:rPr>
              <a:t>Увеличилась численност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5e3"/>
                </a:solidFill>
                <a:latin typeface="Arial"/>
              </a:rPr>
              <a:t>членов Омской профессионально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5e3"/>
                </a:solidFill>
                <a:latin typeface="Arial"/>
              </a:rPr>
              <a:t>Сестринской ассоциа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5e3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535e3"/>
                </a:solidFill>
                <a:latin typeface="Arial"/>
              </a:rPr>
              <a:t>с 55% до 60%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2362320" y="1371600"/>
            <a:ext cx="6629400" cy="2286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0c6f8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5e3"/>
                </a:solidFill>
                <a:latin typeface="Arial"/>
              </a:rPr>
              <a:t>Улучшилась информированност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5e3"/>
                </a:solidFill>
                <a:latin typeface="Arial"/>
              </a:rPr>
              <a:t>медицинских сестер о развити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5e3"/>
                </a:solidFill>
                <a:latin typeface="Arial"/>
              </a:rPr>
              <a:t>и достижения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5e3"/>
                </a:solidFill>
                <a:latin typeface="Arial"/>
              </a:rPr>
              <a:t>общественных организаци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32"/>
          <p:cNvGrpSpPr/>
          <p:nvPr/>
        </p:nvGrpSpPr>
        <p:grpSpPr>
          <a:xfrm>
            <a:off x="1752480" y="4267080"/>
            <a:ext cx="609840" cy="609840"/>
            <a:chOff x="1752480" y="4267080"/>
            <a:chExt cx="609840" cy="609840"/>
          </a:xfrm>
        </p:grpSpPr>
        <p:sp>
          <p:nvSpPr>
            <p:cNvPr id="252" name="Oval 33"/>
            <p:cNvSpPr/>
            <p:nvPr/>
          </p:nvSpPr>
          <p:spPr>
            <a:xfrm>
              <a:off x="1752480" y="4267080"/>
              <a:ext cx="609840" cy="6098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4"/>
            <p:cNvSpPr/>
            <p:nvPr/>
          </p:nvSpPr>
          <p:spPr>
            <a:xfrm>
              <a:off x="1787040" y="4301280"/>
              <a:ext cx="540000" cy="54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5"/>
            <p:cNvSpPr/>
            <p:nvPr/>
          </p:nvSpPr>
          <p:spPr>
            <a:xfrm>
              <a:off x="1818720" y="4333320"/>
              <a:ext cx="476640" cy="477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963e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6"/>
            <p:cNvSpPr/>
            <p:nvPr/>
          </p:nvSpPr>
          <p:spPr>
            <a:xfrm>
              <a:off x="1818720" y="4333320"/>
              <a:ext cx="476640" cy="477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37"/>
            <p:cNvSpPr/>
            <p:nvPr/>
          </p:nvSpPr>
          <p:spPr>
            <a:xfrm>
              <a:off x="1850040" y="4364640"/>
              <a:ext cx="414000" cy="414720"/>
            </a:xfrm>
            <a:prstGeom prst="ellipse">
              <a:avLst/>
            </a:prstGeom>
            <a:gradFill rotWithShape="0">
              <a:gsLst>
                <a:gs pos="0">
                  <a:srgbClr val="4a367e"/>
                </a:gs>
                <a:gs pos="50000">
                  <a:srgbClr val="8963e9"/>
                </a:gs>
                <a:gs pos="100000">
                  <a:srgbClr val="4a367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8"/>
            <p:cNvSpPr/>
            <p:nvPr/>
          </p:nvSpPr>
          <p:spPr>
            <a:xfrm>
              <a:off x="1850040" y="4364640"/>
              <a:ext cx="414000" cy="41472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9"/>
          <p:cNvGrpSpPr/>
          <p:nvPr/>
        </p:nvGrpSpPr>
        <p:grpSpPr>
          <a:xfrm>
            <a:off x="1600200" y="2362320"/>
            <a:ext cx="609480" cy="609480"/>
            <a:chOff x="1600200" y="2362320"/>
            <a:chExt cx="609480" cy="609480"/>
          </a:xfrm>
        </p:grpSpPr>
        <p:sp>
          <p:nvSpPr>
            <p:cNvPr id="259" name="Oval 40"/>
            <p:cNvSpPr/>
            <p:nvPr/>
          </p:nvSpPr>
          <p:spPr>
            <a:xfrm>
              <a:off x="1600200" y="236232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41"/>
            <p:cNvSpPr/>
            <p:nvPr/>
          </p:nvSpPr>
          <p:spPr>
            <a:xfrm>
              <a:off x="1634760" y="2396520"/>
              <a:ext cx="539640" cy="539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42"/>
            <p:cNvSpPr/>
            <p:nvPr/>
          </p:nvSpPr>
          <p:spPr>
            <a:xfrm>
              <a:off x="1666440" y="2428560"/>
              <a:ext cx="476280" cy="47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963e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43"/>
            <p:cNvSpPr/>
            <p:nvPr/>
          </p:nvSpPr>
          <p:spPr>
            <a:xfrm>
              <a:off x="1666440" y="2428560"/>
              <a:ext cx="476280" cy="477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4"/>
            <p:cNvSpPr/>
            <p:nvPr/>
          </p:nvSpPr>
          <p:spPr>
            <a:xfrm>
              <a:off x="1697760" y="2459880"/>
              <a:ext cx="413640" cy="414360"/>
            </a:xfrm>
            <a:prstGeom prst="ellipse">
              <a:avLst/>
            </a:prstGeom>
            <a:gradFill rotWithShape="0">
              <a:gsLst>
                <a:gs pos="0">
                  <a:srgbClr val="4a367e"/>
                </a:gs>
                <a:gs pos="50000">
                  <a:srgbClr val="8963e9"/>
                </a:gs>
                <a:gs pos="100000">
                  <a:srgbClr val="4a367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1697760" y="2459880"/>
              <a:ext cx="413640" cy="41436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WordArt 47"/>
          <p:cNvSpPr txBox="1"/>
          <p:nvPr/>
        </p:nvSpPr>
        <p:spPr>
          <a:xfrm>
            <a:off x="3276720" y="457200"/>
            <a:ext cx="3809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535e3"/>
                    </a:gs>
                    <a:gs pos="100000">
                      <a:srgbClr val="14cae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стижения: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535e3"/>
                  </a:gs>
                  <a:gs pos="100000">
                    <a:srgbClr val="14caee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6" name="Rectangle 48"/>
          <p:cNvSpPr/>
          <p:nvPr/>
        </p:nvSpPr>
        <p:spPr>
          <a:xfrm>
            <a:off x="7162920" y="6553080"/>
            <a:ext cx="1523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"/>
          <p:cNvSpPr/>
          <p:nvPr/>
        </p:nvSpPr>
        <p:spPr>
          <a:xfrm>
            <a:off x="5638680" y="6400800"/>
            <a:ext cx="3135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a0c6f8"/>
                </a:solidFill>
                <a:latin typeface="Arial"/>
              </a:rPr>
              <a:t>www.themegallery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2"/>
          <p:cNvSpPr txBox="1"/>
          <p:nvPr/>
        </p:nvSpPr>
        <p:spPr>
          <a:xfrm>
            <a:off x="838080" y="1828800"/>
            <a:ext cx="79250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cc">
                        <a:alpha val="75294"/>
                      </a:srgbClr>
                    </a:gs>
                    <a:gs pos="100000">
                      <a:srgbClr val="0000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лагодарю</a:t>
            </a:r>
            <a:endParaRPr b="1" i="1" lang="en-US" sz="5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cc">
                      <a:alpha val="75294"/>
                    </a:srgbClr>
                  </a:gs>
                  <a:gs pos="100000">
                    <a:srgbClr val="00005e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cc">
                        <a:alpha val="75294"/>
                      </a:srgbClr>
                    </a:gs>
                    <a:gs pos="100000">
                      <a:srgbClr val="0000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1" i="1" lang="en-US" sz="5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cc">
                      <a:alpha val="75294"/>
                    </a:srgbClr>
                  </a:gs>
                  <a:gs pos="100000">
                    <a:srgbClr val="00005e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228600" y="152280"/>
            <a:ext cx="1066680" cy="457200"/>
          </a:xfrm>
          <a:prstGeom prst="rect">
            <a:avLst/>
          </a:prstGeom>
          <a:solidFill>
            <a:srgbClr val="ffffff"/>
          </a:solidFill>
          <a:ln w="0">
            <a:solidFill>
              <a:srgbClr val="2f2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6934320" y="6400800"/>
            <a:ext cx="19047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2"/>
          <p:cNvGrpSpPr/>
          <p:nvPr/>
        </p:nvGrpSpPr>
        <p:grpSpPr>
          <a:xfrm>
            <a:off x="2019240" y="1714680"/>
            <a:ext cx="258480" cy="258480"/>
            <a:chOff x="2019240" y="1714680"/>
            <a:chExt cx="258480" cy="258480"/>
          </a:xfrm>
        </p:grpSpPr>
        <p:sp>
          <p:nvSpPr>
            <p:cNvPr id="102" name="AutoShape 153"/>
            <p:cNvSpPr/>
            <p:nvPr/>
          </p:nvSpPr>
          <p:spPr>
            <a:xfrm rot="2700000">
              <a:off x="2057040" y="175248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54"/>
            <p:cNvSpPr/>
            <p:nvPr/>
          </p:nvSpPr>
          <p:spPr>
            <a:xfrm flipH="1" rot="18900000">
              <a:off x="2057040" y="1752480"/>
              <a:ext cx="182880" cy="18252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55"/>
          <p:cNvSpPr/>
          <p:nvPr/>
        </p:nvSpPr>
        <p:spPr>
          <a:xfrm>
            <a:off x="2438280" y="1219320"/>
            <a:ext cx="6324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b1f95"/>
                </a:solidFill>
                <a:latin typeface="Arial"/>
              </a:rPr>
              <a:t>Улучшить информированность медицинских сестер о развитии общественных организаций МСМ, РАМС, ОПСА, Совета по СД МУЗ «ГБ-2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b1f95"/>
                </a:solidFill>
                <a:latin typeface="Arial"/>
              </a:rPr>
              <a:t>Увеличение численности членов ассоциации в МУЗ «ГБ-2» с 55% до 60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75"/>
          <p:cNvGrpSpPr/>
          <p:nvPr/>
        </p:nvGrpSpPr>
        <p:grpSpPr>
          <a:xfrm>
            <a:off x="2095560" y="4534200"/>
            <a:ext cx="258480" cy="258480"/>
            <a:chOff x="2095560" y="4534200"/>
            <a:chExt cx="258480" cy="258480"/>
          </a:xfrm>
        </p:grpSpPr>
        <p:sp>
          <p:nvSpPr>
            <p:cNvPr id="106" name="AutoShape 176"/>
            <p:cNvSpPr/>
            <p:nvPr/>
          </p:nvSpPr>
          <p:spPr>
            <a:xfrm rot="2700000">
              <a:off x="2133360" y="457200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77"/>
            <p:cNvSpPr/>
            <p:nvPr/>
          </p:nvSpPr>
          <p:spPr>
            <a:xfrm flipH="1" rot="18900000">
              <a:off x="2133360" y="4572000"/>
              <a:ext cx="182880" cy="18252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WordArt 181"/>
          <p:cNvSpPr txBox="1"/>
          <p:nvPr/>
        </p:nvSpPr>
        <p:spPr>
          <a:xfrm>
            <a:off x="2286000" y="457200"/>
            <a:ext cx="6019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6cf0e0"/>
                  </a:solidFill>
                  <a:miter/>
                </a:ln>
                <a:gradFill rotWithShape="0">
                  <a:gsLst>
                    <a:gs pos="0">
                      <a:srgbClr val="3535e3">
                        <a:alpha val="67058"/>
                      </a:srgbClr>
                    </a:gs>
                    <a:gs pos="100000">
                      <a:srgbClr val="1b3a67"/>
                    </a:gs>
                  </a:gsLst>
                  <a:lin ang="5400000"/>
                </a:gradFill>
                <a:latin typeface="Arial"/>
              </a:rPr>
              <a:t>Цель мини-проекта:</a:t>
            </a:r>
            <a:endParaRPr b="1" i="1" lang="en-US" sz="4400" spc="1" strike="noStrike">
              <a:ln w="9360">
                <a:solidFill>
                  <a:srgbClr val="6cf0e0"/>
                </a:solidFill>
                <a:miter/>
              </a:ln>
              <a:gradFill rotWithShape="0">
                <a:gsLst>
                  <a:gs pos="0">
                    <a:srgbClr val="3535e3">
                      <a:alpha val="67058"/>
                    </a:srgbClr>
                  </a:gs>
                  <a:gs pos="100000">
                    <a:srgbClr val="1b3a67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9" name="Rectangle 182"/>
          <p:cNvSpPr/>
          <p:nvPr/>
        </p:nvSpPr>
        <p:spPr>
          <a:xfrm>
            <a:off x="7162920" y="6553080"/>
            <a:ext cx="1828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019240" y="1638720"/>
            <a:ext cx="258480" cy="258480"/>
            <a:chOff x="2019240" y="1638720"/>
            <a:chExt cx="258480" cy="258480"/>
          </a:xfrm>
        </p:grpSpPr>
        <p:sp>
          <p:nvSpPr>
            <p:cNvPr id="113" name="AutoShape 5"/>
            <p:cNvSpPr/>
            <p:nvPr/>
          </p:nvSpPr>
          <p:spPr>
            <a:xfrm rot="2700000">
              <a:off x="2057040" y="167652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6"/>
            <p:cNvSpPr/>
            <p:nvPr/>
          </p:nvSpPr>
          <p:spPr>
            <a:xfrm flipH="1" rot="18900000">
              <a:off x="2057040" y="1676520"/>
              <a:ext cx="182880" cy="18252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7"/>
          <p:cNvSpPr/>
          <p:nvPr/>
        </p:nvSpPr>
        <p:spPr>
          <a:xfrm>
            <a:off x="2438280" y="1219320"/>
            <a:ext cx="6553440" cy="57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b1f95"/>
                </a:solidFill>
                <a:latin typeface="Arial"/>
              </a:rPr>
              <a:t>Формирование инициативной групп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b1f95"/>
                </a:solidFill>
                <a:latin typeface="Arial"/>
              </a:rPr>
              <a:t>Подготовка материала для выпуска информационного листа о деятельности общественных организац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b1f95"/>
                </a:solidFill>
                <a:latin typeface="Arial"/>
              </a:rPr>
              <a:t>Выпуск информационного лис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b1f95"/>
                </a:solidFill>
                <a:latin typeface="Arial"/>
              </a:rPr>
              <a:t>Ежеквартальное обновление информации и выпуск информационного лис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4cae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2019240" y="4686480"/>
            <a:ext cx="258480" cy="258480"/>
            <a:chOff x="2019240" y="4686480"/>
            <a:chExt cx="258480" cy="258480"/>
          </a:xfrm>
        </p:grpSpPr>
        <p:sp>
          <p:nvSpPr>
            <p:cNvPr id="117" name="AutoShape 9"/>
            <p:cNvSpPr/>
            <p:nvPr/>
          </p:nvSpPr>
          <p:spPr>
            <a:xfrm rot="2700000">
              <a:off x="2057040" y="472428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0"/>
            <p:cNvSpPr/>
            <p:nvPr/>
          </p:nvSpPr>
          <p:spPr>
            <a:xfrm flipH="1" rot="18900000">
              <a:off x="2057040" y="4724280"/>
              <a:ext cx="182880" cy="18252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2019240" y="5372280"/>
            <a:ext cx="258480" cy="258480"/>
            <a:chOff x="2019240" y="5372280"/>
            <a:chExt cx="258480" cy="258480"/>
          </a:xfrm>
        </p:grpSpPr>
        <p:sp>
          <p:nvSpPr>
            <p:cNvPr id="120" name="AutoShape 12"/>
            <p:cNvSpPr/>
            <p:nvPr/>
          </p:nvSpPr>
          <p:spPr>
            <a:xfrm rot="2700000">
              <a:off x="2057040" y="541008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3"/>
            <p:cNvSpPr/>
            <p:nvPr/>
          </p:nvSpPr>
          <p:spPr>
            <a:xfrm flipH="1" rot="18900000">
              <a:off x="2057040" y="5410080"/>
              <a:ext cx="182880" cy="18252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4"/>
          <p:cNvGrpSpPr/>
          <p:nvPr/>
        </p:nvGrpSpPr>
        <p:grpSpPr>
          <a:xfrm>
            <a:off x="2019240" y="2705400"/>
            <a:ext cx="258480" cy="258480"/>
            <a:chOff x="2019240" y="2705400"/>
            <a:chExt cx="258480" cy="258480"/>
          </a:xfrm>
        </p:grpSpPr>
        <p:sp>
          <p:nvSpPr>
            <p:cNvPr id="123" name="AutoShape 15"/>
            <p:cNvSpPr/>
            <p:nvPr/>
          </p:nvSpPr>
          <p:spPr>
            <a:xfrm rot="2700000">
              <a:off x="2057040" y="274320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6"/>
            <p:cNvSpPr/>
            <p:nvPr/>
          </p:nvSpPr>
          <p:spPr>
            <a:xfrm flipH="1" rot="18900000">
              <a:off x="2057040" y="2743200"/>
              <a:ext cx="182880" cy="18252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WordArt 18"/>
          <p:cNvSpPr txBox="1"/>
          <p:nvPr/>
        </p:nvSpPr>
        <p:spPr>
          <a:xfrm>
            <a:off x="1828800" y="457200"/>
            <a:ext cx="6629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535e3"/>
                    </a:gs>
                    <a:gs pos="100000">
                      <a:srgbClr val="84e2e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дачи мини-проекта: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535e3"/>
                  </a:gs>
                  <a:gs pos="100000">
                    <a:srgbClr val="84e2e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ижний колонтитул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1981080" y="1447920"/>
            <a:ext cx="6933960" cy="4476600"/>
            <a:chOff x="1981080" y="1447920"/>
            <a:chExt cx="6933960" cy="4476600"/>
          </a:xfrm>
        </p:grpSpPr>
        <p:sp>
          <p:nvSpPr>
            <p:cNvPr id="129" name="Freeform 4"/>
            <p:cNvSpPr/>
            <p:nvPr/>
          </p:nvSpPr>
          <p:spPr>
            <a:xfrm>
              <a:off x="1981080" y="1886040"/>
              <a:ext cx="5815800" cy="4038480"/>
            </a:xfrm>
            <a:custGeom>
              <a:avLst/>
              <a:gdLst>
                <a:gd name="textAreaLeft" fmla="*/ 0 w 5815800"/>
                <a:gd name="textAreaRight" fmla="*/ 5816160 w 5815800"/>
                <a:gd name="textAreaTop" fmla="*/ 0 h 4038480"/>
                <a:gd name="textAreaBottom" fmla="*/ 4038840 h 4038480"/>
              </a:gdLst>
              <a:ahLst/>
              <a:rect l="textAreaLeft" t="textAreaTop" r="textAreaRight" b="textAreaBottom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14caee"/>
                </a:gs>
                <a:gs pos="100000">
                  <a:srgbClr val="a0c6f8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"/>
            <p:cNvSpPr/>
            <p:nvPr/>
          </p:nvSpPr>
          <p:spPr>
            <a:xfrm>
              <a:off x="6305760" y="3409920"/>
              <a:ext cx="2609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6"/>
            <p:cNvSpPr/>
            <p:nvPr/>
          </p:nvSpPr>
          <p:spPr>
            <a:xfrm rot="20876400">
              <a:off x="4182120" y="4876920"/>
              <a:ext cx="140724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7"/>
            <p:cNvSpPr/>
            <p:nvPr/>
          </p:nvSpPr>
          <p:spPr>
            <a:xfrm>
              <a:off x="4115160" y="3657600"/>
              <a:ext cx="166824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8"/>
            <p:cNvSpPr/>
            <p:nvPr/>
          </p:nvSpPr>
          <p:spPr>
            <a:xfrm>
              <a:off x="4135680" y="3667320"/>
              <a:ext cx="1629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9"/>
            <p:cNvSpPr/>
            <p:nvPr/>
          </p:nvSpPr>
          <p:spPr>
            <a:xfrm>
              <a:off x="4152600" y="3683160"/>
              <a:ext cx="15501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0"/>
            <p:cNvSpPr/>
            <p:nvPr/>
          </p:nvSpPr>
          <p:spPr>
            <a:xfrm>
              <a:off x="4242960" y="3727440"/>
              <a:ext cx="137916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3954600" y="4335480"/>
              <a:ext cx="200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92b2b"/>
                  </a:solidFill>
                  <a:latin typeface="Arial"/>
                </a:rPr>
                <a:t>01.04.2010г</a:t>
              </a:r>
              <a:r>
                <a:rPr b="0" lang="ru-RU" sz="2400" spc="-1" strike="noStrike">
                  <a:solidFill>
                    <a:srgbClr val="f92b2b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2"/>
            <p:cNvSpPr/>
            <p:nvPr/>
          </p:nvSpPr>
          <p:spPr>
            <a:xfrm rot="20826600">
              <a:off x="2378520" y="4267440"/>
              <a:ext cx="110916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3"/>
            <p:cNvGrpSpPr/>
            <p:nvPr/>
          </p:nvGrpSpPr>
          <p:grpSpPr>
            <a:xfrm>
              <a:off x="2304360" y="3276720"/>
              <a:ext cx="1341720" cy="1441080"/>
              <a:chOff x="2304360" y="3276720"/>
              <a:chExt cx="1341720" cy="1441080"/>
            </a:xfrm>
          </p:grpSpPr>
          <p:sp>
            <p:nvSpPr>
              <p:cNvPr id="139" name="Oval 14"/>
              <p:cNvSpPr/>
              <p:nvPr/>
            </p:nvSpPr>
            <p:spPr>
              <a:xfrm>
                <a:off x="2304360" y="3276720"/>
                <a:ext cx="134172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15"/>
              <p:cNvSpPr/>
              <p:nvPr/>
            </p:nvSpPr>
            <p:spPr>
              <a:xfrm>
                <a:off x="2321640" y="3285000"/>
                <a:ext cx="13086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6"/>
              <p:cNvSpPr/>
              <p:nvPr/>
            </p:nvSpPr>
            <p:spPr>
              <a:xfrm>
                <a:off x="2334600" y="3298680"/>
                <a:ext cx="124452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7"/>
              <p:cNvSpPr/>
              <p:nvPr/>
            </p:nvSpPr>
            <p:spPr>
              <a:xfrm>
                <a:off x="2404800" y="3335400"/>
                <a:ext cx="110736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18"/>
              <p:cNvSpPr/>
              <p:nvPr/>
            </p:nvSpPr>
            <p:spPr>
              <a:xfrm>
                <a:off x="2867040" y="3856320"/>
                <a:ext cx="18324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Oval 19"/>
            <p:cNvSpPr/>
            <p:nvPr/>
          </p:nvSpPr>
          <p:spPr>
            <a:xfrm>
              <a:off x="2204640" y="2511360"/>
              <a:ext cx="894600" cy="5335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0"/>
            <p:cNvSpPr/>
            <p:nvPr/>
          </p:nvSpPr>
          <p:spPr>
            <a:xfrm>
              <a:off x="2279160" y="1905120"/>
              <a:ext cx="100152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1"/>
            <p:cNvSpPr/>
            <p:nvPr/>
          </p:nvSpPr>
          <p:spPr>
            <a:xfrm>
              <a:off x="2291760" y="1909800"/>
              <a:ext cx="9784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2302560" y="1920960"/>
              <a:ext cx="93060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2355480" y="1946520"/>
              <a:ext cx="82944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4"/>
            <p:cNvSpPr/>
            <p:nvPr/>
          </p:nvSpPr>
          <p:spPr>
            <a:xfrm>
              <a:off x="2698920" y="2254320"/>
              <a:ext cx="182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3444120" y="1981440"/>
              <a:ext cx="67104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564000" y="1447920"/>
              <a:ext cx="66780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573000" y="1451160"/>
              <a:ext cx="6508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3579480" y="1457280"/>
              <a:ext cx="61956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3615120" y="1476360"/>
              <a:ext cx="55152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30"/>
            <p:cNvSpPr/>
            <p:nvPr/>
          </p:nvSpPr>
          <p:spPr>
            <a:xfrm>
              <a:off x="3809520" y="16210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32"/>
          <p:cNvSpPr/>
          <p:nvPr/>
        </p:nvSpPr>
        <p:spPr>
          <a:xfrm flipV="1" rot="10800000">
            <a:off x="2208240" y="2278080"/>
            <a:ext cx="19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535"/>
                </a:solidFill>
                <a:latin typeface="Arial"/>
              </a:rPr>
              <a:t>01.09.2009г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34"/>
          <p:cNvSpPr txBox="1"/>
          <p:nvPr/>
        </p:nvSpPr>
        <p:spPr>
          <a:xfrm>
            <a:off x="2133720" y="457200"/>
            <a:ext cx="6324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535e3"/>
                    </a:gs>
                    <a:gs pos="100000">
                      <a:srgbClr val="84e2e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иод реализации: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535e3"/>
                  </a:gs>
                  <a:gs pos="100000">
                    <a:srgbClr val="84e2e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Rectangle 35"/>
          <p:cNvSpPr/>
          <p:nvPr/>
        </p:nvSpPr>
        <p:spPr>
          <a:xfrm>
            <a:off x="7162920" y="6553080"/>
            <a:ext cx="1600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324480" y="34290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1905120" y="34290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3962520" y="3352680"/>
            <a:ext cx="903240" cy="1241640"/>
          </a:xfrm>
          <a:custGeom>
            <a:avLst/>
            <a:gdLst>
              <a:gd name="textAreaLeft" fmla="*/ 0 w 903240"/>
              <a:gd name="textAreaRight" fmla="*/ 903600 w 903240"/>
              <a:gd name="textAreaTop" fmla="*/ 0 h 1241640"/>
              <a:gd name="textAreaBottom" fmla="*/ 1242000 h 1241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4caee"/>
              </a:gs>
              <a:gs pos="100000">
                <a:srgbClr val="6addf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 flipH="1">
            <a:off x="5630040" y="332892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0"/>
          <p:cNvSpPr/>
          <p:nvPr/>
        </p:nvSpPr>
        <p:spPr>
          <a:xfrm flipH="1">
            <a:off x="5637960" y="3352680"/>
            <a:ext cx="903240" cy="1241640"/>
          </a:xfrm>
          <a:custGeom>
            <a:avLst/>
            <a:gdLst>
              <a:gd name="textAreaLeft" fmla="*/ -360 w 903240"/>
              <a:gd name="textAreaRight" fmla="*/ 903240 w 903240"/>
              <a:gd name="textAreaTop" fmla="*/ 0 h 1241640"/>
              <a:gd name="textAreaBottom" fmla="*/ 1242000 h 1241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963e9"/>
              </a:gs>
              <a:gs pos="100000">
                <a:srgbClr val="dacd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1"/>
          <p:cNvGrpSpPr/>
          <p:nvPr/>
        </p:nvGrpSpPr>
        <p:grpSpPr>
          <a:xfrm>
            <a:off x="3581280" y="1447920"/>
            <a:ext cx="3428280" cy="1829160"/>
            <a:chOff x="3581280" y="1447920"/>
            <a:chExt cx="3428280" cy="1829160"/>
          </a:xfrm>
        </p:grpSpPr>
        <p:grpSp>
          <p:nvGrpSpPr>
            <p:cNvPr id="166" name="Group 12"/>
            <p:cNvGrpSpPr/>
            <p:nvPr/>
          </p:nvGrpSpPr>
          <p:grpSpPr>
            <a:xfrm>
              <a:off x="3581280" y="1611000"/>
              <a:ext cx="3428280" cy="1666080"/>
              <a:chOff x="3581280" y="1611000"/>
              <a:chExt cx="3428280" cy="1666080"/>
            </a:xfrm>
          </p:grpSpPr>
          <p:sp>
            <p:nvSpPr>
              <p:cNvPr id="167" name="Oval 13"/>
              <p:cNvSpPr/>
              <p:nvPr/>
            </p:nvSpPr>
            <p:spPr>
              <a:xfrm>
                <a:off x="3618720" y="1663920"/>
                <a:ext cx="3390840" cy="1613160"/>
              </a:xfrm>
              <a:prstGeom prst="ellipse">
                <a:avLst/>
              </a:prstGeom>
              <a:gradFill rotWithShape="0">
                <a:gsLst>
                  <a:gs pos="0">
                    <a:srgbClr val="8963e9"/>
                  </a:gs>
                  <a:gs pos="100000">
                    <a:srgbClr val="43307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14"/>
              <p:cNvSpPr/>
              <p:nvPr/>
            </p:nvSpPr>
            <p:spPr>
              <a:xfrm>
                <a:off x="3581280" y="1611000"/>
                <a:ext cx="3390840" cy="1612800"/>
              </a:xfrm>
              <a:prstGeom prst="ellipse">
                <a:avLst/>
              </a:prstGeom>
              <a:gradFill rotWithShape="0">
                <a:gsLst>
                  <a:gs pos="0">
                    <a:srgbClr val="cbbaf5"/>
                  </a:gs>
                  <a:gs pos="100000">
                    <a:srgbClr val="8963e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Oval 15"/>
            <p:cNvSpPr/>
            <p:nvPr/>
          </p:nvSpPr>
          <p:spPr>
            <a:xfrm>
              <a:off x="3742920" y="1447920"/>
              <a:ext cx="3069360" cy="1532520"/>
            </a:xfrm>
            <a:prstGeom prst="ellipse">
              <a:avLst/>
            </a:prstGeom>
            <a:gradFill rotWithShape="0">
              <a:gsLst>
                <a:gs pos="0">
                  <a:srgbClr val="4a5c73"/>
                </a:gs>
                <a:gs pos="100000">
                  <a:srgbClr val="a0c6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6"/>
            <p:cNvSpPr/>
            <p:nvPr/>
          </p:nvSpPr>
          <p:spPr>
            <a:xfrm>
              <a:off x="3782880" y="1456920"/>
              <a:ext cx="2994840" cy="1494360"/>
            </a:xfrm>
            <a:prstGeom prst="ellipse">
              <a:avLst/>
            </a:prstGeom>
            <a:gradFill rotWithShape="0">
              <a:gsLst>
                <a:gs pos="0">
                  <a:srgbClr val="a0c6f8">
                    <a:alpha val="0"/>
                  </a:srgbClr>
                </a:gs>
                <a:gs pos="100000">
                  <a:srgbClr val="deebf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"/>
            <p:cNvSpPr/>
            <p:nvPr/>
          </p:nvSpPr>
          <p:spPr>
            <a:xfrm>
              <a:off x="3813840" y="1471680"/>
              <a:ext cx="2849760" cy="1396080"/>
            </a:xfrm>
            <a:prstGeom prst="ellipse">
              <a:avLst/>
            </a:prstGeom>
            <a:gradFill rotWithShape="0">
              <a:gsLst>
                <a:gs pos="0">
                  <a:srgbClr val="7f9dc4"/>
                </a:gs>
                <a:gs pos="100000">
                  <a:srgbClr val="a0c6f8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8"/>
            <p:cNvSpPr/>
            <p:nvPr/>
          </p:nvSpPr>
          <p:spPr>
            <a:xfrm>
              <a:off x="3964320" y="1502280"/>
              <a:ext cx="2508480" cy="113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0c6f8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19"/>
          <p:cNvSpPr/>
          <p:nvPr/>
        </p:nvSpPr>
        <p:spPr>
          <a:xfrm>
            <a:off x="4038480" y="16765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e3"/>
                </a:solidFill>
                <a:latin typeface="Arial"/>
              </a:rPr>
              <a:t>Инициативная групп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4"/>
          <p:cNvSpPr/>
          <p:nvPr/>
        </p:nvSpPr>
        <p:spPr>
          <a:xfrm>
            <a:off x="2057400" y="3581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5"/>
          <p:cNvSpPr/>
          <p:nvPr/>
        </p:nvSpPr>
        <p:spPr>
          <a:xfrm>
            <a:off x="1981080" y="41464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4e0"/>
                </a:solidFill>
                <a:latin typeface="Arial"/>
              </a:rPr>
              <a:t>Выпущено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4e0"/>
                </a:solidFill>
                <a:latin typeface="Arial"/>
              </a:rPr>
              <a:t>информаци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4e0"/>
                </a:solidFill>
                <a:latin typeface="Arial"/>
              </a:rPr>
              <a:t>онных лис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7"/>
          <p:cNvSpPr/>
          <p:nvPr/>
        </p:nvSpPr>
        <p:spPr>
          <a:xfrm>
            <a:off x="6400800" y="379728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4e0"/>
                </a:solidFill>
                <a:latin typeface="Arial"/>
              </a:rPr>
              <a:t>Привлечены в члены ОПСА 22 медицинск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4e0"/>
                </a:solidFill>
                <a:latin typeface="Arial"/>
              </a:rPr>
              <a:t>сест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78"/>
          <p:cNvSpPr txBox="1"/>
          <p:nvPr/>
        </p:nvSpPr>
        <p:spPr>
          <a:xfrm>
            <a:off x="1828800" y="380880"/>
            <a:ext cx="6324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535e3"/>
                    </a:gs>
                    <a:gs pos="100000">
                      <a:srgbClr val="84e2e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удалось сделать: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535e3"/>
                  </a:gs>
                  <a:gs pos="100000">
                    <a:srgbClr val="84e2e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Rectangle 80"/>
          <p:cNvSpPr/>
          <p:nvPr/>
        </p:nvSpPr>
        <p:spPr>
          <a:xfrm>
            <a:off x="7086600" y="6553080"/>
            <a:ext cx="1828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ижний колонтитул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4eda"/>
                </a:solidFill>
                <a:latin typeface="Arial"/>
              </a:rPr>
              <a:t>       </a:t>
            </a:r>
            <a:endParaRPr b="1" lang="en-US" sz="40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2019240" y="1791000"/>
            <a:ext cx="258480" cy="258480"/>
            <a:chOff x="2019240" y="1791000"/>
            <a:chExt cx="258480" cy="258480"/>
          </a:xfrm>
        </p:grpSpPr>
        <p:sp>
          <p:nvSpPr>
            <p:cNvPr id="183" name="AutoShape 5"/>
            <p:cNvSpPr/>
            <p:nvPr/>
          </p:nvSpPr>
          <p:spPr>
            <a:xfrm rot="2700000">
              <a:off x="2057040" y="182880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6"/>
            <p:cNvSpPr/>
            <p:nvPr/>
          </p:nvSpPr>
          <p:spPr>
            <a:xfrm flipH="1" rot="18900000">
              <a:off x="2057040" y="1828800"/>
              <a:ext cx="182880" cy="18252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8"/>
          <p:cNvGrpSpPr/>
          <p:nvPr/>
        </p:nvGrpSpPr>
        <p:grpSpPr>
          <a:xfrm>
            <a:off x="1942920" y="4610520"/>
            <a:ext cx="258480" cy="258480"/>
            <a:chOff x="1942920" y="4610520"/>
            <a:chExt cx="258480" cy="258480"/>
          </a:xfrm>
        </p:grpSpPr>
        <p:sp>
          <p:nvSpPr>
            <p:cNvPr id="186" name="AutoShape 9"/>
            <p:cNvSpPr/>
            <p:nvPr/>
          </p:nvSpPr>
          <p:spPr>
            <a:xfrm rot="2700000">
              <a:off x="1980720" y="464832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0"/>
            <p:cNvSpPr/>
            <p:nvPr/>
          </p:nvSpPr>
          <p:spPr>
            <a:xfrm flipH="1" rot="18900000">
              <a:off x="1980720" y="4648320"/>
              <a:ext cx="182880" cy="18252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17"/>
          <p:cNvSpPr/>
          <p:nvPr/>
        </p:nvSpPr>
        <p:spPr>
          <a:xfrm>
            <a:off x="2373480" y="1600200"/>
            <a:ext cx="45608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b1f95"/>
                </a:solidFill>
                <a:latin typeface="Arial"/>
              </a:rPr>
              <a:t>Сформирована инициативная группа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9" descr="P2090385"/>
          <p:cNvPicPr/>
          <p:nvPr/>
        </p:nvPicPr>
        <p:blipFill>
          <a:blip r:embed="rId1"/>
          <a:stretch/>
        </p:blipFill>
        <p:spPr>
          <a:xfrm>
            <a:off x="5943600" y="175248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0"/>
          <p:cNvSpPr/>
          <p:nvPr/>
        </p:nvSpPr>
        <p:spPr>
          <a:xfrm flipV="1" rot="10800000">
            <a:off x="2284560" y="4509000"/>
            <a:ext cx="4497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b1f95"/>
                </a:solidFill>
                <a:latin typeface="Arial"/>
              </a:rPr>
              <a:t>Избран ключевой член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2" descr="P2090383"/>
          <p:cNvPicPr/>
          <p:nvPr/>
        </p:nvPicPr>
        <p:blipFill>
          <a:blip r:embed="rId2"/>
          <a:stretch/>
        </p:blipFill>
        <p:spPr>
          <a:xfrm>
            <a:off x="6553080" y="457200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192" name="WordArt 23"/>
          <p:cNvSpPr txBox="1"/>
          <p:nvPr/>
        </p:nvSpPr>
        <p:spPr>
          <a:xfrm>
            <a:off x="1295280" y="304920"/>
            <a:ext cx="7848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535e3"/>
                    </a:gs>
                    <a:gs pos="100000">
                      <a:srgbClr val="84e2e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роприятия, проведенные для </a:t>
            </a:r>
            <a:endParaRPr b="1" i="1" lang="en-US" sz="4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3535e3"/>
                  </a:gs>
                  <a:gs pos="100000">
                    <a:srgbClr val="84e2e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535e3"/>
                    </a:gs>
                    <a:gs pos="100000">
                      <a:srgbClr val="84e2e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стижения поставленных целей:</a:t>
            </a:r>
            <a:endParaRPr b="1" i="1" lang="en-US" sz="4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3535e3"/>
                  </a:gs>
                  <a:gs pos="100000">
                    <a:srgbClr val="84e2e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7086600" y="6553080"/>
            <a:ext cx="1676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ижний колонтитул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1638360" y="1714680"/>
            <a:ext cx="258480" cy="258480"/>
            <a:chOff x="1638360" y="1714680"/>
            <a:chExt cx="258480" cy="258480"/>
          </a:xfrm>
        </p:grpSpPr>
        <p:sp>
          <p:nvSpPr>
            <p:cNvPr id="197" name="AutoShape 5"/>
            <p:cNvSpPr/>
            <p:nvPr/>
          </p:nvSpPr>
          <p:spPr>
            <a:xfrm rot="2700000">
              <a:off x="1676160" y="175248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6"/>
            <p:cNvSpPr/>
            <p:nvPr/>
          </p:nvSpPr>
          <p:spPr>
            <a:xfrm flipH="1" rot="18900000">
              <a:off x="1676160" y="1752480"/>
              <a:ext cx="182880" cy="18252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7"/>
          <p:cNvSpPr/>
          <p:nvPr/>
        </p:nvSpPr>
        <p:spPr>
          <a:xfrm>
            <a:off x="2057400" y="1295280"/>
            <a:ext cx="70866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b1f95"/>
                </a:solidFill>
                <a:latin typeface="Arial"/>
              </a:rPr>
              <a:t>Проведено 11 занятий по 1,5 часа </a:t>
            </a:r>
            <a:br>
              <a:rPr sz="2800"/>
            </a:br>
            <a:r>
              <a:rPr b="1" i="1" lang="ru-RU" sz="2800" spc="-1" strike="noStrike">
                <a:solidFill>
                  <a:srgbClr val="3b1f95"/>
                </a:solidFill>
                <a:latin typeface="Arial"/>
              </a:rPr>
              <a:t>с 01.09.2009 по 08.12.2009 г </a:t>
            </a:r>
            <a:br>
              <a:rPr sz="2800"/>
            </a:br>
            <a:r>
              <a:rPr b="1" i="1" lang="ru-RU" sz="2800" spc="-1" strike="noStrike">
                <a:solidFill>
                  <a:srgbClr val="3b1f95"/>
                </a:solidFill>
                <a:latin typeface="Arial"/>
              </a:rPr>
              <a:t>по проекту«Лидерство в переговорах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b1f95"/>
                </a:solidFill>
                <a:latin typeface="Arial"/>
              </a:rPr>
              <a:t>Участие приняли 24 медсест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b1f95"/>
                </a:solidFill>
                <a:latin typeface="Arial"/>
              </a:rPr>
              <a:t>Проводилась разъяснительная работа по привлечению медицинских сестер в члены ОП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8"/>
          <p:cNvGrpSpPr/>
          <p:nvPr/>
        </p:nvGrpSpPr>
        <p:grpSpPr>
          <a:xfrm>
            <a:off x="1638360" y="4305600"/>
            <a:ext cx="258480" cy="258480"/>
            <a:chOff x="1638360" y="4305600"/>
            <a:chExt cx="258480" cy="258480"/>
          </a:xfrm>
        </p:grpSpPr>
        <p:sp>
          <p:nvSpPr>
            <p:cNvPr id="201" name="AutoShape 9"/>
            <p:cNvSpPr/>
            <p:nvPr/>
          </p:nvSpPr>
          <p:spPr>
            <a:xfrm rot="2700000">
              <a:off x="1676160" y="434340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0"/>
            <p:cNvSpPr/>
            <p:nvPr/>
          </p:nvSpPr>
          <p:spPr>
            <a:xfrm flipH="1" rot="18900000">
              <a:off x="1676160" y="4343400"/>
              <a:ext cx="182880" cy="18252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WordArt 17"/>
          <p:cNvSpPr txBox="1"/>
          <p:nvPr/>
        </p:nvSpPr>
        <p:spPr>
          <a:xfrm>
            <a:off x="1066680" y="228600"/>
            <a:ext cx="7848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535e3"/>
                    </a:gs>
                    <a:gs pos="100000">
                      <a:srgbClr val="84e2e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роприятия, проведенные для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535e3"/>
                  </a:gs>
                  <a:gs pos="100000">
                    <a:srgbClr val="84e2e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535e3"/>
                    </a:gs>
                    <a:gs pos="100000">
                      <a:srgbClr val="84e2e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535e3"/>
                    </a:gs>
                    <a:gs pos="100000">
                      <a:srgbClr val="84e2e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стижения поставленных целей: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535e3"/>
                  </a:gs>
                  <a:gs pos="100000">
                    <a:srgbClr val="84e2e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535e3"/>
                    </a:gs>
                    <a:gs pos="100000">
                      <a:srgbClr val="84e2e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535e3"/>
                  </a:gs>
                  <a:gs pos="100000">
                    <a:srgbClr val="84e2e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Rectangle 19"/>
          <p:cNvSpPr/>
          <p:nvPr/>
        </p:nvSpPr>
        <p:spPr>
          <a:xfrm>
            <a:off x="7086600" y="6477120"/>
            <a:ext cx="1752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ижний колонтитул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-483120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84eda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1" descr="PB230263"/>
          <p:cNvPicPr/>
          <p:nvPr/>
        </p:nvPicPr>
        <p:blipFill>
          <a:blip r:embed="rId1"/>
          <a:stretch/>
        </p:blipFill>
        <p:spPr>
          <a:xfrm>
            <a:off x="1523880" y="1981080"/>
            <a:ext cx="3168720" cy="1943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PC020290"/>
          <p:cNvPicPr/>
          <p:nvPr/>
        </p:nvPicPr>
        <p:blipFill>
          <a:blip r:embed="rId2"/>
          <a:stretch/>
        </p:blipFill>
        <p:spPr>
          <a:xfrm>
            <a:off x="5105520" y="1981080"/>
            <a:ext cx="3240000" cy="1943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PB230281"/>
          <p:cNvPicPr/>
          <p:nvPr/>
        </p:nvPicPr>
        <p:blipFill>
          <a:blip r:embed="rId3"/>
          <a:stretch/>
        </p:blipFill>
        <p:spPr>
          <a:xfrm>
            <a:off x="1523880" y="4495680"/>
            <a:ext cx="3097440" cy="1871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5" descr="PB230274"/>
          <p:cNvPicPr/>
          <p:nvPr/>
        </p:nvPicPr>
        <p:blipFill>
          <a:blip r:embed="rId4"/>
          <a:stretch/>
        </p:blipFill>
        <p:spPr>
          <a:xfrm>
            <a:off x="5105520" y="4419720"/>
            <a:ext cx="3276360" cy="190476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6"/>
          <p:cNvSpPr txBox="1"/>
          <p:nvPr/>
        </p:nvSpPr>
        <p:spPr>
          <a:xfrm>
            <a:off x="1523880" y="304920"/>
            <a:ext cx="727740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b1bbf"/>
                    </a:gs>
                    <a:gs pos="100000">
                      <a:srgbClr val="14cae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минар по проекту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b1bbf"/>
                  </a:gs>
                  <a:gs pos="100000">
                    <a:srgbClr val="14caee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b1bbf"/>
                    </a:gs>
                    <a:gs pos="100000">
                      <a:srgbClr val="14cae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Лидерство в переговорах"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b1bbf"/>
                  </a:gs>
                  <a:gs pos="100000">
                    <a:srgbClr val="14caee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7086600" y="6553080"/>
            <a:ext cx="1828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8" descr="PB230263"/>
          <p:cNvPicPr/>
          <p:nvPr/>
        </p:nvPicPr>
        <p:blipFill>
          <a:blip r:embed="rId5"/>
          <a:stretch/>
        </p:blipFill>
        <p:spPr>
          <a:xfrm>
            <a:off x="1523880" y="1981080"/>
            <a:ext cx="3168720" cy="1943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9" descr="PC020290"/>
          <p:cNvPicPr/>
          <p:nvPr/>
        </p:nvPicPr>
        <p:blipFill>
          <a:blip r:embed="rId6"/>
          <a:stretch/>
        </p:blipFill>
        <p:spPr>
          <a:xfrm>
            <a:off x="5105520" y="1981080"/>
            <a:ext cx="3240000" cy="194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0" descr="PB230263"/>
          <p:cNvPicPr/>
          <p:nvPr/>
        </p:nvPicPr>
        <p:blipFill>
          <a:blip r:embed="rId7"/>
          <a:stretch/>
        </p:blipFill>
        <p:spPr>
          <a:xfrm>
            <a:off x="1523880" y="1981080"/>
            <a:ext cx="3168720" cy="1943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1" descr="PB230274"/>
          <p:cNvPicPr/>
          <p:nvPr/>
        </p:nvPicPr>
        <p:blipFill>
          <a:blip r:embed="rId8"/>
          <a:stretch/>
        </p:blipFill>
        <p:spPr>
          <a:xfrm>
            <a:off x="5105520" y="4419720"/>
            <a:ext cx="327636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2" descr="PC020290"/>
          <p:cNvPicPr/>
          <p:nvPr/>
        </p:nvPicPr>
        <p:blipFill>
          <a:blip r:embed="rId9"/>
          <a:stretch/>
        </p:blipFill>
        <p:spPr>
          <a:xfrm>
            <a:off x="5105520" y="1981080"/>
            <a:ext cx="3240000" cy="1943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3" descr="PB230263"/>
          <p:cNvPicPr/>
          <p:nvPr/>
        </p:nvPicPr>
        <p:blipFill>
          <a:blip r:embed="rId10"/>
          <a:stretch/>
        </p:blipFill>
        <p:spPr>
          <a:xfrm>
            <a:off x="1523880" y="1981080"/>
            <a:ext cx="3168720" cy="1943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4" descr="PB230281"/>
          <p:cNvPicPr/>
          <p:nvPr/>
        </p:nvPicPr>
        <p:blipFill>
          <a:blip r:embed="rId11"/>
          <a:stretch/>
        </p:blipFill>
        <p:spPr>
          <a:xfrm>
            <a:off x="1523880" y="4495680"/>
            <a:ext cx="3097440" cy="1871640"/>
          </a:xfrm>
          <a:prstGeom prst="rect">
            <a:avLst/>
          </a:prstGeom>
          <a:ln w="9360">
            <a:solidFill>
              <a:srgbClr val="8963e9"/>
            </a:solidFill>
            <a:miter/>
          </a:ln>
        </p:spPr>
      </p:pic>
      <p:pic>
        <p:nvPicPr>
          <p:cNvPr id="221" name="Picture 25" descr="PB230274"/>
          <p:cNvPicPr/>
          <p:nvPr/>
        </p:nvPicPr>
        <p:blipFill>
          <a:blip r:embed="rId12"/>
          <a:stretch/>
        </p:blipFill>
        <p:spPr>
          <a:xfrm>
            <a:off x="5105520" y="4419720"/>
            <a:ext cx="3276360" cy="1904760"/>
          </a:xfrm>
          <a:prstGeom prst="rect">
            <a:avLst/>
          </a:prstGeom>
          <a:ln w="9360">
            <a:solidFill>
              <a:srgbClr val="8963e9"/>
            </a:solidFill>
            <a:miter/>
          </a:ln>
        </p:spPr>
      </p:pic>
      <p:pic>
        <p:nvPicPr>
          <p:cNvPr id="222" name="Picture 26" descr="PC020290"/>
          <p:cNvPicPr/>
          <p:nvPr/>
        </p:nvPicPr>
        <p:blipFill>
          <a:blip r:embed="rId13"/>
          <a:stretch/>
        </p:blipFill>
        <p:spPr>
          <a:xfrm>
            <a:off x="5105520" y="1981080"/>
            <a:ext cx="3240000" cy="1943280"/>
          </a:xfrm>
          <a:prstGeom prst="rect">
            <a:avLst/>
          </a:prstGeom>
          <a:ln w="9360">
            <a:solidFill>
              <a:srgbClr val="8963e9"/>
            </a:solidFill>
            <a:miter/>
          </a:ln>
        </p:spPr>
      </p:pic>
      <p:pic>
        <p:nvPicPr>
          <p:cNvPr id="223" name="Picture 27" descr="PB230263"/>
          <p:cNvPicPr/>
          <p:nvPr/>
        </p:nvPicPr>
        <p:blipFill>
          <a:blip r:embed="rId14"/>
          <a:stretch/>
        </p:blipFill>
        <p:spPr>
          <a:xfrm>
            <a:off x="1523880" y="1981080"/>
            <a:ext cx="3168720" cy="1943280"/>
          </a:xfrm>
          <a:prstGeom prst="rect">
            <a:avLst/>
          </a:prstGeom>
          <a:ln w="9360">
            <a:solidFill>
              <a:srgbClr val="8963e9"/>
            </a:solidFill>
            <a:miter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ижний колонтитул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2" descr="PC070291"/>
          <p:cNvPicPr/>
          <p:nvPr/>
        </p:nvPicPr>
        <p:blipFill>
          <a:blip r:embed="rId1"/>
          <a:stretch/>
        </p:blipFill>
        <p:spPr>
          <a:xfrm>
            <a:off x="5410080" y="1981080"/>
            <a:ext cx="3240360" cy="1898640"/>
          </a:xfrm>
          <a:prstGeom prst="rect">
            <a:avLst/>
          </a:prstGeom>
          <a:ln w="9360">
            <a:solidFill>
              <a:srgbClr val="8963e9"/>
            </a:solidFill>
            <a:miter/>
          </a:ln>
        </p:spPr>
      </p:pic>
      <p:pic>
        <p:nvPicPr>
          <p:cNvPr id="226" name="Picture 14" descr="PC070263"/>
          <p:cNvPicPr/>
          <p:nvPr/>
        </p:nvPicPr>
        <p:blipFill>
          <a:blip r:embed="rId2"/>
          <a:stretch/>
        </p:blipFill>
        <p:spPr>
          <a:xfrm>
            <a:off x="1752480" y="1981080"/>
            <a:ext cx="3124440" cy="1905120"/>
          </a:xfrm>
          <a:prstGeom prst="rect">
            <a:avLst/>
          </a:prstGeom>
          <a:ln w="9360">
            <a:solidFill>
              <a:srgbClr val="8963e9"/>
            </a:solidFill>
            <a:miter/>
          </a:ln>
        </p:spPr>
      </p:pic>
      <p:pic>
        <p:nvPicPr>
          <p:cNvPr id="227" name="Picture 15" descr="PC070281"/>
          <p:cNvPicPr/>
          <p:nvPr/>
        </p:nvPicPr>
        <p:blipFill>
          <a:blip r:embed="rId3"/>
          <a:stretch/>
        </p:blipFill>
        <p:spPr>
          <a:xfrm>
            <a:off x="1752480" y="4267080"/>
            <a:ext cx="3164040" cy="1970280"/>
          </a:xfrm>
          <a:prstGeom prst="rect">
            <a:avLst/>
          </a:prstGeom>
          <a:ln w="9360">
            <a:solidFill>
              <a:srgbClr val="8963e9"/>
            </a:solidFill>
            <a:miter/>
          </a:ln>
        </p:spPr>
      </p:pic>
      <p:pic>
        <p:nvPicPr>
          <p:cNvPr id="228" name="Picture 16" descr="PC070269"/>
          <p:cNvPicPr/>
          <p:nvPr/>
        </p:nvPicPr>
        <p:blipFill>
          <a:blip r:embed="rId4"/>
          <a:stretch/>
        </p:blipFill>
        <p:spPr>
          <a:xfrm>
            <a:off x="5486400" y="4267080"/>
            <a:ext cx="3168720" cy="1981440"/>
          </a:xfrm>
          <a:prstGeom prst="rect">
            <a:avLst/>
          </a:prstGeom>
          <a:ln w="9360">
            <a:solidFill>
              <a:srgbClr val="8963e9"/>
            </a:solidFill>
            <a:miter/>
          </a:ln>
        </p:spPr>
      </p:pic>
      <p:sp>
        <p:nvSpPr>
          <p:cNvPr id="229" name="WordArt 17"/>
          <p:cNvSpPr txBox="1"/>
          <p:nvPr/>
        </p:nvSpPr>
        <p:spPr>
          <a:xfrm>
            <a:off x="1676520" y="380880"/>
            <a:ext cx="727704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b1bbf"/>
                    </a:gs>
                    <a:gs pos="100000">
                      <a:srgbClr val="14cae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минар по проекту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b1bbf"/>
                  </a:gs>
                  <a:gs pos="100000">
                    <a:srgbClr val="14caee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b1bbf"/>
                    </a:gs>
                    <a:gs pos="100000">
                      <a:srgbClr val="14cae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Лидерство в переговорах"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b1bbf"/>
                  </a:gs>
                  <a:gs pos="100000">
                    <a:srgbClr val="14caee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7086600" y="6553080"/>
            <a:ext cx="1752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ОПСА</cp:lastModifiedBy>
  <dcterms:modified xsi:type="dcterms:W3CDTF">2012-07-25T08:01:01Z</dcterms:modified>
  <cp:revision>66</cp:revision>
  <dc:subject/>
  <dc:title>Slide 1</dc:title>
</cp:coreProperties>
</file>