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20F-4AF1-4CC9-AFE2-12C0943B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36867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7D9-E3B7-4518-B598-CA1879CB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808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579-4394-4315-BAD8-1B3799C1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84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2904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84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2904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3AF-6D86-4783-8F61-D8AF7604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87DD-A164-426A-BC81-F2A69421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ADEE-38F8-4DC8-902D-BAF9AE4F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316A-300E-4746-8AD7-14D3ABD9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2A2A-32B1-4BE7-9F23-599FAF06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24E0-5C1B-4ECD-8D7A-0CFD80FC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5CED-EB22-4F01-9103-B1CF1C2C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76E6-06FC-40DD-8AB8-334E940D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EDA-DB23-4977-9C97-6599A80C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1808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7F05-CB89-4785-8854-3E644835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5CA6-DF96-4F39-87F3-2BFA4EAF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6867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56E5-FB77-4355-9043-35E8954F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1808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04F9-08B0-4FF3-A64C-B41C04CD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584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2904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584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2904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D71C-4BF2-43F8-ACB2-E3914BF3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AE5-2BD0-49FC-8B83-86157A5E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38F-2A3B-48D0-9F13-CE01E941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7D0-5FFA-439E-BAA3-404C143D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79A-D950-4852-BC98-0DF90388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BEE-6292-4A5E-9033-956A4B88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808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D0C-5DCF-4AF4-A59D-2E9358B2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D04-E597-417F-995C-7ADD13AA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1F5C-1A84-43E3-94C7-D32347FB30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ECC6-FC0F-4B87-8617-B6233DFDA9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Администратор\Рабочий стол\aqycsd-2pk.jpg"/>
          <p:cNvPicPr/>
          <p:nvPr/>
        </p:nvPicPr>
        <p:blipFill>
          <a:blip r:embed="rId1"/>
          <a:stretch/>
        </p:blipFill>
        <p:spPr>
          <a:xfrm>
            <a:off x="0" y="333360"/>
            <a:ext cx="4500720" cy="4309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1120" y="549000"/>
            <a:ext cx="8462880" cy="3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БУЗОО «Клинический онкологический диспансер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4284720" y="907920"/>
            <a:ext cx="4714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400"/>
                </a:solidFill>
                <a:latin typeface="Arial"/>
              </a:rPr>
              <a:t>Отчет о реализации мини-проекта «Информационный лист как средство передачи информации                  «В центре внимания»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400"/>
                </a:solidFill>
                <a:latin typeface="Arial"/>
              </a:rPr>
              <a:t>2009 – 2010 гг.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1280" y="4869000"/>
            <a:ext cx="8964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aramond"/>
              </a:rPr>
              <a:t>Руководитель мини-проекта: Ларионова Е.В., БУЗОО КОД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aramond"/>
              </a:rPr>
              <a:t>Куратор: Турашева Т.В.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aramond"/>
              </a:rPr>
              <a:t>Координатор: Бучко О.А.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6" descr="C:\Documents and Settings\Пользователь\Мои документы\Мои рисунки\эмблема КОД.jpg"/>
          <p:cNvPicPr/>
          <p:nvPr/>
        </p:nvPicPr>
        <p:blipFill>
          <a:blip r:embed="rId2"/>
          <a:stretch/>
        </p:blipFill>
        <p:spPr>
          <a:xfrm>
            <a:off x="0" y="0"/>
            <a:ext cx="966960" cy="996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7058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УЧАСТНИКИ ПРОЕКТ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TextBox 7"/>
          <p:cNvSpPr/>
          <p:nvPr/>
        </p:nvSpPr>
        <p:spPr>
          <a:xfrm flipH="1">
            <a:off x="3202920" y="1357200"/>
            <a:ext cx="57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3 - СТАРШИЕ МЕДИЦИНСКИЕ СЕСТРЫ;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4 - ДУБЛЕРА СТАРШИХ МЕДИЦИНСКИХ СЕСТЕР;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14 - МЕДИЦИНСКИХ СЕСТЕР;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aramond"/>
              </a:rPr>
              <a:t>2 - ФЕЛЬДШЕРА-ЛАБОРАНТА.  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9" name="Picture 6" descr="C:\Documents and Settings\Пользователь\Мои документы\Мои рисунки\эмблема КОД.jpg"/>
          <p:cNvPicPr/>
          <p:nvPr/>
        </p:nvPicPr>
        <p:blipFill>
          <a:blip r:embed="rId1"/>
          <a:stretch/>
        </p:blipFill>
        <p:spPr>
          <a:xfrm>
            <a:off x="0" y="0"/>
            <a:ext cx="966960" cy="996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Documents and Settings\Пользователь\Рабочий стол\РАБОЧАЯ\ПРОЕКТ\лидерство 2\S6002391.JPG"/>
          <p:cNvPicPr/>
          <p:nvPr/>
        </p:nvPicPr>
        <p:blipFill>
          <a:blip r:embed="rId2"/>
          <a:stretch/>
        </p:blipFill>
        <p:spPr>
          <a:xfrm>
            <a:off x="142920" y="1500120"/>
            <a:ext cx="2857320" cy="214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1" name="Picture 10" descr="C:\Documents and Settings\Пользователь\Рабочий стол\РАБОЧАЯ\ПРОЕКТ\лидерство 2\27.10.09 переговоры...гос. политика.JPG"/>
          <p:cNvPicPr/>
          <p:nvPr/>
        </p:nvPicPr>
        <p:blipFill>
          <a:blip r:embed="rId3"/>
          <a:stretch/>
        </p:blipFill>
        <p:spPr>
          <a:xfrm>
            <a:off x="357120" y="3929040"/>
            <a:ext cx="1982880" cy="2643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2" name="Picture 11" descr="C:\Documents and Settings\Пользователь\Рабочий стол\РАБОЧАЯ\ПРОЕКТ\лидерство 2\S6002383.JPG"/>
          <p:cNvPicPr/>
          <p:nvPr/>
        </p:nvPicPr>
        <p:blipFill>
          <a:blip r:embed="rId4"/>
          <a:stretch/>
        </p:blipFill>
        <p:spPr>
          <a:xfrm>
            <a:off x="5715000" y="4429080"/>
            <a:ext cx="3000240" cy="2179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3" name="Picture 13" descr="C:\Documents and Settings\Пользователь\Рабочий стол\РАБОЧАЯ\ПРОЕКТ\лидерство 2\S6002378.JPG"/>
          <p:cNvPicPr/>
          <p:nvPr/>
        </p:nvPicPr>
        <p:blipFill>
          <a:blip r:embed="rId5"/>
          <a:stretch/>
        </p:blipFill>
        <p:spPr>
          <a:xfrm>
            <a:off x="2786040" y="3735360"/>
            <a:ext cx="3048120" cy="2286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C:\Documents and Settings\Пользователь\Рабочий стол\фото 009 003.jpg"/>
          <p:cNvPicPr/>
          <p:nvPr/>
        </p:nvPicPr>
        <p:blipFill>
          <a:blip r:embed="rId1"/>
          <a:stretch/>
        </p:blipFill>
        <p:spPr>
          <a:xfrm>
            <a:off x="23760" y="2401920"/>
            <a:ext cx="2914560" cy="3865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5560" y="213840"/>
            <a:ext cx="764388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РЕАЛИЗАЦИЯ МИНИ-ПРОЕКТ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63640" y="3146040"/>
            <a:ext cx="3714840" cy="17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aramond"/>
              </a:rPr>
              <a:t>Срок реализации: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aramond"/>
              </a:rPr>
              <a:t>с 1 сентября 2009г. 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aramond"/>
              </a:rPr>
              <a:t>по  1 апреля 2010г.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85840" y="121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Информационный лист 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«В центре внимания»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8" name="Picture 6" descr="C:\Documents and Settings\Пользователь\Мои документы\Мои рисунки\эмблема КОД.jpg"/>
          <p:cNvPicPr/>
          <p:nvPr/>
        </p:nvPicPr>
        <p:blipFill>
          <a:blip r:embed="rId2"/>
          <a:stretch/>
        </p:blipFill>
        <p:spPr>
          <a:xfrm>
            <a:off x="0" y="0"/>
            <a:ext cx="966960" cy="996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Documents and Settings\Пользователь\Рабочий стол\фото 009 002.jpg"/>
          <p:cNvPicPr/>
          <p:nvPr/>
        </p:nvPicPr>
        <p:blipFill>
          <a:blip r:embed="rId3"/>
          <a:stretch/>
        </p:blipFill>
        <p:spPr>
          <a:xfrm>
            <a:off x="2243160" y="2901960"/>
            <a:ext cx="294480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48000" y="259920"/>
            <a:ext cx="291168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Garamond"/>
              </a:rPr>
              <a:t>ЦЕЛЬ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480" y="2349360"/>
            <a:ext cx="86439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Garamond"/>
              </a:rPr>
              <a:t>Создать модуль повышения информированности сестринского персонала о деятельности общественных организаций: МСМ, РАМС, ОПСА, Совета по С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2" name="Picture 6" descr="C:\Documents and Settings\Пользователь\Мои документы\Мои рисунки\эмблема КОД.jpg"/>
          <p:cNvPicPr/>
          <p:nvPr/>
        </p:nvPicPr>
        <p:blipFill>
          <a:blip r:embed="rId1"/>
          <a:stretch/>
        </p:blipFill>
        <p:spPr>
          <a:xfrm>
            <a:off x="0" y="0"/>
            <a:ext cx="966960" cy="996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81360" y="285840"/>
            <a:ext cx="33033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Garamond"/>
              </a:rPr>
              <a:t>ЗАДАЧИ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868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799"/>
              </a:spcBef>
              <a:spcAft>
                <a:spcPts val="2200"/>
              </a:spcAft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1. Активизировать работу старших медицинских сестер по повышению информированности медицинских сестер о деятельности общественных организаций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46960" indent="0">
              <a:spcBef>
                <a:spcPts val="799"/>
              </a:spcBef>
              <a:spcAft>
                <a:spcPts val="2200"/>
              </a:spcAft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2. Определить значимость информационного листа и интерес к нему медицинских сестер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46960" indent="0">
              <a:spcBef>
                <a:spcPts val="799"/>
              </a:spcBef>
              <a:spcAft>
                <a:spcPts val="2200"/>
              </a:spcAft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3. Обеспечить условия для поддержания систематического выпуска информационного лист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46960" indent="0">
              <a:spcBef>
                <a:spcPts val="799"/>
              </a:spcBef>
              <a:spcAft>
                <a:spcPts val="2200"/>
              </a:spcAft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Picture 6" descr="C:\Documents and Settings\Пользователь\Мои документы\Мои рисунки\эмблема КОД.jpg"/>
          <p:cNvPicPr/>
          <p:nvPr/>
        </p:nvPicPr>
        <p:blipFill>
          <a:blip r:embed="rId1"/>
          <a:stretch/>
        </p:blipFill>
        <p:spPr>
          <a:xfrm>
            <a:off x="0" y="0"/>
            <a:ext cx="966960" cy="996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59292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ЧТО УДАЛОСЬ СДЕЛАТЬ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25360" y="1173240"/>
            <a:ext cx="680904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143000" y="6324480"/>
            <a:ext cx="6781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0" y="148428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1. Получена поддержка Совета по СД, путем привлечения к участию в подборе информаци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2. Утвержден редакционный совет в составе 6 человек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3. Утверждена периодичность выпуска информационного листа – 1 раз в квартал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4. Подготовлены материалы для выпуска информационного листа к 3 номеру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Picture 6" descr="C:\Documents and Settings\Пользователь\Мои документы\Мои рисунки\эмблема КОД.jpg"/>
          <p:cNvPicPr/>
          <p:nvPr/>
        </p:nvPicPr>
        <p:blipFill>
          <a:blip r:embed="rId1"/>
          <a:stretch/>
        </p:blipFill>
        <p:spPr>
          <a:xfrm>
            <a:off x="0" y="0"/>
            <a:ext cx="966960" cy="996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МЕРОПРИЯТ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Я ДОСТИЖЕНИЯ ЦЕЛ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903600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7352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1. Проведено 3 заседания редакционного совета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17352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2. Подобрана  и обработана информация для выпуска информационного листа «В центре внимания»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17352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3. Проведен опрос медицинских сестер, путем анкетирования о значимости и необходимости информационного листа.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AutoShape 4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cc9900"/>
              </a:gs>
              <a:gs pos="100000">
                <a:srgbClr val="7a5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2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cc9900"/>
              </a:gs>
              <a:gs pos="100000">
                <a:srgbClr val="7a5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6" descr="C:\Documents and Settings\Пользователь\Мои документы\Мои рисунки\эмблема КОД.jpg"/>
          <p:cNvPicPr/>
          <p:nvPr/>
        </p:nvPicPr>
        <p:blipFill>
          <a:blip r:embed="rId1"/>
          <a:stretch/>
        </p:blipFill>
        <p:spPr>
          <a:xfrm>
            <a:off x="0" y="0"/>
            <a:ext cx="966960" cy="996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Garamond"/>
              </a:rPr>
              <a:t>ДОСТИЖЕНИЯ</a:t>
            </a:r>
            <a:endParaRPr b="0" lang="en-US" sz="5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7640" y="1125360"/>
            <a:ext cx="8893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5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aramond"/>
              </a:rPr>
              <a:t>1.Осуществлен тираж в количестве 60 экземпляров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5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aramond"/>
              </a:rPr>
              <a:t>2. Доведена информация до всех медицинских сестер о выпуске листка «В центре внимания» (по итогам анкетирования)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5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aramond"/>
              </a:rPr>
              <a:t>3. Выпущено 2 информационных листа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5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aramond"/>
              </a:rPr>
              <a:t>4. Увеличилось число членов ОПСА на 10 человек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5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aramond"/>
              </a:rPr>
              <a:t>5. Участники семинаров стали более активно участвовать в мероприятиях ОПСА и диспансера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1" name="Picture 6" descr="C:\Documents and Settings\Пользователь\Мои документы\Мои рисунки\эмблема КОД.jpg"/>
          <p:cNvPicPr/>
          <p:nvPr/>
        </p:nvPicPr>
        <p:blipFill>
          <a:blip r:embed="rId1"/>
          <a:stretch/>
        </p:blipFill>
        <p:spPr>
          <a:xfrm>
            <a:off x="0" y="0"/>
            <a:ext cx="966960" cy="996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63640" y="1875960"/>
            <a:ext cx="547056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2060"/>
                </a:solidFill>
                <a:latin typeface="Garamond"/>
              </a:rPr>
              <a:t>Благодарю за внимание!</a:t>
            </a:r>
            <a:endParaRPr b="0" lang="en-US" sz="7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3" name="Picture 6" descr="C:\Documents and Settings\Пользователь\Мои документы\Мои рисунки\эмблема КОД.jpg"/>
          <p:cNvPicPr/>
          <p:nvPr/>
        </p:nvPicPr>
        <p:blipFill>
          <a:blip r:embed="rId1"/>
          <a:stretch/>
        </p:blipFill>
        <p:spPr>
          <a:xfrm>
            <a:off x="0" y="0"/>
            <a:ext cx="966960" cy="996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4:26:53Z</dcterms:created>
  <dc:creator>Admin</dc:creator>
  <dc:description/>
  <cp:keywords/>
  <dc:language>en-US</dc:language>
  <cp:lastModifiedBy>ОПСА</cp:lastModifiedBy>
  <dcterms:modified xsi:type="dcterms:W3CDTF">2012-07-25T08:02:41Z</dcterms:modified>
  <cp:revision>44</cp:revision>
  <dc:subject/>
  <dc:title>Продажа продукта или услу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49</vt:lpwstr>
  </property>
</Properties>
</file>