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66DF-3912-471E-8751-E58950D3D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0FAF-3F9C-4BFA-9EBE-FF360991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1263-793D-4050-9A3C-977B086A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9628-249D-466E-9386-EFAA9D4F9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DFF59-03BA-44F5-9DA9-3C391A6FE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FC4EB-CDAA-45BC-93C1-98780A9F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34052-9767-401D-A3CB-7E6A4EF6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43715-0145-44F3-92FF-8314DB06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D03DA-FBF5-44B6-984E-19A4D585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C40F6-B1A9-4A25-A7B8-BA54B3D1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BCB0A-5FB9-4AFB-A88D-BAA65D42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9A87-9E67-4309-B760-444A0A78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7ACFC-C674-47E2-90E3-3EFCD397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3BE40-59CA-4881-AE06-09D7E514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7A5DA-8DFF-4ECB-964B-C7D3D0A4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322A4-BF5B-49BA-B2FD-6EB88DAEC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D132F-69D7-49EF-831D-622A745DF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014DE-C44B-4675-981A-5E26CDC4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8BB6A-793D-4908-8791-4AFCEA49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CAC29-F764-4A2D-B9BA-BE74686D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4A72C-8D4E-4B8A-AB1F-6AFD3398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06FDD-8742-47D5-9580-E46D86E1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001D-0EEF-4829-A023-CC070F53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719AF-1DA4-48D5-9792-82D480FF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0EAF7-42EF-4B3A-B1E5-1B1FC497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908FC-475F-440D-A016-35ECD054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74E35-A774-49A9-BB88-10853691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DD691-8301-4877-B53F-400B7153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B2C02-4DEE-44C0-9B86-4192AB99F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72955-A5FC-465F-8C80-FA6A32736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ED75-BD88-4219-9D1C-3E6A78A1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0F34-CDFB-4717-B0AA-CE1415E5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9AAA-41E8-428D-82FC-2762B1B8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3641-FB8F-4DB2-889A-40754686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D951-D886-4D7F-BE7C-3D6F84A3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59CF-B8BC-4D36-A3ED-D92488BD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66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66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066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66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66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E164-D630-43C7-8063-CDF7E94DDB6D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66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66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066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66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66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30D7-9E42-4374-8955-C9D5B80CD3B4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ftr" idx="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66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66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066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66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66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DE0A-C521-4248-BA0B-895C2D7D74CF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grpSp>
        <p:nvGrpSpPr>
          <p:cNvPr id="163" name="Прямоугольник 4"/>
          <p:cNvGrpSpPr/>
          <p:nvPr/>
        </p:nvGrpSpPr>
        <p:grpSpPr>
          <a:xfrm>
            <a:off x="-19080" y="981000"/>
            <a:ext cx="9175680" cy="171360"/>
            <a:chOff x="-19080" y="981000"/>
            <a:chExt cx="9175680" cy="171360"/>
          </a:xfrm>
        </p:grpSpPr>
        <p:pic>
          <p:nvPicPr>
            <p:cNvPr id="164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9080" y="981000"/>
              <a:ext cx="91756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100008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Подзаголовок 2"/>
          <p:cNvSpPr/>
          <p:nvPr/>
        </p:nvSpPr>
        <p:spPr>
          <a:xfrm>
            <a:off x="179280" y="1557360"/>
            <a:ext cx="878544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5800"/>
                </a:solidFill>
                <a:latin typeface="Verdana"/>
              </a:rPr>
              <a:t>Отчет о реализации мини-проект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5800"/>
                </a:solidFill>
                <a:latin typeface="Verdana"/>
              </a:rPr>
              <a:t>«Люди. События. Время.»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5800"/>
                </a:solidFill>
                <a:latin typeface="Verdana"/>
              </a:rPr>
              <a:t>(информационное письмо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одзаголовок 2"/>
          <p:cNvSpPr/>
          <p:nvPr/>
        </p:nvSpPr>
        <p:spPr>
          <a:xfrm>
            <a:off x="2627280" y="5084640"/>
            <a:ext cx="6337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>
              <a:lnSpc>
                <a:spcPct val="11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a0000"/>
                </a:solidFill>
                <a:latin typeface="Verdana"/>
              </a:rPr>
              <a:t>Руководитель проекта: Некрасова Н.А., БУЗОО КПБ им. Н.Н. Солодни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1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a0000"/>
                </a:solidFill>
                <a:latin typeface="Verdana"/>
              </a:rPr>
              <a:t>Куратор: Гирфанова Е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1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a0000"/>
                </a:solidFill>
                <a:latin typeface="Verdana"/>
              </a:rPr>
              <a:t>Координатор: Крючкова Н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одзаголовок 2"/>
          <p:cNvSpPr/>
          <p:nvPr/>
        </p:nvSpPr>
        <p:spPr>
          <a:xfrm>
            <a:off x="971640" y="3859200"/>
            <a:ext cx="6480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Verdana"/>
              </a:rPr>
              <a:t>2009 – 2010 г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grpSp>
        <p:nvGrpSpPr>
          <p:cNvPr id="235" name="Прямоугольник 4"/>
          <p:cNvGrpSpPr/>
          <p:nvPr/>
        </p:nvGrpSpPr>
        <p:grpSpPr>
          <a:xfrm>
            <a:off x="-19080" y="981000"/>
            <a:ext cx="9175680" cy="171360"/>
            <a:chOff x="-19080" y="981000"/>
            <a:chExt cx="9175680" cy="171360"/>
          </a:xfrm>
        </p:grpSpPr>
        <p:pic>
          <p:nvPicPr>
            <p:cNvPr id="236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9080" y="981000"/>
              <a:ext cx="91756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0" y="100008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Rectangle 6"/>
          <p:cNvSpPr/>
          <p:nvPr/>
        </p:nvSpPr>
        <p:spPr>
          <a:xfrm>
            <a:off x="395280" y="692280"/>
            <a:ext cx="901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Мероприятия, проведенные для достижения поставленных целей: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576360" y="1341360"/>
            <a:ext cx="478764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>
              <a:lnSpc>
                <a:spcPct val="120000"/>
              </a:lnSpc>
              <a:spcBef>
                <a:spcPts val="300"/>
              </a:spcBef>
              <a:spcAft>
                <a:spcPts val="24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с 07.10.09 г. по 16.12.09 г. на базе БУЗОО КПБ им. Н.Н. Солодникова проведены семинарские занятия  в рамках международного проекта «Лидерство в переговорах» (24 участника семинара и 2 спике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8" descr="feed-icon-6"/>
          <p:cNvPicPr/>
          <p:nvPr/>
        </p:nvPicPr>
        <p:blipFill>
          <a:blip r:embed="rId3"/>
          <a:stretch/>
        </p:blipFill>
        <p:spPr>
          <a:xfrm>
            <a:off x="179280" y="1484280"/>
            <a:ext cx="451080" cy="450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RSCN2985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5364000" y="1371600"/>
            <a:ext cx="3600720" cy="2514600"/>
          </a:xfrm>
          <a:prstGeom prst="rect">
            <a:avLst/>
          </a:prstGeom>
          <a:ln w="57240">
            <a:solidFill>
              <a:srgbClr val="005800"/>
            </a:solidFill>
            <a:miter/>
          </a:ln>
        </p:spPr>
      </p:pic>
      <p:pic>
        <p:nvPicPr>
          <p:cNvPr id="242" name="Picture 11" descr="IMG_5902"/>
          <p:cNvPicPr/>
          <p:nvPr/>
        </p:nvPicPr>
        <p:blipFill>
          <a:blip r:embed="rId5"/>
          <a:stretch/>
        </p:blipFill>
        <p:spPr>
          <a:xfrm>
            <a:off x="5364000" y="4114800"/>
            <a:ext cx="3600720" cy="2536920"/>
          </a:xfrm>
          <a:prstGeom prst="rect">
            <a:avLst/>
          </a:prstGeom>
          <a:ln w="57240">
            <a:solidFill>
              <a:srgbClr val="005800"/>
            </a:solidFill>
            <a:miter/>
          </a:ln>
        </p:spPr>
      </p:pic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grpSp>
        <p:nvGrpSpPr>
          <p:cNvPr id="244" name="Прямоугольник 4"/>
          <p:cNvGrpSpPr/>
          <p:nvPr/>
        </p:nvGrpSpPr>
        <p:grpSpPr>
          <a:xfrm>
            <a:off x="-19080" y="981000"/>
            <a:ext cx="9175680" cy="171360"/>
            <a:chOff x="-19080" y="981000"/>
            <a:chExt cx="9175680" cy="171360"/>
          </a:xfrm>
        </p:grpSpPr>
        <p:pic>
          <p:nvPicPr>
            <p:cNvPr id="245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9080" y="981000"/>
              <a:ext cx="91756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0" y="100008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Rectangle 6"/>
          <p:cNvSpPr/>
          <p:nvPr/>
        </p:nvSpPr>
        <p:spPr>
          <a:xfrm>
            <a:off x="395280" y="692280"/>
            <a:ext cx="901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Мероприятия, проведенные для достижения поставленных целе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612720" y="1197000"/>
            <a:ext cx="532764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>
              <a:lnSpc>
                <a:spcPct val="120000"/>
              </a:lnSpc>
              <a:spcBef>
                <a:spcPts val="300"/>
              </a:spcBef>
              <a:spcAft>
                <a:spcPts val="24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22.10.09 г. проведена конференция для руководителей комитетов Совета по Сестринскому  делу и медицинских сестер по тематике Международного проекта «Лидерство в переговорах» и вопросам реализации мини-проекта «Люди. События. Время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8" descr="feed-icon-6"/>
          <p:cNvPicPr/>
          <p:nvPr/>
        </p:nvPicPr>
        <p:blipFill>
          <a:blip r:embed="rId3"/>
          <a:stretch/>
        </p:blipFill>
        <p:spPr>
          <a:xfrm>
            <a:off x="179280" y="1341360"/>
            <a:ext cx="451080" cy="4510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" descr="S6005211"/>
          <p:cNvPicPr/>
          <p:nvPr/>
        </p:nvPicPr>
        <p:blipFill>
          <a:blip r:embed="rId4"/>
          <a:stretch/>
        </p:blipFill>
        <p:spPr>
          <a:xfrm>
            <a:off x="5724360" y="1461960"/>
            <a:ext cx="3240360" cy="2186280"/>
          </a:xfrm>
          <a:prstGeom prst="rect">
            <a:avLst/>
          </a:prstGeom>
          <a:ln w="57240">
            <a:solidFill>
              <a:srgbClr val="005800"/>
            </a:solidFill>
            <a:miter/>
          </a:ln>
        </p:spPr>
      </p:pic>
      <p:pic>
        <p:nvPicPr>
          <p:cNvPr id="251" name="Picture 11" descr="S6005196"/>
          <p:cNvPicPr/>
          <p:nvPr/>
        </p:nvPicPr>
        <p:blipFill>
          <a:blip r:embed="rId5"/>
          <a:stretch/>
        </p:blipFill>
        <p:spPr>
          <a:xfrm>
            <a:off x="5724360" y="4149720"/>
            <a:ext cx="3240360" cy="2374920"/>
          </a:xfrm>
          <a:prstGeom prst="rect">
            <a:avLst/>
          </a:prstGeom>
          <a:ln w="57240">
            <a:solidFill>
              <a:srgbClr val="005800"/>
            </a:solidFill>
            <a:miter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grpSp>
        <p:nvGrpSpPr>
          <p:cNvPr id="253" name="Прямоугольник 4"/>
          <p:cNvGrpSpPr/>
          <p:nvPr/>
        </p:nvGrpSpPr>
        <p:grpSpPr>
          <a:xfrm>
            <a:off x="-19080" y="981000"/>
            <a:ext cx="9175680" cy="171360"/>
            <a:chOff x="-19080" y="981000"/>
            <a:chExt cx="9175680" cy="171360"/>
          </a:xfrm>
        </p:grpSpPr>
        <p:pic>
          <p:nvPicPr>
            <p:cNvPr id="254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9080" y="981000"/>
              <a:ext cx="91756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0" y="100008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Rectangle 7"/>
          <p:cNvSpPr/>
          <p:nvPr/>
        </p:nvSpPr>
        <p:spPr>
          <a:xfrm>
            <a:off x="612720" y="1270080"/>
            <a:ext cx="561492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>
              <a:lnSpc>
                <a:spcPct val="120000"/>
              </a:lnSpc>
              <a:spcBef>
                <a:spcPts val="300"/>
              </a:spcBef>
              <a:spcAft>
                <a:spcPts val="24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1 раз в месяц заседание редакционного совета, анализ почты «обратной связи»: ключевые члены, их роль, выбор кандидатур; повышение профессионального уровня; подготовка и проведение Международного дня медицинской сест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feed-icon-6"/>
          <p:cNvPicPr/>
          <p:nvPr/>
        </p:nvPicPr>
        <p:blipFill>
          <a:blip r:embed="rId3"/>
          <a:stretch/>
        </p:blipFill>
        <p:spPr>
          <a:xfrm>
            <a:off x="179280" y="1413000"/>
            <a:ext cx="451080" cy="45072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1"/>
          <p:cNvSpPr/>
          <p:nvPr/>
        </p:nvSpPr>
        <p:spPr>
          <a:xfrm>
            <a:off x="395280" y="620640"/>
            <a:ext cx="8785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Мероприятия, проведенные для достижения поставленных цел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3" descr="Image(03)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6227640" y="1341360"/>
            <a:ext cx="2489400" cy="2951280"/>
          </a:xfrm>
          <a:prstGeom prst="rect">
            <a:avLst/>
          </a:prstGeom>
          <a:ln w="57240">
            <a:solidFill>
              <a:srgbClr val="005800"/>
            </a:solidFill>
            <a:miter/>
          </a:ln>
        </p:spPr>
      </p:pic>
      <p:pic>
        <p:nvPicPr>
          <p:cNvPr id="260" name="Picture 14" descr="Image(13)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6012000" y="4076640"/>
            <a:ext cx="2952720" cy="2505240"/>
          </a:xfrm>
          <a:prstGeom prst="rect">
            <a:avLst/>
          </a:prstGeom>
          <a:ln w="57240">
            <a:solidFill>
              <a:srgbClr val="005800"/>
            </a:solidFill>
            <a:miter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grpSp>
        <p:nvGrpSpPr>
          <p:cNvPr id="262" name="Прямоугольник 4"/>
          <p:cNvGrpSpPr/>
          <p:nvPr/>
        </p:nvGrpSpPr>
        <p:grpSpPr>
          <a:xfrm>
            <a:off x="-19080" y="981000"/>
            <a:ext cx="9175680" cy="171360"/>
            <a:chOff x="-19080" y="981000"/>
            <a:chExt cx="9175680" cy="171360"/>
          </a:xfrm>
        </p:grpSpPr>
        <p:pic>
          <p:nvPicPr>
            <p:cNvPr id="263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9080" y="981000"/>
              <a:ext cx="91756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0" y="100008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Rectangle 6"/>
          <p:cNvSpPr/>
          <p:nvPr/>
        </p:nvSpPr>
        <p:spPr>
          <a:xfrm>
            <a:off x="755640" y="3429000"/>
            <a:ext cx="8209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5800"/>
                </a:solidFill>
                <a:latin typeface="Verdana"/>
              </a:rPr>
              <a:t>улучшилась информированность медицинских сестер БУЗОО КПБ им. Н.Н. Солодникова о деятельности МСМ, РАМС, ОПСА, Совета по сестринскому делу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431640" y="0"/>
            <a:ext cx="87123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Достиж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1" descr="feed-icon-6"/>
          <p:cNvPicPr/>
          <p:nvPr/>
        </p:nvPicPr>
        <p:blipFill>
          <a:blip r:embed="rId3"/>
          <a:stretch/>
        </p:blipFill>
        <p:spPr>
          <a:xfrm>
            <a:off x="179280" y="1609560"/>
            <a:ext cx="451080" cy="451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grpSp>
        <p:nvGrpSpPr>
          <p:cNvPr id="269" name="Прямоугольник 4"/>
          <p:cNvGrpSpPr/>
          <p:nvPr/>
        </p:nvGrpSpPr>
        <p:grpSpPr>
          <a:xfrm>
            <a:off x="-19080" y="981000"/>
            <a:ext cx="9175680" cy="171360"/>
            <a:chOff x="-19080" y="981000"/>
            <a:chExt cx="9175680" cy="171360"/>
          </a:xfrm>
        </p:grpSpPr>
        <p:pic>
          <p:nvPicPr>
            <p:cNvPr id="270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9080" y="981000"/>
              <a:ext cx="91756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0" y="100008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Rectangle 6"/>
          <p:cNvSpPr/>
          <p:nvPr/>
        </p:nvSpPr>
        <p:spPr>
          <a:xfrm>
            <a:off x="324000" y="685800"/>
            <a:ext cx="8243640" cy="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Достиж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1"/>
          <p:cNvSpPr/>
          <p:nvPr/>
        </p:nvSpPr>
        <p:spPr>
          <a:xfrm>
            <a:off x="633240" y="4581360"/>
            <a:ext cx="82598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Verdana"/>
              </a:rPr>
              <a:t>привлечено к деятельности Ассоциации 28 специалистов сестринского зв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2" descr="feed-icon-6"/>
          <p:cNvPicPr/>
          <p:nvPr/>
        </p:nvPicPr>
        <p:blipFill>
          <a:blip r:embed="rId3"/>
          <a:stretch/>
        </p:blipFill>
        <p:spPr>
          <a:xfrm>
            <a:off x="179280" y="4923000"/>
            <a:ext cx="451080" cy="4507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4" descr="feed-icon-6"/>
          <p:cNvPicPr/>
          <p:nvPr/>
        </p:nvPicPr>
        <p:blipFill>
          <a:blip r:embed="rId4"/>
          <a:stretch/>
        </p:blipFill>
        <p:spPr>
          <a:xfrm>
            <a:off x="179280" y="1628640"/>
            <a:ext cx="451080" cy="45108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15"/>
          <p:cNvSpPr/>
          <p:nvPr/>
        </p:nvSpPr>
        <p:spPr>
          <a:xfrm>
            <a:off x="684360" y="1340280"/>
            <a:ext cx="845964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3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Verdana"/>
              </a:rPr>
              <a:t>активизировалась деятельность медицинских сестер больницы в общественной и профессиональной сфе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grpSp>
        <p:nvGrpSpPr>
          <p:cNvPr id="278" name="Прямоугольник 4"/>
          <p:cNvGrpSpPr/>
          <p:nvPr/>
        </p:nvGrpSpPr>
        <p:grpSpPr>
          <a:xfrm>
            <a:off x="-19080" y="981000"/>
            <a:ext cx="9175680" cy="171360"/>
            <a:chOff x="-19080" y="981000"/>
            <a:chExt cx="9175680" cy="171360"/>
          </a:xfrm>
        </p:grpSpPr>
        <p:pic>
          <p:nvPicPr>
            <p:cNvPr id="279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9080" y="981000"/>
              <a:ext cx="91756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0" y="100008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Rectangle 8"/>
          <p:cNvSpPr/>
          <p:nvPr/>
        </p:nvSpPr>
        <p:spPr>
          <a:xfrm>
            <a:off x="539640" y="2421000"/>
            <a:ext cx="7704360" cy="22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005800"/>
                </a:solidFill>
                <a:latin typeface="Arial"/>
              </a:rPr>
              <a:t>Благодарю за внимание!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grpSp>
        <p:nvGrpSpPr>
          <p:cNvPr id="170" name="Прямоугольник 4"/>
          <p:cNvGrpSpPr/>
          <p:nvPr/>
        </p:nvGrpSpPr>
        <p:grpSpPr>
          <a:xfrm>
            <a:off x="-19080" y="981000"/>
            <a:ext cx="9175680" cy="171360"/>
            <a:chOff x="-19080" y="981000"/>
            <a:chExt cx="9175680" cy="171360"/>
          </a:xfrm>
        </p:grpSpPr>
        <p:pic>
          <p:nvPicPr>
            <p:cNvPr id="171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9080" y="981000"/>
              <a:ext cx="91756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0" y="100008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11"/>
          <p:cNvSpPr/>
          <p:nvPr/>
        </p:nvSpPr>
        <p:spPr>
          <a:xfrm>
            <a:off x="431640" y="260280"/>
            <a:ext cx="871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Цель проек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39640" y="1844640"/>
            <a:ext cx="7993080" cy="23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800"/>
                </a:solidFill>
                <a:latin typeface="Verdana"/>
              </a:rPr>
              <a:t>Создание системы информирования медицинских сестер о деятельности Общественных сестринских организа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grpSp>
        <p:nvGrpSpPr>
          <p:cNvPr id="176" name="Прямоугольник 4"/>
          <p:cNvGrpSpPr/>
          <p:nvPr/>
        </p:nvGrpSpPr>
        <p:grpSpPr>
          <a:xfrm>
            <a:off x="-19080" y="981000"/>
            <a:ext cx="9175680" cy="171360"/>
            <a:chOff x="-19080" y="981000"/>
            <a:chExt cx="9175680" cy="171360"/>
          </a:xfrm>
        </p:grpSpPr>
        <p:pic>
          <p:nvPicPr>
            <p:cNvPr id="177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9080" y="981000"/>
              <a:ext cx="91756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100008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Rectangle 9"/>
          <p:cNvSpPr/>
          <p:nvPr/>
        </p:nvSpPr>
        <p:spPr>
          <a:xfrm>
            <a:off x="250920" y="620640"/>
            <a:ext cx="89294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108000" y="1150920"/>
            <a:ext cx="88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90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611280" y="1773360"/>
            <a:ext cx="835344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>
              <a:lnSpc>
                <a:spcPct val="110000"/>
              </a:lnSpc>
              <a:spcBef>
                <a:spcPts val="300"/>
              </a:spcBef>
              <a:spcAft>
                <a:spcPts val="11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Verdana"/>
              </a:rPr>
              <a:t>улучшить информированность медицинских сестер о деятельности Общественных сестринских организац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10000"/>
              </a:lnSpc>
              <a:spcBef>
                <a:spcPts val="300"/>
              </a:spcBef>
              <a:spcAft>
                <a:spcPts val="11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Verdana"/>
              </a:rPr>
              <a:t>привлечь в Омскую профессиональную сестринскую ассоциацию медицинских сестер, не являющихся членами Ассоциац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10000"/>
              </a:lnSpc>
              <a:spcBef>
                <a:spcPts val="300"/>
              </a:spcBef>
              <a:spcAft>
                <a:spcPts val="11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Verdana"/>
              </a:rPr>
              <a:t>увеличить численность членов ОПСА КПБ им. Н.Н. Солоднико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2" descr="feed-icon-6"/>
          <p:cNvPicPr/>
          <p:nvPr/>
        </p:nvPicPr>
        <p:blipFill>
          <a:blip r:embed="rId3"/>
          <a:stretch/>
        </p:blipFill>
        <p:spPr>
          <a:xfrm>
            <a:off x="179280" y="1916280"/>
            <a:ext cx="451080" cy="450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3" descr="feed-icon-6"/>
          <p:cNvPicPr/>
          <p:nvPr/>
        </p:nvPicPr>
        <p:blipFill>
          <a:blip r:embed="rId4"/>
          <a:stretch/>
        </p:blipFill>
        <p:spPr>
          <a:xfrm>
            <a:off x="179280" y="3357720"/>
            <a:ext cx="451080" cy="450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4" descr="feed-icon-6"/>
          <p:cNvPicPr/>
          <p:nvPr/>
        </p:nvPicPr>
        <p:blipFill>
          <a:blip r:embed="rId5"/>
          <a:stretch/>
        </p:blipFill>
        <p:spPr>
          <a:xfrm>
            <a:off x="179280" y="5300640"/>
            <a:ext cx="451080" cy="450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grpSp>
        <p:nvGrpSpPr>
          <p:cNvPr id="186" name="Прямоугольник 4"/>
          <p:cNvGrpSpPr/>
          <p:nvPr/>
        </p:nvGrpSpPr>
        <p:grpSpPr>
          <a:xfrm>
            <a:off x="-19080" y="981000"/>
            <a:ext cx="9175680" cy="171360"/>
            <a:chOff x="-19080" y="981000"/>
            <a:chExt cx="9175680" cy="171360"/>
          </a:xfrm>
        </p:grpSpPr>
        <p:pic>
          <p:nvPicPr>
            <p:cNvPr id="187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9080" y="981000"/>
              <a:ext cx="91756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100008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Rectangle 8"/>
          <p:cNvSpPr/>
          <p:nvPr/>
        </p:nvSpPr>
        <p:spPr>
          <a:xfrm>
            <a:off x="324000" y="260280"/>
            <a:ext cx="921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Период реализа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181080" y="2349360"/>
            <a:ext cx="8783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5800"/>
                </a:solidFill>
                <a:latin typeface="Verdana"/>
              </a:rPr>
              <a:t>1 октября 2009 г. –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5800"/>
                </a:solidFill>
                <a:latin typeface="Verdana"/>
              </a:rPr>
              <a:t>1 апреля 2010 г.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grpSp>
        <p:nvGrpSpPr>
          <p:cNvPr id="192" name="Прямоугольник 4"/>
          <p:cNvGrpSpPr/>
          <p:nvPr/>
        </p:nvGrpSpPr>
        <p:grpSpPr>
          <a:xfrm>
            <a:off x="-19080" y="981000"/>
            <a:ext cx="9175680" cy="171360"/>
            <a:chOff x="-19080" y="981000"/>
            <a:chExt cx="9175680" cy="171360"/>
          </a:xfrm>
        </p:grpSpPr>
        <p:pic>
          <p:nvPicPr>
            <p:cNvPr id="193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9080" y="981000"/>
              <a:ext cx="91756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0" y="100008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Rectangle 7"/>
          <p:cNvSpPr/>
          <p:nvPr/>
        </p:nvSpPr>
        <p:spPr>
          <a:xfrm>
            <a:off x="395280" y="620640"/>
            <a:ext cx="8785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Что удалось сдела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322200" y="119700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10000"/>
              </a:lnSpc>
              <a:spcAft>
                <a:spcPts val="2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826920" y="1844640"/>
            <a:ext cx="835344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>
              <a:lnSpc>
                <a:spcPct val="120000"/>
              </a:lnSpc>
              <a:spcBef>
                <a:spcPts val="300"/>
              </a:spcBef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800"/>
                </a:solidFill>
                <a:latin typeface="Verdana"/>
              </a:rPr>
              <a:t>получить поддержку администрации больницы на проведение мини-проекта, решить организационные вопрос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0" descr="feed-icon-6"/>
          <p:cNvPicPr/>
          <p:nvPr/>
        </p:nvPicPr>
        <p:blipFill>
          <a:blip r:embed="rId3"/>
          <a:stretch/>
        </p:blipFill>
        <p:spPr>
          <a:xfrm>
            <a:off x="179280" y="2133720"/>
            <a:ext cx="595440" cy="595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grpSp>
        <p:nvGrpSpPr>
          <p:cNvPr id="200" name="Прямоугольник 4"/>
          <p:cNvGrpSpPr/>
          <p:nvPr/>
        </p:nvGrpSpPr>
        <p:grpSpPr>
          <a:xfrm>
            <a:off x="-19080" y="981000"/>
            <a:ext cx="9175680" cy="171360"/>
            <a:chOff x="-19080" y="981000"/>
            <a:chExt cx="9175680" cy="171360"/>
          </a:xfrm>
        </p:grpSpPr>
        <p:pic>
          <p:nvPicPr>
            <p:cNvPr id="201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9080" y="981000"/>
              <a:ext cx="91756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0" y="100008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Rectangle 7"/>
          <p:cNvSpPr/>
          <p:nvPr/>
        </p:nvSpPr>
        <p:spPr>
          <a:xfrm>
            <a:off x="324000" y="620640"/>
            <a:ext cx="88563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Что удалось сдела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322200" y="119700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10000"/>
              </a:lnSpc>
              <a:spcAft>
                <a:spcPts val="2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611280" y="1341360"/>
            <a:ext cx="6337080" cy="32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>
              <a:lnSpc>
                <a:spcPct val="120000"/>
              </a:lnSpc>
              <a:spcBef>
                <a:spcPts val="300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Verdana"/>
              </a:rPr>
              <a:t>сформировать систему «обратной связи» через установку ящика «Ваши предложения» у стенда «Наша сестринская ассоциация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20000"/>
              </a:lnSpc>
              <a:spcBef>
                <a:spcPts val="300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0" descr="feed-icon-6"/>
          <p:cNvPicPr/>
          <p:nvPr/>
        </p:nvPicPr>
        <p:blipFill>
          <a:blip r:embed="rId3"/>
          <a:stretch/>
        </p:blipFill>
        <p:spPr>
          <a:xfrm>
            <a:off x="179280" y="1557360"/>
            <a:ext cx="451080" cy="450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Копия DSCN2977"/>
          <p:cNvPicPr/>
          <p:nvPr/>
        </p:nvPicPr>
        <p:blipFill>
          <a:blip r:embed="rId4"/>
          <a:stretch/>
        </p:blipFill>
        <p:spPr>
          <a:xfrm>
            <a:off x="5219640" y="3930480"/>
            <a:ext cx="3708360" cy="2756160"/>
          </a:xfrm>
          <a:prstGeom prst="rect">
            <a:avLst/>
          </a:prstGeom>
          <a:ln w="57240">
            <a:solidFill>
              <a:srgbClr val="005800"/>
            </a:solidFill>
            <a:miter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grpSp>
        <p:nvGrpSpPr>
          <p:cNvPr id="209" name="Прямоугольник 4"/>
          <p:cNvGrpSpPr/>
          <p:nvPr/>
        </p:nvGrpSpPr>
        <p:grpSpPr>
          <a:xfrm>
            <a:off x="0" y="907920"/>
            <a:ext cx="9174240" cy="177840"/>
            <a:chOff x="0" y="907920"/>
            <a:chExt cx="9174240" cy="177840"/>
          </a:xfrm>
        </p:grpSpPr>
        <p:pic>
          <p:nvPicPr>
            <p:cNvPr id="210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0" y="907920"/>
              <a:ext cx="91742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9080" y="92700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Rectangle 6"/>
          <p:cNvSpPr/>
          <p:nvPr/>
        </p:nvSpPr>
        <p:spPr>
          <a:xfrm>
            <a:off x="684360" y="1268280"/>
            <a:ext cx="78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90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324000" y="260280"/>
            <a:ext cx="885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Что удалось сдела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611280" y="1268280"/>
            <a:ext cx="8532720" cy="21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>
              <a:lnSpc>
                <a:spcPct val="120000"/>
              </a:lnSpc>
              <a:spcBef>
                <a:spcPts val="300"/>
              </a:spcBef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Verdana"/>
              </a:rPr>
              <a:t>создать редакционный совет из числа членов Совета по сестринскому де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20000"/>
              </a:lnSpc>
              <a:spcBef>
                <a:spcPts val="300"/>
              </a:spcBef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0" descr="feed-icon-6"/>
          <p:cNvPicPr/>
          <p:nvPr/>
        </p:nvPicPr>
        <p:blipFill>
          <a:blip r:embed="rId3"/>
          <a:stretch/>
        </p:blipFill>
        <p:spPr>
          <a:xfrm>
            <a:off x="179280" y="1484280"/>
            <a:ext cx="451080" cy="450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3" descr="S6005383"/>
          <p:cNvPicPr/>
          <p:nvPr/>
        </p:nvPicPr>
        <p:blipFill>
          <a:blip r:embed="rId4"/>
          <a:stretch/>
        </p:blipFill>
        <p:spPr>
          <a:xfrm>
            <a:off x="4140360" y="3141720"/>
            <a:ext cx="4848120" cy="3568680"/>
          </a:xfrm>
          <a:prstGeom prst="rect">
            <a:avLst/>
          </a:prstGeom>
          <a:ln w="57240">
            <a:solidFill>
              <a:srgbClr val="005800"/>
            </a:solidFill>
            <a:miter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grpSp>
        <p:nvGrpSpPr>
          <p:cNvPr id="218" name="Прямоугольник 4"/>
          <p:cNvGrpSpPr/>
          <p:nvPr/>
        </p:nvGrpSpPr>
        <p:grpSpPr>
          <a:xfrm>
            <a:off x="-19080" y="981000"/>
            <a:ext cx="9175680" cy="171360"/>
            <a:chOff x="-19080" y="981000"/>
            <a:chExt cx="9175680" cy="171360"/>
          </a:xfrm>
        </p:grpSpPr>
        <p:pic>
          <p:nvPicPr>
            <p:cNvPr id="219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9080" y="981000"/>
              <a:ext cx="91756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0" y="100008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Rectangle 6"/>
          <p:cNvSpPr/>
          <p:nvPr/>
        </p:nvSpPr>
        <p:spPr>
          <a:xfrm>
            <a:off x="684360" y="1268280"/>
            <a:ext cx="78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90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324000" y="620640"/>
            <a:ext cx="885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Что удалось сдела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900000" y="1844640"/>
            <a:ext cx="8460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>
              <a:lnSpc>
                <a:spcPct val="120000"/>
              </a:lnSpc>
              <a:spcBef>
                <a:spcPts val="3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800"/>
                </a:solidFill>
                <a:latin typeface="Verdana"/>
              </a:rPr>
              <a:t>определить формат, периодичность и тематику основных рубрик информационного пись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20000"/>
              </a:lnSpc>
              <a:spcBef>
                <a:spcPts val="3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6" descr="feed-icon-6"/>
          <p:cNvPicPr/>
          <p:nvPr/>
        </p:nvPicPr>
        <p:blipFill>
          <a:blip r:embed="rId3"/>
          <a:stretch/>
        </p:blipFill>
        <p:spPr>
          <a:xfrm>
            <a:off x="179280" y="2060640"/>
            <a:ext cx="595440" cy="595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grpSp>
        <p:nvGrpSpPr>
          <p:cNvPr id="226" name="Прямоугольник 4"/>
          <p:cNvGrpSpPr/>
          <p:nvPr/>
        </p:nvGrpSpPr>
        <p:grpSpPr>
          <a:xfrm>
            <a:off x="-19080" y="981000"/>
            <a:ext cx="9175680" cy="171360"/>
            <a:chOff x="-19080" y="981000"/>
            <a:chExt cx="9175680" cy="171360"/>
          </a:xfrm>
        </p:grpSpPr>
        <p:pic>
          <p:nvPicPr>
            <p:cNvPr id="227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9080" y="981000"/>
              <a:ext cx="91756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0" y="100008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Rectangle 6"/>
          <p:cNvSpPr/>
          <p:nvPr/>
        </p:nvSpPr>
        <p:spPr>
          <a:xfrm>
            <a:off x="324000" y="620640"/>
            <a:ext cx="885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Что удалось сдела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611280" y="1106640"/>
            <a:ext cx="828180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Verdana"/>
              </a:rPr>
              <a:t>выпустить и распространить по структурным подразделениям больницы информационное письмо «Люди. События. Время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2" descr="feed-icon-6"/>
          <p:cNvPicPr/>
          <p:nvPr/>
        </p:nvPicPr>
        <p:blipFill>
          <a:blip r:embed="rId3"/>
          <a:stretch/>
        </p:blipFill>
        <p:spPr>
          <a:xfrm>
            <a:off x="179280" y="1413000"/>
            <a:ext cx="451080" cy="450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3" descr="S6005483"/>
          <p:cNvPicPr/>
          <p:nvPr/>
        </p:nvPicPr>
        <p:blipFill>
          <a:blip r:embed="rId4"/>
          <a:stretch/>
        </p:blipFill>
        <p:spPr>
          <a:xfrm>
            <a:off x="611280" y="4005360"/>
            <a:ext cx="3529080" cy="2646360"/>
          </a:xfrm>
          <a:prstGeom prst="rect">
            <a:avLst/>
          </a:prstGeom>
          <a:ln w="57240">
            <a:solidFill>
              <a:srgbClr val="005800"/>
            </a:solidFill>
            <a:miter/>
          </a:ln>
        </p:spPr>
      </p:pic>
      <p:pic>
        <p:nvPicPr>
          <p:cNvPr id="233" name="Picture 14" descr="S6005481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4932360" y="4005360"/>
            <a:ext cx="3600360" cy="2679480"/>
          </a:xfrm>
          <a:prstGeom prst="rect">
            <a:avLst/>
          </a:prstGeom>
          <a:ln w="57240">
            <a:solidFill>
              <a:srgbClr val="005800"/>
            </a:solidFill>
            <a:miter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07:36:25Z</dcterms:created>
  <dc:creator>User</dc:creator>
  <dc:description/>
  <dc:language>en-US</dc:language>
  <cp:lastModifiedBy>ОПСА</cp:lastModifiedBy>
  <dcterms:modified xsi:type="dcterms:W3CDTF">2012-07-25T08:01:49Z</dcterms:modified>
  <cp:revision>118</cp:revision>
  <dc:subject/>
  <dc:title>Слайд 1</dc:title>
</cp:coreProperties>
</file>