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475-F485-492F-B075-59D7F348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EBD-39E8-4B97-BF2A-2FA8ADB9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5C0-E575-4FA6-A1B7-05FE1B17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8D7-4706-49B5-BB4C-911E5708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FE3E-F2AD-4AC6-9CFC-C49F222C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3B5-18AE-404B-92C1-DEDEED60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B54-EE3E-497C-9329-3414CFE5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C8A-F135-474B-AF0C-EC742932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316-F490-43D4-BDD7-3566EFEB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B9DE-835D-4CA0-9D6F-7A32B567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73A-0212-4635-83B5-73900712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178-C757-43C8-BBAE-757158A3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1308-13E7-4965-B249-4D41FA915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76320" y="1905120"/>
            <a:ext cx="922032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800"/>
                </a:solidFill>
                <a:latin typeface="Arial"/>
              </a:rPr>
              <a:t>Давайте познакомимся с новыми участниками семинар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9:59:2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