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0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60E0-7793-4DA1-8494-D2512F6A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59A8-4AA6-42D2-BDED-D9A9D78F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EDF7-C2D9-41BA-B164-4EEDBAEA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451A-2DAC-4D64-BB9B-FBBCAE8F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438E-6755-4E66-BE09-7505947C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AF19-72AD-4FEF-9BB5-0533B433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94F0-A468-43DD-8B23-789159AF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70B1-A916-4916-BF33-586B9A7E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093B-5AE9-46D5-9165-48D37021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CF89-ABCD-4767-B2DD-3CF189AA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D9AA-9306-4E0E-841F-D1011261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C08-2C8C-4216-9777-F076F481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C63B-5676-4CAF-B185-43387A17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4A43-D744-44DD-9AAF-1E4897F8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0F68-5ECE-42ED-82E8-612E6E6D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8FB3-79D3-424E-AE63-6790FB3E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B6AB-875E-4319-875D-1A752408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FD9-4209-420E-ACC5-D6635AF2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B09D-B419-4677-8B74-C4D4303A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A889-992E-4D2C-A103-F278436D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702-C575-45C9-9FFB-D559D738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334D-6E06-475A-AEB1-927B5BBE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01C-EFC6-4B79-9FCE-A422AB9C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7FD8-C7D3-4826-B3FA-B288DD9B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55A3-2642-4631-8F5D-C73F98110324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CF7C-686A-41D9-8C55-F40E17DB8A64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03280" y="4936680"/>
            <a:ext cx="7632720" cy="17319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уководитель мини-проекта:  Касьян О.Н.,                         ИКБ № 1 им. Далматова Д.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Куратор: Петриляйнен Т.С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Координатор:  Крючкова Н.Ю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6360" y="793800"/>
            <a:ext cx="90727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Отчет                                         о реализации мини-проекта «Вместе мы непобедимы!»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2009 – 2010 гг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9581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РОВЕДЕННЫЕ  МЕРОПРИЯТИЯ:</a:t>
            </a:r>
            <a:endParaRPr b="0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7640" y="2276640"/>
            <a:ext cx="3567240" cy="38908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ена  конференция для сотрудников о деятельности РАМС, МСМ.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 ноября 2009 года.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утствовали 25 человек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2" name="Содержимое 6" descr="DSC01989.JPG"/>
          <p:cNvPicPr/>
          <p:nvPr/>
        </p:nvPicPr>
        <p:blipFill>
          <a:blip r:embed="rId1"/>
          <a:stretch/>
        </p:blipFill>
        <p:spPr>
          <a:xfrm>
            <a:off x="3995640" y="2133720"/>
            <a:ext cx="5148360" cy="4163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ДОСТИЖЕНИЯ:</a:t>
            </a:r>
            <a:endParaRPr b="0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000" y="1945800"/>
            <a:ext cx="882036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90000"/>
              </a:lnSpc>
              <a:spcBef>
                <a:spcPts val="75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силась информативность  медицинского персонала о деятельности ОПСА, РАМС, МСМ;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75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онный стенд выпущен в марте 2010 года , периодичность смены информации – ежеквартально;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75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лечено к деятельности Ассоциации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6 человек ( Бортенко В.Л., Вялкова Е.А., Дедкова И.В., Лубинец С.П., Вохмина В.В., Петроченко И.В.);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3516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523800" y="549360"/>
            <a:ext cx="7785000" cy="1358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3640" y="2382840"/>
            <a:ext cx="8643960" cy="428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algn="ctr">
              <a:lnSpc>
                <a:spcPct val="130000"/>
              </a:lnSpc>
              <a:spcBef>
                <a:spcPts val="1001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ировать медицинский персонал о  деятельности общественных сестринских организаций, путем выпуска информационного стенд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523800" y="706320"/>
            <a:ext cx="7766280" cy="1287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3640" y="2204640"/>
            <a:ext cx="8535960" cy="407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4000"/>
          </a:bodyPr>
          <a:p>
            <a:pPr algn="ctr">
              <a:spcBef>
                <a:spcPts val="950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ать проект и подготовить информационный стенд;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учшить информированность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стринского персонала ЛПУ о деятельности сестринского движения;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523800" y="781200"/>
            <a:ext cx="7785000" cy="1212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0280" y="2133360"/>
            <a:ext cx="7772400" cy="4214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ть возможность каждому члену  Ассоциации внести свои предложения, пожелания, задать интересующие вопросы и получить ответы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лечь в Ассоциацию новых членов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523800" y="731880"/>
            <a:ext cx="7785000" cy="2017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29920" y="3718080"/>
            <a:ext cx="8218440" cy="10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1.10.2009 - 01.04.2010 гг.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5480" y="713880"/>
            <a:ext cx="2857320" cy="1428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УДАЛОСЬ СДЕЛАТЬ:</a:t>
            </a:r>
            <a:endParaRPr b="0" lang="en-US" sz="32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857320"/>
            <a:ext cx="2819520" cy="22143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устить информационный стенд;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7" name="Рисунок 3" descr="DSC01982.JPG"/>
          <p:cNvPicPr/>
          <p:nvPr/>
        </p:nvPicPr>
        <p:blipFill>
          <a:blip r:embed="rId1"/>
          <a:stretch/>
        </p:blipFill>
        <p:spPr>
          <a:xfrm rot="429000">
            <a:off x="3131640" y="981000"/>
            <a:ext cx="5688000" cy="4557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РОВЕДЕННЫЕ  МЕРОПРИЯТИЯ:</a:t>
            </a:r>
            <a:endParaRPr b="0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09" name="Содержимое 6" descr="DSC01966.JPG"/>
          <p:cNvPicPr/>
          <p:nvPr/>
        </p:nvPicPr>
        <p:blipFill>
          <a:blip r:embed="rId1"/>
          <a:stretch/>
        </p:blipFill>
        <p:spPr>
          <a:xfrm>
            <a:off x="0" y="4214880"/>
            <a:ext cx="3214800" cy="264312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7" descr="DSC01985.JPG"/>
          <p:cNvPicPr/>
          <p:nvPr/>
        </p:nvPicPr>
        <p:blipFill>
          <a:blip r:embed="rId2"/>
          <a:stretch/>
        </p:blipFill>
        <p:spPr>
          <a:xfrm>
            <a:off x="5857920" y="4392720"/>
            <a:ext cx="3286080" cy="2465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429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ctr">
              <a:lnSpc>
                <a:spcPct val="100000"/>
              </a:lnSpc>
              <a:spcBef>
                <a:spcPts val="85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ована  команда для подготовки и оформления информационного стенда, определили тематику и периодичность смены материала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2" name="Object 2" descr=""/>
          <p:cNvPicPr/>
          <p:nvPr/>
        </p:nvPicPr>
        <p:blipFill>
          <a:blip r:embed="rId3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1" descr="DSC01977.JPG"/>
          <p:cNvPicPr/>
          <p:nvPr/>
        </p:nvPicPr>
        <p:blipFill>
          <a:blip r:embed="rId4"/>
          <a:stretch/>
        </p:blipFill>
        <p:spPr>
          <a:xfrm>
            <a:off x="2771640" y="3789360"/>
            <a:ext cx="392904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РОВЕДЕННЫЕ  МЕРОПРИЯТИЯ:</a:t>
            </a:r>
            <a:endParaRPr b="0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786200" y="2214720"/>
            <a:ext cx="410688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раны ответственные лица для своевременного обновления информации на стенде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6" name="Содержимое 8" descr="DSC01971.JPG"/>
          <p:cNvPicPr/>
          <p:nvPr/>
        </p:nvPicPr>
        <p:blipFill>
          <a:blip r:embed="rId1"/>
          <a:stretch/>
        </p:blipFill>
        <p:spPr>
          <a:xfrm>
            <a:off x="250920" y="2384280"/>
            <a:ext cx="4752720" cy="3565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42920" y="2000160"/>
            <a:ext cx="3286080" cy="45007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жено проведение 2 регионального семинара в рамках международного проекта  «Лидерство в переговорах»;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.09.2009-15.12.2009гг (обучаются 24 специалиста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285480"/>
            <a:ext cx="80294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РОВЕДЕННЫЕ  МЕРОПРИЯТИЯ:</a:t>
            </a:r>
            <a:endParaRPr b="0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19" name="Содержимое 14" descr="DSC01988.JPG"/>
          <p:cNvPicPr/>
          <p:nvPr/>
        </p:nvPicPr>
        <p:blipFill>
          <a:blip r:embed="rId1"/>
          <a:stretch/>
        </p:blipFill>
        <p:spPr>
          <a:xfrm>
            <a:off x="3708360" y="2116080"/>
            <a:ext cx="5256360" cy="3942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4:36:34Z</dcterms:created>
  <dc:creator>Admin</dc:creator>
  <dc:description/>
  <dc:language>en-US</dc:language>
  <cp:lastModifiedBy>ОПСА</cp:lastModifiedBy>
  <dcterms:modified xsi:type="dcterms:W3CDTF">2012-07-25T08:02:18Z</dcterms:modified>
  <cp:revision>35</cp:revision>
  <dc:subject/>
  <dc:title>«НАША СЕСТРИНСКАЯ АССОЦИАЦИЯ»</dc:title>
</cp:coreProperties>
</file>