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E9F-D2BE-4346-90CA-D89ABCF3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006-7A83-4361-8EA3-A1175C8B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311-3EB4-46AA-ADA3-F57FE105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35C-7ACA-4181-8D8C-677C97CD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083-557A-4C8C-8E73-67E2474D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495-F476-48D6-9FB2-5346A87D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D35-7F72-42D3-BAD1-D5D88E22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4EE-ACB1-4C62-ABAB-B626BB8A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A80-0A99-4EA3-9EBA-0F75FB66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844-4B6D-4066-823D-01071133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70C-7C81-4D60-BB78-B1B78ECF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40B-F4E8-4FBC-9D01-B7F52A0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F816-ECE3-4340-A5E3-19B2274DD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76320" y="1905120"/>
            <a:ext cx="92203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800"/>
                </a:solidFill>
                <a:latin typeface="Arial"/>
              </a:rPr>
              <a:t>Давайте познакомимся с новыми участниками семинар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9:59:2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