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6FD4-2067-4CCB-871B-685ACD7E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E2DE-AB3C-4055-AE64-040846DA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A40-41C2-466F-B6C9-2D0AE984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8DB2-2974-4B45-8CF2-724AD8E4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95A4-23BE-4355-BC98-3D3B39B6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6B16-E4FC-4F6E-BD7B-167BB3A8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49AA-BAE4-4701-BCFE-2833AF90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0DC5-E69E-4992-81A9-E1B47152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4FA4-3734-440E-AC62-189F1262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6DD9-029D-44FC-A4C9-B75090F3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00D1-F7C4-4D6E-A94B-A7C6235F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A4E4-4468-4961-890A-DC59E89C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C8F2-5A52-416F-997F-DFEA9413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DF83-B8E0-4D39-94AA-B35F4746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3599-458F-4823-836E-0F72482B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1907-6F8A-43F5-A026-F7D70069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2A55-23BC-4192-8576-97865506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8C27-18BD-438A-BA44-13BF5831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B1ED-B876-4A23-A3AC-4453CE35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47D-AD49-4670-9586-7033BBBE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A0F3-F377-4CDB-82DB-D6DD9F9B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F4CC-CEDE-4C3C-8F07-6CA433FF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4EEF-42E6-42C0-BFDE-3B67062B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849A-DDF6-40D6-9904-A3276467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cc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CC67-01EB-47EA-8D47-221F051940C3}" type="slidenum">
              <a:rPr b="1" lang="ru-RU" sz="2600" spc="-1" strike="noStrike">
                <a:solidFill>
                  <a:srgbClr val="cc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cc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0D3E-702A-4353-8366-09948314F6D6}" type="slidenum">
              <a:rPr b="1" lang="ru-RU" sz="2600" spc="-1" strike="noStrike">
                <a:solidFill>
                  <a:srgbClr val="cc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55280" y="1052640"/>
            <a:ext cx="831708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cc99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Отчет о реализации мини-проект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971640" y="4573440"/>
            <a:ext cx="7980120" cy="1879920"/>
          </a:xfrm>
          <a:prstGeom prst="rect">
            <a:avLst/>
          </a:prstGeom>
          <a:solidFill>
            <a:srgbClr val="ccffcc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уководитель мини-проекта: Титова Л.С.,              НУЗ ОКБ на ст. Омск – Пассажирский ОАО РЖ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уратор проекта: Земнухова Т.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ординатор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валенко Н.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903240" y="6518160"/>
            <a:ext cx="1468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5.05.2010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971640" y="2427120"/>
            <a:ext cx="7921440" cy="1146240"/>
          </a:xfrm>
          <a:prstGeom prst="rect">
            <a:avLst/>
          </a:prstGeom>
          <a:solidFill>
            <a:srgbClr val="ccffcc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«Информация, доступная всем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2009 – 2010 гг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1116000" y="3438360"/>
            <a:ext cx="684072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0" spc="-1" strike="noStrike">
                <a:solidFill>
                  <a:srgbClr val="006666"/>
                </a:solidFill>
                <a:latin typeface="Arial"/>
              </a:rPr>
              <a:t>Благодарю за внимание!</a:t>
            </a:r>
            <a:endParaRPr b="0" lang="en-US" sz="7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66"/>
                </a:solidFill>
                <a:latin typeface="Arial"/>
              </a:rPr>
              <a:t>Цель мини-проекта:</a:t>
            </a:r>
            <a:br>
              <a:rPr sz="2000"/>
            </a:b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lnSpc>
                <a:spcPct val="110000"/>
              </a:lnSpc>
              <a:spcBef>
                <a:spcPts val="850"/>
              </a:spcBef>
              <a:spcAft>
                <a:spcPts val="2339"/>
              </a:spcAft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Arial"/>
              </a:rPr>
              <a:t>Повышение информированности сестринского персонала о деятельности МСМ, РАМС, ОПСА, Совета по СД ЛПУ через сайт ОПСА.</a:t>
            </a:r>
            <a:endParaRPr b="0" lang="en-US" sz="34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lnSpc>
                <a:spcPct val="110000"/>
              </a:lnSpc>
              <a:spcBef>
                <a:spcPts val="850"/>
              </a:spcBef>
              <a:spcAft>
                <a:spcPts val="2339"/>
              </a:spcAft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3366"/>
                </a:solidFill>
                <a:latin typeface="Arial"/>
              </a:rPr>
              <a:t>Увеличение численности членов Ассоциации.</a:t>
            </a:r>
            <a:endParaRPr b="0" lang="en-US" sz="3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7160" y="24411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13720" indent="0" algn="ctr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.Подготовить информацию о работе Совета по СД  ЛПУ для выпуска странички на сайт ОПС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3720" indent="0" algn="ctr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2.Провести разъяснительную работу среди сестринского персонала ЛПУ  о целях и задачах ОПС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3720" indent="0" algn="ctr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3.Привлечь в ряды ОПСА медицинских сесте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200" spc="-1" strike="noStrike">
                <a:solidFill>
                  <a:srgbClr val="006666"/>
                </a:solidFill>
                <a:latin typeface="Arial"/>
              </a:rPr>
              <a:t>Задачи мини-проекта:</a:t>
            </a: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366"/>
                </a:solidFill>
                <a:latin typeface="Arial"/>
              </a:rPr>
              <a:t>С 27 июля 2009года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366"/>
                </a:solidFill>
                <a:latin typeface="Arial"/>
              </a:rPr>
              <a:t>по 1 апреля 2010года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06666"/>
                </a:solidFill>
                <a:latin typeface="Arial"/>
              </a:rPr>
              <a:t>Период реализации            мини-проекта:</a:t>
            </a:r>
            <a:endParaRPr b="1" lang="en-US" sz="4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66"/>
                </a:solidFill>
                <a:latin typeface="Arial"/>
              </a:rPr>
              <a:t>Что удалось сделать?</a:t>
            </a:r>
            <a:br>
              <a:rPr sz="2000"/>
            </a:b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74760" indent="-3747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ведены семинарские занятия по 16,5-часовой программе «Лидерство в переговорах» с 15.09.2009 г. по 15.12.2009 г.  Обучение прошли 24 челове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6.11.2009г. Проведено общебольничное собрание медицинских сестер- членов ОПСА по выбору ключевых членов ОПСА. Выбрано 4 ключевых член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Ежеквартальное обновление  информации о деятельности  МСМ, РАМС, ОПСА и работе Совета по СД ЛПУ на стенде «Будущее строим вместе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01.04.2010г. Выпущена страничка на сайт ОПСА о работе Совета по СД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05.04.2010г.; 06.04.2010г.; 07.04.2010г. Проведены собрания в подразделениях ЛПУ среди медсестер-членов ОПСА по итогам работы ОПСА за 2009г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Мероприятия, проведенные для достижения поставленных цел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427280" y="2361960"/>
            <a:ext cx="4103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7.07.2010г. Выступила на заседании Совета по СД о внедрении мини-проекта и определила ответственных лиц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вела семинар «Лидерство в переговорах» в ЛПУ с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5.09.2009г. по 15.12.2009г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6" descr="E:\мои фотки\DSC03732.JPG"/>
          <p:cNvPicPr/>
          <p:nvPr/>
        </p:nvPicPr>
        <p:blipFill>
          <a:blip r:embed="rId1"/>
          <a:stretch/>
        </p:blipFill>
        <p:spPr>
          <a:xfrm>
            <a:off x="1533600" y="4595760"/>
            <a:ext cx="2379600" cy="1785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DSC02579"/>
          <p:cNvPicPr/>
          <p:nvPr/>
        </p:nvPicPr>
        <p:blipFill>
          <a:blip r:embed="rId2"/>
          <a:stretch/>
        </p:blipFill>
        <p:spPr>
          <a:xfrm>
            <a:off x="1531800" y="2435400"/>
            <a:ext cx="2381400" cy="1785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57880" y="8578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Мероприятия, проведенные для достижения поставленных цел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714560" y="2428560"/>
            <a:ext cx="3762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6.11.2009г. провели общебольничное собрание  медсестер-членов ОПСА по выбору ключевых членов ОПС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05.04.2010г.; 06.04.2010г.; 07.04.2010г. проведены   собрания в подразделениях  ЛПУ по итогам работы ОПСА за 2009г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6" descr="C:\Documents and Settings\User\Рабочий стол\Новая папка\DSC04292.JPG"/>
          <p:cNvPicPr/>
          <p:nvPr/>
        </p:nvPicPr>
        <p:blipFill>
          <a:blip r:embed="rId1"/>
          <a:stretch/>
        </p:blipFill>
        <p:spPr>
          <a:xfrm>
            <a:off x="1500120" y="4429080"/>
            <a:ext cx="2486160" cy="186372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12" descr="C:\Documents and Settings\User\Мои документы\Мои рисунки\собрание выборы 1.jpg"/>
          <p:cNvPicPr/>
          <p:nvPr/>
        </p:nvPicPr>
        <p:blipFill>
          <a:blip r:embed="rId2"/>
          <a:stretch/>
        </p:blipFill>
        <p:spPr>
          <a:xfrm>
            <a:off x="1428840" y="2428920"/>
            <a:ext cx="2633400" cy="1719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Мероприятия, проведенные для достижения поставленных цел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24000" y="2579400"/>
            <a:ext cx="48956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жеквартально предоставляли  информацию о деятельности МСМ, РАМС, ОПСА и Совета по СД ЛПУ на стенд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3640" y="4882680"/>
            <a:ext cx="53989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01.04.2010г. Выпущена страничка на сайт ОПСА о работе Совета по СД НУЗ ОКБ на ст. Омск-Пассажирский ОАО «РЖД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7" descr="C:\Documents and Settings\User\Мои документы\Мои рисунки\informacionnyy-stend-2-prev.jpg"/>
          <p:cNvPicPr/>
          <p:nvPr/>
        </p:nvPicPr>
        <p:blipFill>
          <a:blip r:embed="rId1"/>
          <a:stretch/>
        </p:blipFill>
        <p:spPr>
          <a:xfrm>
            <a:off x="1116000" y="2506680"/>
            <a:ext cx="2678040" cy="1785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C:\Documents and Settings\User\Мои документы\Мои рисунки\герб.jpg"/>
          <p:cNvPicPr/>
          <p:nvPr/>
        </p:nvPicPr>
        <p:blipFill>
          <a:blip r:embed="rId2"/>
          <a:stretch/>
        </p:blipFill>
        <p:spPr>
          <a:xfrm>
            <a:off x="1116000" y="4738680"/>
            <a:ext cx="2571840" cy="1714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Arial"/>
              </a:rPr>
              <a:t>Достижения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850"/>
              </a:spcBef>
              <a:spcAft>
                <a:spcPts val="19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Arial"/>
              </a:rPr>
              <a:t>1. Повысилась информированность сестринского персонала о профессиональном сестринском движении через сайт ОПСА.</a:t>
            </a:r>
            <a:endParaRPr b="0" lang="en-US" sz="3400" spc="-1" strike="noStrike">
              <a:solidFill>
                <a:srgbClr val="003366"/>
              </a:solidFill>
              <a:latin typeface="Arial"/>
            </a:endParaRPr>
          </a:p>
          <a:p>
            <a:pPr marL="284400" indent="0" algn="ctr">
              <a:spcBef>
                <a:spcPts val="850"/>
              </a:spcBef>
              <a:spcAft>
                <a:spcPts val="19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Arial"/>
              </a:rPr>
              <a:t>2. Увеличилось количество членов ОПСА НУЗ ОКБ на ст.Омск –Пассажирский ОАО «РЖД» с 86% до 87%. </a:t>
            </a:r>
            <a:endParaRPr b="0" lang="en-US" sz="3400" spc="-1" strike="noStrike">
              <a:solidFill>
                <a:srgbClr val="003366"/>
              </a:solidFill>
              <a:latin typeface="Arial"/>
            </a:endParaRPr>
          </a:p>
          <a:p>
            <a:pPr marL="284400" indent="0" algn="ctr">
              <a:spcBef>
                <a:spcPts val="850"/>
              </a:spcBef>
              <a:spcAft>
                <a:spcPts val="19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4:22:51Z</dcterms:created>
  <dc:creator>Реанимация</dc:creator>
  <dc:description/>
  <dc:language>en-US</dc:language>
  <cp:lastModifiedBy>ОПСА</cp:lastModifiedBy>
  <dcterms:modified xsi:type="dcterms:W3CDTF">2012-07-25T08:01:34Z</dcterms:modified>
  <cp:revision>48</cp:revision>
  <dc:subject/>
  <dc:title>Слайд 1</dc:title>
</cp:coreProperties>
</file>