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FB2-D565-441C-8EF5-31267B44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938-2BB9-410F-9146-7ACAFD0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4E5-9169-4A61-9084-9E4B7AC7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6A5-144F-4795-91EB-7106BFE0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88E-4C7A-46F9-A46D-C5D73F4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B50-57B4-40BA-A0EC-87580DD9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3E5-87FD-4EC0-82F7-2AFB348D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42C-7002-487E-9458-4109CE1A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416-292F-41AB-A9B1-09930BCE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F6A-E32E-4805-9723-015101C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E73-E95D-40EA-B93F-E547D886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114-A49E-48AD-9747-24EC5D8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635D-4A3C-4267-848E-F0CDE9FEF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8916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Отчет о реализации                          мини- проекта «Наша жизнь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2009 – 2010 гг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1"/>
          <p:cNvSpPr/>
          <p:nvPr/>
        </p:nvSpPr>
        <p:spPr>
          <a:xfrm>
            <a:off x="684360" y="3789360"/>
            <a:ext cx="79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2"/>
          <p:cNvSpPr/>
          <p:nvPr/>
        </p:nvSpPr>
        <p:spPr>
          <a:xfrm>
            <a:off x="108000" y="4869000"/>
            <a:ext cx="87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уководитель мини-проекта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Т.С. Штейнепрей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ратор: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Л.А.Иващенк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ординатор: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Н.Ю. Крючк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по привлечению медицинских сестер в ассоциацию продолжаетс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ы ассоциации увеличились на +2%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ла конференции, где участники семинара получили ценные знания, как повысить эффективность информационной политик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сессии участники семинара (2 человека) назначены дублерами старших медицинских сестер: Радько Н.В. – медсестра бронхоскопического кабине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/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ушева О.В. – перевязочная медсес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/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готовлен и установлен стенд                «Наша жизнь», информация на котором обновляется 1 раз в кварт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IMG0777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496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виз: «Профессионализм, качество, мастерство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ОДКБ-2010г"/>
          <p:cNvPicPr/>
          <p:nvPr/>
        </p:nvPicPr>
        <p:blipFill>
          <a:blip r:embed="rId1"/>
          <a:stretch/>
        </p:blipFill>
        <p:spPr>
          <a:xfrm>
            <a:off x="611280" y="1052640"/>
            <a:ext cx="8208720" cy="54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ждая медицинская сестра должна быть причастна к процессу перемен в нашей профессии, реализовать свой личный потенциал, в том числе и через активную деятельность в ассоци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132000" y="271440"/>
            <a:ext cx="200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850"/>
              </a:spcBef>
              <a:spcAft>
                <a:spcPts val="1488"/>
              </a:spcAft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лучшение информированности для престижа профессии медицинских сестер о деятельности ОП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850"/>
              </a:spcBef>
              <a:spcAft>
                <a:spcPts val="1488"/>
              </a:spcAft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зготовление и установка стенда «Наша жизнь» в БУЗОО ОДК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850"/>
              </a:spcBef>
              <a:spcAft>
                <a:spcPts val="1488"/>
              </a:spcAft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величение численности членов ОПСА на 5 челове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Период реализации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01.09.2009 – 01.04.2010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49816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812160" indent="-437400">
              <a:spcBef>
                <a:spcPts val="850"/>
              </a:spcBef>
              <a:spcAft>
                <a:spcPts val="17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лучена поддержка на проведение мини проекта в бюджетном учреждении здравоохранения Омской области «Областная детская клиническая больниц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12160" indent="-437400">
              <a:spcBef>
                <a:spcPts val="850"/>
              </a:spcBef>
              <a:spcAft>
                <a:spcPts val="17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ся работа по привлечению в члены ОПСА медицинских сесте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692360" y="259920"/>
            <a:ext cx="5535360" cy="16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Что получилось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851760" indent="0">
              <a:lnSpc>
                <a:spcPct val="110000"/>
              </a:lnSpc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Подготовлены и проведе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458640">
              <a:lnSpc>
                <a:spcPct val="110000"/>
              </a:lnSpc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инар по теме «Ключевые члены/лидеры» под руководством Крючковой Н.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458640">
              <a:lnSpc>
                <a:spcPct val="110000"/>
              </a:lnSpc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ференция на тему «Управление ассоциаци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ены семинары по 16.5 часовой программ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1 занятий по 1,5 час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ОДКБ-2010г"/>
          <p:cNvPicPr/>
          <p:nvPr/>
        </p:nvPicPr>
        <p:blipFill>
          <a:blip r:embed="rId1"/>
          <a:stretch/>
        </p:blipFill>
        <p:spPr>
          <a:xfrm>
            <a:off x="73080" y="1413000"/>
            <a:ext cx="464328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ОДКБ-2010г"/>
          <p:cNvPicPr/>
          <p:nvPr/>
        </p:nvPicPr>
        <p:blipFill>
          <a:blip r:embed="rId2"/>
          <a:stretch/>
        </p:blipFill>
        <p:spPr>
          <a:xfrm>
            <a:off x="4343400" y="3429000"/>
            <a:ext cx="4800600" cy="31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дение ролевых 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ОДКБ-2010г"/>
          <p:cNvPicPr/>
          <p:nvPr/>
        </p:nvPicPr>
        <p:blipFill>
          <a:blip r:embed="rId1"/>
          <a:stretch/>
        </p:blipFill>
        <p:spPr>
          <a:xfrm>
            <a:off x="209520" y="1268280"/>
            <a:ext cx="4506840" cy="338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ОДКБ-2010г"/>
          <p:cNvPicPr/>
          <p:nvPr/>
        </p:nvPicPr>
        <p:blipFill>
          <a:blip r:embed="rId2"/>
          <a:stretch/>
        </p:blipFill>
        <p:spPr>
          <a:xfrm>
            <a:off x="4287960" y="3218040"/>
            <a:ext cx="4748040" cy="33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5:01:29Z</dcterms:created>
  <dc:creator>User</dc:creator>
  <dc:description/>
  <dc:language>en-US</dc:language>
  <cp:lastModifiedBy>ОПСА</cp:lastModifiedBy>
  <dcterms:modified xsi:type="dcterms:W3CDTF">2012-07-25T08:02:03Z</dcterms:modified>
  <cp:revision>11</cp:revision>
  <dc:subject/>
  <dc:title>Отчет о реализации мини-проекта участника международного проекта «Лидерство в переговорах» 2008-2009 гг</dc:title>
</cp:coreProperties>
</file>