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A0C-A6D7-428B-80A6-8883C02A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1AC-42DD-4C6F-8EC8-90FD4744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D42-A166-4782-B8B2-20585E2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AAB-257D-4DB2-98D8-60A6FE27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D1FB-6DA1-4CB2-A8B9-E7212768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FFB3-D713-4B4B-85B3-2DC7ABD4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2D8-E66D-4844-AA6B-4C3CBD3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6B64-BAC2-4CEF-8B3B-05BCF02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160-C57E-4F40-9624-42BD3D8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4F4-9A3D-43EE-A40C-35DB1C3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0CC9-7D65-4EC0-9074-3D8AE4C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5AD-6ECF-4782-9B8B-0C08A25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574-091A-4E61-81A4-060FE03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6C83-2FB8-4C7B-A81B-A3E04D9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EEA1-525C-442B-B613-279D85DD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5072-C76D-4618-AB51-583585D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777F-BD81-4FC5-8B8B-D8BEEEAA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AF0-E031-4643-9400-0F97054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56C-D8DD-4BD0-A60C-75541C65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F1F-EF82-47C5-832F-ECD18144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A12-C12F-48EB-81C5-67E1C509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585-0A55-4B72-BB87-B02A2B0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8A7-90A7-475B-B9D0-1F96C8F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C3B-9847-44C7-B8AC-B7AF9EC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8A66-2C7E-41B3-B93F-4959D928EF7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079-C9C3-4C46-AA15-4843931448F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4941360"/>
            <a:ext cx="72392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6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 мини-проекта: Росина И.С., БУЗОО КМХЦ МЗО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атор: Мейер Н.Ф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ординатор: Бучко О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286000" y="27828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-38160" y="907920"/>
            <a:ext cx="929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Отчет о реализации мини- проекта </a:t>
            </a:r>
            <a:r>
              <a:rPr b="1" lang="ru-RU" sz="45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Сила профессии в молодости</a:t>
            </a:r>
            <a:r>
              <a:rPr b="1" lang="ru-RU" sz="45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176040" y="49320"/>
            <a:ext cx="9459720" cy="243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5877000" cy="4154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7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499760"/>
            <a:ext cx="82296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Times New Roman"/>
              </a:rPr>
              <a:t>Проблема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ительная адаптация молодых специалистов на рабочих мест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F:\фото главной\S6301475.JPG"/>
          <p:cNvPicPr/>
          <p:nvPr/>
        </p:nvPicPr>
        <p:blipFill>
          <a:blip r:embed="rId2"/>
          <a:stretch/>
        </p:blipFill>
        <p:spPr>
          <a:xfrm>
            <a:off x="1619280" y="2708280"/>
            <a:ext cx="5832360" cy="3859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98064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учши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ессиональную подготовку молодых специалистов на рабочих мест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ированность молодых специалистов о сестринской профессии и деятельности ОП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453708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6840" y="1599840"/>
            <a:ext cx="8472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ивлечь в Ассоциацию 24 молодых специалиста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Провести социологический опрос среди молодых специалис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643040" y="3514680"/>
            <a:ext cx="61628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14200" y="1599840"/>
            <a:ext cx="8715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кетирование показало, что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ены своим профессиональным выбором 93% и только 5% молодых специалистов испытали разочарование в выбранной професси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5-конечная звезда 3"/>
          <p:cNvSpPr/>
          <p:nvPr/>
        </p:nvSpPr>
        <p:spPr>
          <a:xfrm>
            <a:off x="285840" y="2357280"/>
            <a:ext cx="363600" cy="433440"/>
          </a:xfrm>
          <a:custGeom>
            <a:avLst/>
            <a:gdLst>
              <a:gd name="textAreaLeft" fmla="*/ 112320 w 363600"/>
              <a:gd name="textAreaRight" fmla="*/ 251280 w 363600"/>
              <a:gd name="textAreaTop" fmla="*/ 165600 h 433440"/>
              <a:gd name="textAreaBottom" fmla="*/ 331200 h 433440"/>
            </a:gdLst>
            <a:ahLst/>
            <a:rect l="textAreaLeft" t="textAreaTop" r="textAreaRight" b="textAreaBottom"/>
            <a:pathLst>
              <a:path w="363538" h="433387">
                <a:moveTo>
                  <a:pt x="0" y="165539"/>
                </a:moveTo>
                <a:lnTo>
                  <a:pt x="138860" y="165540"/>
                </a:lnTo>
                <a:lnTo>
                  <a:pt x="181769" y="0"/>
                </a:lnTo>
                <a:lnTo>
                  <a:pt x="224678" y="165540"/>
                </a:lnTo>
                <a:lnTo>
                  <a:pt x="363538" y="165539"/>
                </a:lnTo>
                <a:lnTo>
                  <a:pt x="251197" y="267847"/>
                </a:lnTo>
                <a:lnTo>
                  <a:pt x="294109" y="433386"/>
                </a:lnTo>
                <a:lnTo>
                  <a:pt x="181769" y="331076"/>
                </a:lnTo>
                <a:lnTo>
                  <a:pt x="69429" y="433386"/>
                </a:lnTo>
                <a:lnTo>
                  <a:pt x="112341" y="26784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Диаграмма 4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7029360" cy="2927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21392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ность медицинских сестер, после окончания учебного заведения, к самостоятельной работе и перспективах профессионального  ро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Диаграмма 3" descr=""/>
          <p:cNvPicPr/>
          <p:nvPr/>
        </p:nvPicPr>
        <p:blipFill>
          <a:blip r:embed="rId2"/>
          <a:stretch/>
        </p:blipFill>
        <p:spPr>
          <a:xfrm>
            <a:off x="214200" y="3071880"/>
            <a:ext cx="857268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5-конечная звезда 4"/>
          <p:cNvSpPr/>
          <p:nvPr/>
        </p:nvSpPr>
        <p:spPr>
          <a:xfrm>
            <a:off x="500040" y="1214280"/>
            <a:ext cx="571680" cy="571680"/>
          </a:xfrm>
          <a:custGeom>
            <a:avLst/>
            <a:gdLst>
              <a:gd name="textAreaLeft" fmla="*/ 176760 w 571680"/>
              <a:gd name="textAreaRight" fmla="*/ 394920 w 571680"/>
              <a:gd name="textAreaTop" fmla="*/ 218160 h 571680"/>
              <a:gd name="textAreaBottom" fmla="*/ 436680 h 571680"/>
            </a:gdLst>
            <a:ahLst/>
            <a:rect l="textAreaLeft" t="textAreaTop" r="textAreaRight" b="textAreaBottom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8"/>
                </a:lnTo>
                <a:lnTo>
                  <a:pt x="285750" y="436584"/>
                </a:lnTo>
                <a:lnTo>
                  <a:pt x="109147" y="571498"/>
                </a:lnTo>
                <a:lnTo>
                  <a:pt x="176605" y="35320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хема 3" descr=""/>
          <p:cNvPicPr/>
          <p:nvPr/>
        </p:nvPicPr>
        <p:blipFill>
          <a:blip r:embed="rId2"/>
          <a:stretch/>
        </p:blipFill>
        <p:spPr>
          <a:xfrm>
            <a:off x="407880" y="1620720"/>
            <a:ext cx="8467920" cy="5243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79280" y="1599840"/>
            <a:ext cx="864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751"/>
              </a:spcBef>
              <a:spcAft>
                <a:spcPts val="1687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аботана программа адаптации молодых специалистов на рабочем месте сроком на 1 год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lnSpc>
                <a:spcPct val="100000"/>
              </a:lnSpc>
              <a:spcBef>
                <a:spcPts val="751"/>
              </a:spcBef>
              <a:spcAft>
                <a:spcPts val="1687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водится постоянное обучение в  школе молодого специалиста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lnSpc>
                <a:spcPct val="100000"/>
              </a:lnSpc>
              <a:spcBef>
                <a:spcPts val="751"/>
              </a:spcBef>
              <a:spcAft>
                <a:spcPts val="1687"/>
              </a:spcAft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ведены  тренинги по профессиональной подготовке: «Оказание неотложной помощи при анафилактическом шоке», «Техника постановки инъекций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14300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 мини-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 достигнут процесс адаптации молодых специалистов на рабочих местах в те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и месяце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481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6:19:06Z</dcterms:created>
  <dc:creator>ь</dc:creator>
  <dc:description/>
  <dc:language>en-US</dc:language>
  <cp:lastModifiedBy>ОПСА</cp:lastModifiedBy>
  <dcterms:modified xsi:type="dcterms:W3CDTF">2012-07-25T08:02:57Z</dcterms:modified>
  <cp:revision>31</cp:revision>
  <dc:subject/>
  <dc:title>Слайд 1</dc:title>
</cp:coreProperties>
</file>