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1BF2-99E8-4A7F-A6F6-EF35B69D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9FC0-14D6-47A1-AEA1-801D330C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BD67-72C4-44B9-8BB7-F7E7A9CA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9BAC-622B-42E3-AD82-BB26ABD5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0D7B4-5AD7-48A7-A195-59A13542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19ECB-1635-44A9-9BD7-C26A1CD8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A62E4-77F3-40D2-85FE-9AA85876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C66F4-5188-4A80-9C9B-40F7DB98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D0573-1B97-487F-9C1E-E7075E62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906DD-6313-44E8-AB34-6B97A6F1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A56F1-3920-4FEB-903F-AC3A8FA0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7D29-0319-48DA-9987-B4976205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7221C-BB6E-46B5-8C60-4AFBC76E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909EC-D821-4157-929D-35757B1F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AADBB-14A9-4BB9-9179-71D02634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DFB3B-F0D3-40E0-8F3F-07651218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2BE61-40A5-4202-8F3E-F7B7595E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3C98-8E9F-4692-88A5-07AF6396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2219-2EC4-47FE-A6B5-DE38C96C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7D75-1046-4AAC-977E-DD2746B3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A309-EB54-44A8-A168-D60F19E0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5027-6E7B-438D-A035-B0B09499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E8F4-D1BC-4BDE-94FE-D42238CF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03F5-1C36-4F12-A195-EB170940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958A-3863-41B2-A1EA-227EB684B7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382B-E749-47D9-BC52-3FA944C421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9903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Отчет                                                        о реализации мини-проекта                «От задач к результатам»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2009 – 2010 гг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572000"/>
            <a:ext cx="8686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Aft>
                <a:spcPts val="24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Руководитель мини-проекта:                          Турабаева Б.Г., МУЗ ГБ № 9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Куратор: Смирнова В.С.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Координатор: Дацюк С.Ф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49"/>
              </a:spcBef>
              <a:spcAft>
                <a:spcPts val="1624"/>
              </a:spcAft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Провести семинарские занятия «Лидерство в переговорах»     с 15.09.09. по 15.12.09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649"/>
              </a:spcBef>
              <a:spcAft>
                <a:spcPts val="1624"/>
              </a:spcAft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Ознакомиться с пакетом документов кабинета врача общей практики с «Городской клинической больницей №1 имени А.Н. Кабанова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649"/>
              </a:spcBef>
              <a:spcAft>
                <a:spcPts val="1624"/>
              </a:spcAft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Привлечение к реализации проекта совета по СД МУЗ «ГБ №9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649"/>
              </a:spcBef>
              <a:spcAft>
                <a:spcPts val="1624"/>
              </a:spcAft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Совместное взаимодействие со старшей сестрой поликлиники в подготовке документов процедурной медицинской сестры кабинета врача общей практики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Arial Black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spcAft>
                <a:spcPts val="2126"/>
              </a:spcAft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Разработать положение и пакет нормативных документов процедурной медицинской сестры кабинета врача общей практики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spcAft>
                <a:spcPts val="2126"/>
              </a:spcAft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Организовать работу процедурной медсестры кабинета врача общей практики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66ff33"/>
                </a:solidFill>
                <a:latin typeface="Arial Black"/>
              </a:rPr>
              <a:t>Период реализации</a:t>
            </a:r>
            <a:br>
              <a:rPr sz="3400"/>
            </a:br>
            <a:br>
              <a:rPr sz="3400"/>
            </a:br>
            <a:br>
              <a:rPr sz="3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Century Schoolbook"/>
              </a:rPr>
              <a:t>15.09.09.г. – 01.04.10 г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 Black"/>
              </a:rPr>
              <a:t>Что удалось сделать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51"/>
              </a:spcBef>
              <a:spcAft>
                <a:spcPts val="2625"/>
              </a:spcAft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ровели семинарские занятие «Лидерство в переговорах»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90000"/>
              </a:lnSpc>
              <a:spcBef>
                <a:spcPts val="751"/>
              </a:spcBef>
              <a:spcAft>
                <a:spcPts val="2625"/>
              </a:spcAft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Ознакомились с пакетом документов кабинета врача общей практики «Городской клинической больницы №1»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90000"/>
              </a:lnSpc>
              <a:spcBef>
                <a:spcPts val="751"/>
              </a:spcBef>
              <a:spcAft>
                <a:spcPts val="2625"/>
              </a:spcAft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ри совместном взаимодействии с комитетом по сестринскому делу разработали пакет документов процедурной медсестры кабинета врача общей практики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90000"/>
              </a:lnSpc>
              <a:spcBef>
                <a:spcPts val="751"/>
              </a:spcBef>
              <a:spcAft>
                <a:spcPts val="2625"/>
              </a:spcAft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Организовали работу процедурной медсестры кабинета врача общей практики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6ff33"/>
                </a:solidFill>
                <a:latin typeface="Arial Black"/>
              </a:rPr>
              <a:t>Мероприятия, проведенные для достижения поставленных целей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знакомились с пакетом документов кабинета врача общей практики Городской Клинической больницы №1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знакомились со стандартами проведения манипуляц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формили документы специалиста процедурной медицинской сестры  кабинета общей практик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фессиональная подготовка и организация труда процедурной медицинской сестр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та с пациентами. Лечебно-охранительный режи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хнология выполнении манипуляций и процеду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дикаментозное и медицинской обеспеч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нитарно-эпидемиологичексий режим. Инфекционная безопасно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чебно-диагностический процесс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я мероприятий по оказанию доврачебной медицинской помощи пациента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тоды и формы проведения сан-просвет работы в отдел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ff33"/>
                </a:solidFill>
                <a:latin typeface="Arial Black"/>
              </a:rPr>
              <a:t>Достижения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бинет процедурной медсестры врача общей практики работает, выполняет врачебные назначения. Кабинет работает с 08:00 до 20:00 ежедневно без выходных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6000" spc="-1" strike="noStrike">
                <a:solidFill>
                  <a:srgbClr val="00ffff"/>
                </a:solidFill>
                <a:latin typeface="Arial Black"/>
              </a:rPr>
              <a:t>Благодарю за внимание!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19T10:30:5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