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1A48-AB6B-4354-BA5D-3CF2D48C4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0A6A-2A74-477D-ADB1-B4B28B63C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A1E6-87C9-4185-B9B1-FB0014D2B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2D33-BBA5-4F82-9650-F3ECBBB01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95224-7D14-44C5-A8BB-B9C18EBE9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780FD-9DA7-4535-8A49-0E0BC222D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1354A-8A4E-445E-83F8-F09407533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F59B6-56CF-47EF-99DF-513154F7F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45C98-3040-4C2C-9685-672186DC1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C6BFB-BAC0-45B7-A667-01F164683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43582-F908-4B9E-9B04-98D246AD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A829-6845-47CE-A59F-CB6CC32BE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69FFF-40C2-480A-850C-7004DB46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A0D48-1434-4BAB-A525-302A2B23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A7044-0207-410E-B363-25F8C5437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9738C-CB6A-45A2-8F80-0E7BF07DE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1F305-7CAE-437A-9C1A-C191B4F0B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322A-5D07-4D5F-A5DB-4BE7DC8AE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A22D-AB15-4F17-B814-9EFBE19F5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81C0-58ED-4317-AC79-693ADFDFF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8809-C9B6-49FA-AF63-8E86BA74E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F07E-AE3A-4C37-9CB9-F4432828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C206-3CE7-4B0F-A290-F1890BA0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A439-9607-40DB-BEF6-EA1BF554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67AC1-2245-4F88-AD41-E67DAA60009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267A0-93D0-4DEF-A7A5-E90391466B8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907560"/>
            <a:ext cx="896472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ОТЧЕТ</a:t>
            </a: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о реализации мини-проекта</a:t>
            </a: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«В единстве наша сила»</a:t>
            </a: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2009 – 2010 гг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79280" y="4724280"/>
            <a:ext cx="864072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Руководитель мини-проекта: Г.А. Балацан, МУЗ «Калачинская ЦРБ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Куратор: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Т.Ф.Васильев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Координатор: Г.П. Мысиков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Цель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-536040">
              <a:spcBef>
                <a:spcPts val="700"/>
              </a:spcBef>
              <a:spcAft>
                <a:spcPts val="2276"/>
              </a:spcAft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высить информированность специалистов сестринского дела о деятельности Омской профессиональной  сестринской ассоциации, РАМС в формировании политики сестринского дела, развитии професс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6040" indent="-536040">
              <a:spcBef>
                <a:spcPts val="700"/>
              </a:spcBef>
              <a:spcAft>
                <a:spcPts val="2276"/>
              </a:spcAft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влечь  10 медицинских сестер из числа молодых специалистов, фельдшеров ФАП в члены Омской профессиональной сестринской ассоци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ериод реализаци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1 августа 2009 г. – 31 мая  2010 г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Что удалось сделать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000" y="1904760"/>
            <a:ext cx="8459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850"/>
              </a:spcBef>
              <a:spcAft>
                <a:spcPts val="2764"/>
              </a:spcAft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Медицинские сестры получают своевременную информацию о деятельности ОПСА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850"/>
              </a:spcBef>
              <a:spcAft>
                <a:spcPts val="2764"/>
              </a:spcAft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Привлечено 14  новых членов  в Омскую профессиональную сестринскую ассоциацию, обеспечен рост численности Ассоциации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spcBef>
                <a:spcPts val="850"/>
              </a:spcBef>
              <a:spcAft>
                <a:spcPts val="276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Мероприятия, проведенные для достижения поставленных целей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708000" y="1773360"/>
            <a:ext cx="521964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0.10.09 проведена общебольничная сестринская конференция   по итогам работы 2-го регионального  семинара «Лидерство в переговорах», его целях и задачах, роли ОПСА в проведении семинара; избраны ключевые члены- Шост Е.В., Балацан Г.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 15.09.09г. по 03.12.09г.  проведено 11 семинарских занятий «Лидерство в переговорах» для 24 медицинских сестер поликлиник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ведена работа с каждым молодым и вновь принятым специалистом, по разъяснению целей и задач ОПСА, привлечению его в члены Ассоциа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4" descr="IMAG0020"/>
          <p:cNvPicPr/>
          <p:nvPr/>
        </p:nvPicPr>
        <p:blipFill>
          <a:blip r:embed="rId1"/>
          <a:stretch/>
        </p:blipFill>
        <p:spPr>
          <a:xfrm>
            <a:off x="250920" y="4076640"/>
            <a:ext cx="3456000" cy="2590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DSC00744"/>
          <p:cNvPicPr/>
          <p:nvPr/>
        </p:nvPicPr>
        <p:blipFill>
          <a:blip r:embed="rId2"/>
          <a:srcRect l="0" t="0" r="-219" b="0"/>
          <a:stretch/>
        </p:blipFill>
        <p:spPr>
          <a:xfrm>
            <a:off x="250920" y="1844640"/>
            <a:ext cx="3457440" cy="21574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800748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Ежеквартально обновляется информация на стенде «Наша сестринская Ассоциация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6" descr="фото стенда"/>
          <p:cNvPicPr/>
          <p:nvPr/>
        </p:nvPicPr>
        <p:blipFill>
          <a:blip r:embed="rId1"/>
          <a:stretch/>
        </p:blipFill>
        <p:spPr>
          <a:xfrm>
            <a:off x="755640" y="2060640"/>
            <a:ext cx="7561440" cy="47689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Достижения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spcAft>
                <a:spcPts val="1687"/>
              </a:spcAft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овысилась  информированность медицинских сестер о деятельности Омской профессиональной  сестринской ассоциации, РАМС, МСМ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spcAft>
                <a:spcPts val="1687"/>
              </a:spcAft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овышен авторитет и престиж Омской профессиональной  сестринской ассоциаци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spcAft>
                <a:spcPts val="1687"/>
              </a:spcAft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ривлечено 14  новых членов в Омскую профессиональную  сестринскую ассоциацию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755280" y="2491920"/>
            <a:ext cx="8007480" cy="19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Благодарю за внимание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3T09:08:23Z</dcterms:created>
  <dc:creator>Балацан</dc:creator>
  <dc:description/>
  <dc:language>en-US</dc:language>
  <cp:lastModifiedBy>ОПСА</cp:lastModifiedBy>
  <dcterms:modified xsi:type="dcterms:W3CDTF">2012-07-25T08:03:44Z</dcterms:modified>
  <cp:revision>15</cp:revision>
  <dc:subject/>
  <dc:title>«Открытое информационное пространство –  путь к продвижению профессии»</dc:title>
</cp:coreProperties>
</file>