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791-CCFA-4D87-9EB6-293E53F6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75D-F059-454D-A9B7-1F0BF0A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15C-5BB7-494C-A493-DCE3F1C7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0F3-098D-497F-BB37-98ADF835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4C55-D9EB-4BCB-BAAA-FF7AE015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846-F730-4287-B08D-38FD8DF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E2B-FED9-40AF-824F-E7EDA54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EEA-7CAC-4B22-B866-DF6FE287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03B-A068-4D04-B683-8C78A07C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95DD-3611-4976-AF6F-F5F42F3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CEF3-4851-4222-BA27-435B4AE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0C3-2556-4C2E-941C-6F0F6B5A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6626-79D2-4888-9A62-2CECD2E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BE8-FC08-4FF0-BE61-81A6B2B1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EA4-63E8-43C5-BF1D-9EC0923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AED-6F35-4BDA-9A04-952153F7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6B80-59CC-456F-903A-04A757B5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718-2F97-49FC-B89B-34155F3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DDE-B0A6-43FA-9AA7-9F28507F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E51-0CC0-409C-997B-00F232F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9C7-387A-45CC-A591-C43E2E3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6C8-DF09-4D00-8BF9-6128460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B87-A934-4A88-A52C-EEFE98F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F98-2C7D-4D0F-8FFE-804E8E3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CDC-7CA9-4EC0-A928-4D5AE123B6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F70-E891-4747-9F94-E7713B8F9BA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тчет о реализации мини-проек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«Омская профессиональная сестринская ассоциация-лидер инноваций преобразований сестринского дел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009 – 2010 г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16000" y="4653000"/>
            <a:ext cx="788364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Verdana"/>
                <a:ea typeface="Arial"/>
              </a:rPr>
              <a:t>Руководитель мини-проекта:     Переводчикова С.В., МСЧ № 4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Verdana"/>
                <a:ea typeface="Arial"/>
              </a:rPr>
              <a:t>Куратор: Башмакова М.Х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r"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Verdana"/>
                <a:ea typeface="Arial"/>
              </a:rPr>
              <a:t>Координатор: Коваленко Н.В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Рядовые члены ассоциации постоянно получают информацию о мероприятиях проводимых Омской профессиональной сестринской ассоциацией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t4_1025941"/>
          <p:cNvPicPr/>
          <p:nvPr/>
        </p:nvPicPr>
        <p:blipFill>
          <a:blip r:embed="rId1"/>
          <a:stretch/>
        </p:blipFill>
        <p:spPr>
          <a:xfrm>
            <a:off x="611280" y="350028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untitled3"/>
          <p:cNvPicPr/>
          <p:nvPr/>
        </p:nvPicPr>
        <p:blipFill>
          <a:blip r:embed="rId2"/>
          <a:stretch/>
        </p:blipFill>
        <p:spPr>
          <a:xfrm>
            <a:off x="4932360" y="3500280"/>
            <a:ext cx="3960720" cy="3105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900000" y="112536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Verdana"/>
              </a:rPr>
              <a:t>Благодарю за внимание!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Оформить стенд, отражающий работу Омской профессиональной сестринской ассоциаци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Оформить стенд, отражающий работу Омской профессиональной сестринской ассоциаци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роводить обновление материалов отражающих работу ассоциац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(не реже одного раза в квартал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ериод реализации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01.09.2009г.-01.05.2010г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202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aeaea"/>
                </a:solidFill>
                <a:latin typeface="Verdana"/>
              </a:rPr>
              <a:t>Что удалось сделать?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3399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imes New Roman"/>
              </a:rPr>
              <a:t>Оформить стенд, отражающий работу Омской профессиональной сестринской ассоциации.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spcAft>
                <a:spcPts val="3399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imes New Roman"/>
              </a:rPr>
              <a:t>Повысить информированность сестринского персонала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8" descr="DSC02087"/>
          <p:cNvPicPr/>
          <p:nvPr/>
        </p:nvPicPr>
        <p:blipFill>
          <a:blip r:embed="rId1"/>
          <a:stretch/>
        </p:blipFill>
        <p:spPr>
          <a:xfrm>
            <a:off x="250920" y="1058760"/>
            <a:ext cx="3816360" cy="25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280" y="907920"/>
            <a:ext cx="475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ыступила на Совете по сестринскому делу о внедрении мини-проекта и определила ответственных лиц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ровела семинар «Лидерство в переговорах» в «Медико-санитарной части №4» с23.09.09г. по 02.12.09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Было проведено 11 сессий по 1.5 час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а семинаре присутствовало 24 медицинских сест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12" descr="001"/>
          <p:cNvPicPr/>
          <p:nvPr/>
        </p:nvPicPr>
        <p:blipFill>
          <a:blip r:embed="rId2"/>
          <a:stretch/>
        </p:blipFill>
        <p:spPr>
          <a:xfrm>
            <a:off x="244440" y="3817800"/>
            <a:ext cx="1881360" cy="250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008"/>
          <p:cNvPicPr/>
          <p:nvPr/>
        </p:nvPicPr>
        <p:blipFill>
          <a:blip r:embed="rId3"/>
          <a:stretch/>
        </p:blipFill>
        <p:spPr>
          <a:xfrm>
            <a:off x="2050920" y="4076640"/>
            <a:ext cx="1955880" cy="2608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7" descr="IMG_2827"/>
          <p:cNvPicPr/>
          <p:nvPr/>
        </p:nvPicPr>
        <p:blipFill>
          <a:blip r:embed="rId1"/>
          <a:stretch/>
        </p:blipFill>
        <p:spPr>
          <a:xfrm>
            <a:off x="250920" y="1197000"/>
            <a:ext cx="4537080" cy="257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DSC02082"/>
          <p:cNvPicPr/>
          <p:nvPr/>
        </p:nvPicPr>
        <p:blipFill>
          <a:blip r:embed="rId2"/>
          <a:stretch/>
        </p:blipFill>
        <p:spPr>
          <a:xfrm>
            <a:off x="179280" y="3919680"/>
            <a:ext cx="2527560" cy="201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DSC02069"/>
          <p:cNvPicPr/>
          <p:nvPr/>
        </p:nvPicPr>
        <p:blipFill>
          <a:blip r:embed="rId3"/>
          <a:stretch/>
        </p:blipFill>
        <p:spPr>
          <a:xfrm>
            <a:off x="2916360" y="4292640"/>
            <a:ext cx="1155600" cy="191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MG_2815"/>
          <p:cNvPicPr/>
          <p:nvPr/>
        </p:nvPicPr>
        <p:blipFill>
          <a:blip r:embed="rId4"/>
          <a:stretch/>
        </p:blipFill>
        <p:spPr>
          <a:xfrm>
            <a:off x="4859280" y="1197000"/>
            <a:ext cx="4105440" cy="256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DSC02091"/>
          <p:cNvPicPr/>
          <p:nvPr/>
        </p:nvPicPr>
        <p:blipFill>
          <a:blip r:embed="rId5"/>
          <a:stretch/>
        </p:blipFill>
        <p:spPr>
          <a:xfrm>
            <a:off x="4284720" y="3716280"/>
            <a:ext cx="1765080" cy="2489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DSC02097"/>
          <p:cNvPicPr/>
          <p:nvPr/>
        </p:nvPicPr>
        <p:blipFill>
          <a:blip r:embed="rId6"/>
          <a:stretch/>
        </p:blipFill>
        <p:spPr>
          <a:xfrm>
            <a:off x="6804000" y="4076640"/>
            <a:ext cx="186696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С декабря 2009 года по апрель 2010 года  был изготовлен и оформлен стенд отражающий работу Омской профессиональной сестринской ассоциаци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вет по сестринскому делу МУЗ МСЧ №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08360" cy="367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35290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1332000" y="4797360"/>
            <a:ext cx="242244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15:46Z</dcterms:created>
  <dc:creator>user</dc:creator>
  <dc:description/>
  <dc:language>en-US</dc:language>
  <cp:lastModifiedBy>ОПСА</cp:lastModifiedBy>
  <dcterms:modified xsi:type="dcterms:W3CDTF">2012-07-25T08:01:15Z</dcterms:modified>
  <cp:revision>11</cp:revision>
  <dc:subject/>
  <dc:title>Слайд 1</dc:title>
</cp:coreProperties>
</file>