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4BA-CE25-43A2-A9D4-39FAB413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10E-E9A3-4839-8AD4-BB79150B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22A-9CA3-4057-84F4-570A53EE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AA2-9D17-43E2-AE5F-8F6B5FB0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58D1-E109-4628-92B4-72ED465A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D23E-E448-4774-9BDA-BAF0586B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EB7D-41CF-4B30-9B05-6BEB0D2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9544-34BE-4D90-924C-A4CC838C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E307-BD23-4EC3-8AFA-4465CCC5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A67A-3BA9-452F-9473-46196D2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D907-969B-4E85-A9D5-FC38E27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BBF-C922-4C67-87A6-9D293A0F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D0C1-A8F6-4100-9929-CD1C7C4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4AB4-61F4-447F-A44D-0EECAA8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9FE2-75C4-40B2-93D5-1CEF49E3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0614-7C12-4A3F-AE82-CD936A29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511C-3852-4319-9BB2-2D41C118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A71-F58F-406C-86B4-F35F01C7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28D-4947-4B3B-9398-6B900D2D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BD0-064E-4D31-8E42-A9D7FF04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272-B2FA-4692-B4AB-B0DA790D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C00-EAFA-4BF6-92D1-685F700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390-8CDA-4B1B-8F27-9C60212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27D-098C-46C4-9B66-CC0C9E1D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BBAB-1E52-46F3-8436-9EB13B82C7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32C8-DDA8-4A77-9843-312CE50F90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189000"/>
            <a:ext cx="842004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"/>
              </a:rPr>
              <a:t>Отчёт                                                 о реализации мини- проек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600" y="2923920"/>
            <a:ext cx="9104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"/>
              </a:rPr>
              <a:t>«Ассоциация - престиж профессии действие к успеху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"/>
              </a:rPr>
              <a:t>2009 – 2010 гг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0"/>
          <p:cNvSpPr/>
          <p:nvPr/>
        </p:nvSpPr>
        <p:spPr>
          <a:xfrm>
            <a:off x="360360" y="5022720"/>
            <a:ext cx="853272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Garamond"/>
              </a:rPr>
              <a:t>Руководитель мини-проекта:                                                                     С.Н. Муромцева, МУЗ ДГП № 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Garamond"/>
              </a:rPr>
              <a:t>Координатор: О.А. Бучко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 МИНИ-ПРОЕКТА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Garamond"/>
              </a:rPr>
              <a:t>Повышение членства среди медицинских сестер поликлиники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0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Garamond"/>
              </a:rPr>
              <a:t>Повышение информационного уровня о деятельности общественных организаций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дачи мини-проек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001"/>
              </a:spcBef>
              <a:spcAft>
                <a:spcPts val="25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Довести информацию о деятельности общественных организаций до каждого сотрудник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spcAft>
                <a:spcPts val="25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Увеличить процент состоящих в ассоциации до 8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spcAft>
                <a:spcPts val="25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Искоренить инертность у медицинских сестё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" y="4392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b9efee"/>
                </a:solidFill>
                <a:latin typeface="Garamond"/>
              </a:rPr>
              <a:t>Семинар «Лидерство в переговорах» </a:t>
            </a:r>
            <a:br>
              <a:rPr sz="4200"/>
            </a:br>
            <a:r>
              <a:rPr b="1" lang="ru-RU" sz="4200" spc="-1" strike="noStrike">
                <a:solidFill>
                  <a:srgbClr val="b9efee"/>
                </a:solidFill>
                <a:latin typeface="Garamond"/>
              </a:rPr>
              <a:t>с 01.09.09.-30.01.10.</a:t>
            </a:r>
            <a:endParaRPr b="1" lang="en-US" sz="4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3" descr="PA160239"/>
          <p:cNvPicPr/>
          <p:nvPr/>
        </p:nvPicPr>
        <p:blipFill>
          <a:blip r:embed="rId1"/>
          <a:stretch/>
        </p:blipFill>
        <p:spPr>
          <a:xfrm>
            <a:off x="2411280" y="1916280"/>
            <a:ext cx="2772000" cy="207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PA160258"/>
          <p:cNvPicPr/>
          <p:nvPr/>
        </p:nvPicPr>
        <p:blipFill>
          <a:blip r:embed="rId2"/>
          <a:stretch/>
        </p:blipFill>
        <p:spPr>
          <a:xfrm>
            <a:off x="4572000" y="3357720"/>
            <a:ext cx="2778120" cy="208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A160243"/>
          <p:cNvPicPr/>
          <p:nvPr/>
        </p:nvPicPr>
        <p:blipFill>
          <a:blip r:embed="rId3"/>
          <a:stretch/>
        </p:blipFill>
        <p:spPr>
          <a:xfrm>
            <a:off x="6156360" y="458136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A160244"/>
          <p:cNvPicPr/>
          <p:nvPr/>
        </p:nvPicPr>
        <p:blipFill>
          <a:blip r:embed="rId4"/>
          <a:stretch/>
        </p:blipFill>
        <p:spPr>
          <a:xfrm>
            <a:off x="250920" y="1268280"/>
            <a:ext cx="2778120" cy="2082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b9efee"/>
                </a:solidFill>
                <a:latin typeface="Garamond"/>
              </a:rPr>
              <a:t>Что удалось сделать </a:t>
            </a:r>
            <a:br>
              <a:rPr sz="4600"/>
            </a:br>
            <a:r>
              <a:rPr b="1" lang="ru-RU" sz="4600" spc="-1" strike="noStrike">
                <a:solidFill>
                  <a:srgbClr val="b9efee"/>
                </a:solidFill>
                <a:latin typeface="Garamond"/>
              </a:rPr>
              <a:t>РАЗРАБОТАНА ЭМБЛЕМА ДЛЯ СТЕНДА</a:t>
            </a:r>
            <a:endParaRPr b="1" lang="en-US" sz="4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2920" y="2490480"/>
            <a:ext cx="44341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Garamond"/>
              </a:rPr>
              <a:t>Разработали эмблему наши молодые специалисты: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Garamond"/>
              </a:rPr>
              <a:t>Мотричева Н.Д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Garamond"/>
              </a:rPr>
              <a:t>Нугманова К.Д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Garamond"/>
              </a:rPr>
              <a:t>Коротковский В.Э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4"/>
          <p:cNvPicPr/>
          <p:nvPr/>
        </p:nvPicPr>
        <p:blipFill>
          <a:blip r:embed="rId1"/>
          <a:stretch/>
        </p:blipFill>
        <p:spPr>
          <a:xfrm>
            <a:off x="179280" y="2421000"/>
            <a:ext cx="4332240" cy="3462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560" y="414000"/>
            <a:ext cx="88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Что удалось сделать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СТЕН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0" name="Picture 7" descr="SL382224"/>
          <p:cNvPicPr/>
          <p:nvPr/>
        </p:nvPicPr>
        <p:blipFill>
          <a:blip r:embed="rId1"/>
          <a:stretch/>
        </p:blipFill>
        <p:spPr>
          <a:xfrm>
            <a:off x="1574640" y="2133720"/>
            <a:ext cx="6166080" cy="468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b9efee"/>
                </a:solidFill>
                <a:latin typeface="Garamond"/>
              </a:rPr>
              <a:t>Мероприятия для достижения поставленных целей</a:t>
            </a:r>
            <a:endParaRPr b="1" lang="en-US" sz="4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50"/>
              </a:spcBef>
              <a:spcAft>
                <a:spcPts val="2126"/>
              </a:spcAft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Garamond"/>
              </a:rPr>
              <a:t>Проведен семинар в рамках международного проекта  «Лидерство в переговорах». Участвовало 24 человека .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90000"/>
              </a:lnSpc>
              <a:spcBef>
                <a:spcPts val="850"/>
              </a:spcBef>
              <a:spcAft>
                <a:spcPts val="2126"/>
              </a:spcAft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Garamond"/>
              </a:rPr>
              <a:t>Привлечены спонсоры для изготовления информационного стенда « Наше дело - наша жизнь»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90000"/>
              </a:lnSpc>
              <a:spcBef>
                <a:spcPts val="850"/>
              </a:spcBef>
              <a:spcAft>
                <a:spcPts val="2126"/>
              </a:spcAft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Garamond"/>
              </a:rPr>
              <a:t>Проведены индивидуальные беседы с медицинскими сёстрами о роли и значимости ОПСА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ОСТИЖ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8964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spcAft>
                <a:spcPts val="174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Молодые специалисты более подробно узнали о целях, задачах и деятельности сестринских ассоциа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spcAft>
                <a:spcPts val="174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Повысилось внимание участников занятий к проблемам профессии и условиям труда, влияющим на качество ухода за пациент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spcAft>
                <a:spcPts val="174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 Омскую профессиональную ассоциацию вступили 5 человек. Численный состав членов Омской профессиональной ассоциации в МУЗ «Детская городская поликлиника» составил 54 человека. Процент состоящих в ОПСА-79,2 %работающ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b9efee"/>
                </a:solidFill>
                <a:latin typeface="Garamond"/>
              </a:rPr>
              <a:t>БЛАГОДАРЮ ЗА </a:t>
            </a:r>
            <a:br>
              <a:rPr sz="5600"/>
            </a:br>
            <a:r>
              <a:rPr b="1" lang="ru-RU" sz="5600" spc="-1" strike="noStrike">
                <a:solidFill>
                  <a:srgbClr val="b9efee"/>
                </a:solidFill>
                <a:latin typeface="Garamond"/>
              </a:rPr>
              <a:t>ВНИМАНИЕ!</a:t>
            </a:r>
            <a:endParaRPr b="1" lang="en-US" sz="56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6:07:12Z</dcterms:created>
  <dc:creator>1</dc:creator>
  <dc:description/>
  <dc:language>en-US</dc:language>
  <cp:lastModifiedBy>ОПСА</cp:lastModifiedBy>
  <dcterms:modified xsi:type="dcterms:W3CDTF">2012-07-25T08:02:30Z</dcterms:modified>
  <cp:revision>12</cp:revision>
  <dc:subject/>
  <dc:title>Отчёт о реализации мини- проекта</dc:title>
</cp:coreProperties>
</file>