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E7D-41A5-4F09-9BC3-244BDEC5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8E9-84C4-41F3-AF45-9CD2DA57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797-5CC8-4CBB-A686-0DD00B87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DAED-EF66-4DAE-97E8-3B711A18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B076-F88E-40DF-ABA5-E844FB30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39A4-81EE-4A64-BA69-8F014977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1ABB-9610-47C1-BF20-BD587128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7FB5-E968-4426-9C14-62D08C3F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EEC4-C8D8-4A95-AFEE-016A4227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E29A-5DC0-4DDF-B79B-5A13A2A0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E7DE-ED4B-49F7-860C-78BC665E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A7F-CBBB-48F6-B0C2-A0FDAA22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EC26-A02C-4BCA-92D6-BEB04812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8C90-0CC7-4540-90D9-51E2E868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5AD9-D4ED-4AEE-B893-F851E8CC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F528-3D39-468E-B7B2-CD7CF200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53A0-9268-4772-A29E-1B142029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76117-8150-49D3-8C3A-61761D38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88F8F-33A2-4673-833D-FD7C694F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2D261-8A32-4279-80D2-FA9F8902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CF1BA-5A7E-4DD7-B52B-F2276583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5A26A-1AC9-446D-8867-BE829DC1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B2C-CB36-4F0B-B785-EE85E95F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6C731-6F82-4475-BE91-7B74E04F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808F8-9472-44D9-A74A-738369CA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1593D-087D-4AAB-BB7A-0A51C46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5856B-DD8A-4B46-8390-0422904C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7847A-BC16-48C9-92F7-E465A822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CB6FA-53D0-41FB-9343-4FBEC858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A1793-9044-47C2-9053-AA344838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BA477-77B6-46D6-A13C-077D489F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A65A6-E9A2-4EAE-BF2E-6BA34C91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531E8-3659-4CA1-9063-754C331B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CD1-AA67-4FE1-90EE-A060DE31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4294C-D4EA-4969-A171-F426F399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91102-BDD4-4A8D-A27E-AAFFA9A6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98B00-5919-4C41-8CE9-E6153953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7EFED-B110-4AB1-9CC1-BE0247C7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259EE-EB45-45AC-BB67-26AE6338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D15EC-8A9A-423A-8F51-02DFEEDD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D54DE-00FA-414C-8168-4D7A9BF7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3DCFE-53B4-40E9-A800-8B05F70B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E3965-39EC-4464-9B90-C1F04C2A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6E0-F549-4E8E-A76E-B59CB284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3D1-FAD0-4192-B917-4A793A4D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41E-7D55-4FC3-AA0F-1D40DD62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B05-4A04-4BD1-A73B-FCDCBC83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D6B-542B-4CE0-9B5F-1E159CA2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DAEE-87A3-4FEF-9753-D4C7D5747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31E0-B69B-41B3-8039-3539073F281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337A-D1CA-4C68-8DBB-71A0DB6F46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6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6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6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7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3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3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3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4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4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4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4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4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4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4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5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5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5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5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5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5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5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6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6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6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6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6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36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6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6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7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7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7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D472-BD6F-4B35-80A4-2BE6E91F4F9C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2000" y="404640"/>
            <a:ext cx="8712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Times New Roman"/>
              </a:rPr>
              <a:t>Отчет о реализации мини-проекта «МЫ СРЕДИ ВАС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Times New Roman"/>
              </a:rPr>
              <a:t>(открытие странички на сайте Ассоциации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Times New Roman"/>
              </a:rPr>
              <a:t>2009 – 2010 гг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755640" y="5102280"/>
            <a:ext cx="82789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ahoma"/>
              </a:rPr>
              <a:t>Руководитель мини-проекта: Покровская Н.А.,                                                     МУЗ «Большереченская ЦРБ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ahoma"/>
              </a:rPr>
              <a:t>Куратор: Бородина Л.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ahoma"/>
              </a:rPr>
              <a:t>Координатор: Мысикова Г.П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WordArt 6"/>
          <p:cNvSpPr txBox="1"/>
          <p:nvPr/>
        </p:nvSpPr>
        <p:spPr>
          <a:xfrm>
            <a:off x="539640" y="1052640"/>
            <a:ext cx="7559640" cy="52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9900ff"/>
                  </a:solidFill>
                  <a:miter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СПАСИБО ЗА ВНИМАНИЕ!!!</a:t>
            </a:r>
            <a:endParaRPr b="0" lang="en-US" sz="4800" spc="1" strike="noStrike">
              <a:ln w="12600">
                <a:solidFill>
                  <a:srgbClr val="9900ff"/>
                </a:solidFill>
                <a:miter/>
              </a:ln>
              <a:solidFill>
                <a:srgbClr val="d6009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80"/>
                </a:solidFill>
                <a:latin typeface="Monotype Corsiva"/>
              </a:rPr>
              <a:t>ЦЕЛЬ:</a:t>
            </a:r>
            <a:endParaRPr b="0" lang="en-US" sz="4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Monotype Corsiva"/>
              </a:rPr>
              <a:t>Достичь более полной информированности о работе  Совета по сестринскому делу, работе и планах Ассоциации других ЛП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Monotype Corsiva"/>
              </a:rPr>
              <a:t>Иметь оперативную связь с  сестринской ассоциацией и другими организациями, ЛП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Monotype Corsiva"/>
              </a:rPr>
              <a:t>Повысить престиж ЛПУ, престиж Совета по сестринскому де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62293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49"/>
              </a:spcBef>
              <a:spcAft>
                <a:spcPts val="1624"/>
              </a:spcAft>
              <a:buClr>
                <a:srgbClr val="a62293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00ff"/>
                </a:solidFill>
                <a:latin typeface="Times New Roman"/>
              </a:rPr>
              <a:t>Улучшением информированности Правления Омской профессиональной сестринской ассоциации о проблемах рядовых членов и возможности помощи в их решен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49"/>
              </a:spcBef>
              <a:spcAft>
                <a:spcPts val="1624"/>
              </a:spcAft>
              <a:buClr>
                <a:srgbClr val="d60093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00ff"/>
                </a:solidFill>
                <a:latin typeface="Times New Roman"/>
              </a:rPr>
              <a:t>Повышения заинтересованности персонала к работе Совета по СД, к работе Ассоциации, посредством открытия странички на сайт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49"/>
              </a:spcBef>
              <a:spcAft>
                <a:spcPts val="1624"/>
              </a:spcAft>
              <a:buClr>
                <a:srgbClr val="d60093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00ff"/>
                </a:solidFill>
                <a:latin typeface="Times New Roman"/>
              </a:rPr>
              <a:t>Привлечение персонала в члены Омской профессиональной сестринской ассоциац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49"/>
              </a:spcBef>
              <a:spcAft>
                <a:spcPts val="1624"/>
              </a:spcAft>
              <a:buClr>
                <a:srgbClr val="d60093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00ff"/>
                </a:solidFill>
                <a:latin typeface="Times New Roman"/>
              </a:rPr>
              <a:t>Повышение престижа Совета по сестринскому делу, престижа Ассоциации ЛП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364464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00080"/>
                </a:solidFill>
                <a:latin typeface="Monotype Corsiva"/>
              </a:rPr>
              <a:t>С 01.09.2009 по 01.04.201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WordArt 4"/>
          <p:cNvSpPr txBox="1"/>
          <p:nvPr/>
        </p:nvSpPr>
        <p:spPr>
          <a:xfrm>
            <a:off x="971640" y="981000"/>
            <a:ext cx="7345440" cy="187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latin typeface="Monotype Corsiva"/>
              </a:rPr>
              <a:t>ПЕРИОД РЕАЛИЗАЦИИ: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latin typeface="Monotype Corsiva"/>
              <a:ea typeface="Monotype Corsiva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920" y="552240"/>
            <a:ext cx="751536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ЧТО УДАЛОСЬ СДЕЛАТЬ: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748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901"/>
              </a:spcBef>
              <a:buClr>
                <a:srgbClr val="66ff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Times New Roman"/>
              </a:rPr>
              <a:t>Собрали информацию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901"/>
              </a:spcBef>
              <a:buClr>
                <a:srgbClr val="66ff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Times New Roman"/>
              </a:rPr>
              <a:t>Открыли страничку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901"/>
              </a:spcBef>
              <a:buClr>
                <a:srgbClr val="66ff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Times New Roman"/>
              </a:rPr>
              <a:t>Приняли в члены Ассоциации 21 челов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Мероприятия, проведенные для достижения поставленных целей.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43280" y="1916280"/>
            <a:ext cx="40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9900ff"/>
                </a:solidFill>
                <a:latin typeface="Times New Roman"/>
              </a:rPr>
              <a:t>Провели обучающие семинары в рамках проекта «Лидерство в переговорах»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9900ff"/>
                </a:solidFill>
                <a:latin typeface="Times New Roman"/>
              </a:rPr>
              <a:t>С сентября по декабрь месяц, всего 11занятий обучено 24 человек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5" name="Picture 9" descr="Участники семинара Лидерство в переговорах"/>
          <p:cNvPicPr/>
          <p:nvPr/>
        </p:nvPicPr>
        <p:blipFill>
          <a:blip r:embed="rId1"/>
          <a:stretch/>
        </p:blipFill>
        <p:spPr>
          <a:xfrm>
            <a:off x="324000" y="22050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3" descr="Школа больных глаукомой"/>
          <p:cNvPicPr/>
          <p:nvPr/>
        </p:nvPicPr>
        <p:blipFill>
          <a:blip r:embed="rId1"/>
          <a:stretch/>
        </p:blipFill>
        <p:spPr>
          <a:xfrm>
            <a:off x="324000" y="189000"/>
            <a:ext cx="4248000" cy="3186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48320" y="836640"/>
            <a:ext cx="4038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ff"/>
                </a:solidFill>
                <a:latin typeface="Monotype Corsiva"/>
              </a:rPr>
              <a:t>На заседаниях совета по сестринскому делу подготовили информацию о работе комитетов, школ здоровья, о проводимых мероприятиях подготовили фото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8" name="Picture 16" descr="Заседание с молодыми специалистами"/>
          <p:cNvPicPr/>
          <p:nvPr/>
        </p:nvPicPr>
        <p:blipFill>
          <a:blip r:embed="rId2"/>
          <a:stretch/>
        </p:blipFill>
        <p:spPr>
          <a:xfrm>
            <a:off x="250920" y="357336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4076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Times New Roman"/>
              </a:rPr>
              <a:t>Проведена работа в коллективах с целью: заинтересовать людей в необходимости открытия странички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450" name="Picture 4" descr="PICT0062"/>
          <p:cNvPicPr/>
          <p:nvPr/>
        </p:nvPicPr>
        <p:blipFill>
          <a:blip r:embed="rId1"/>
          <a:stretch/>
        </p:blipFill>
        <p:spPr>
          <a:xfrm>
            <a:off x="179280" y="404640"/>
            <a:ext cx="4399200" cy="3299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1" descr="Молодые специалисты"/>
          <p:cNvPicPr/>
          <p:nvPr/>
        </p:nvPicPr>
        <p:blipFill>
          <a:blip r:embed="rId2"/>
          <a:stretch/>
        </p:blipFill>
        <p:spPr>
          <a:xfrm>
            <a:off x="4643280" y="404640"/>
            <a:ext cx="4399200" cy="3299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80"/>
                </a:solidFill>
                <a:latin typeface="Monotype Corsiva"/>
              </a:rPr>
              <a:t>Д О С Т И Ж Е Н И Я:</a:t>
            </a:r>
            <a:endParaRPr b="0" lang="en-US" sz="4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333399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Monotype Corsiva"/>
              </a:rPr>
              <a:t>У персонала появилась возможность  регулярно получать оперативную информацию о работе  и планах Совета по сестринскому делу, о планах  Ассоци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333399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Monotype Corsiva"/>
              </a:rPr>
              <a:t>Стало возможно обмениваться информацией и опытом с другими организац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333399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Monotype Corsiva"/>
              </a:rPr>
              <a:t>Повысилась инициативность мед. Персонала к общественной раб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333399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Monotype Corsiva"/>
              </a:rPr>
              <a:t>В ряды Омской профессиональной сестринской ассоциации принято 21 человек, что составляет  63% от общего чис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333399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Monotype Corsiva"/>
              </a:rPr>
              <a:t>По окончании проекта руководителя выбрали ключевым член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04:14Z</dcterms:modified>
  <cp:revision>21</cp:revision>
  <dc:subject/>
  <dc:title>PowerPoint Presentation</dc:title>
</cp:coreProperties>
</file>