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0AD7-3C2F-4E19-B2F0-3651F118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CF9A6-761B-4E02-9ED8-A1207DFE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2015-DDF3-4675-8041-7CCE91C2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4861F-3499-4BFB-B0AA-A46DF2B0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DB26-71A9-4C61-8DB8-462D6E16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1AC2-C260-4711-B72B-94754117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E7AD-999C-4911-BBBC-90478BA6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707B-B98B-4C09-8C37-934FC0EB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41D2-BF65-4151-8C5C-8A9D25B5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5355-1D03-44A8-AF1C-36D755DA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FD4B-0FB4-4C92-88B4-466C0587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2C4C-77E5-488C-8203-D0077C60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E931-C0BB-4E87-95B0-3404C0C8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A7A2-4B98-4FD6-9E00-3EB35EC2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61B8-72D7-454D-8DE4-72B03BF1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B543-75BD-4C36-BDFF-669DE7F9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7CC0-0C74-49AB-8C5D-DAEDA3C0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2E2CA-E7FE-4B36-8ED4-FF7BBCD4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9D8E-3123-4C7C-9824-CADAB3D1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3EB4-4F34-4045-8527-75462A54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4FE76-2A84-45A4-83CE-47B3B631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D01A-69C0-43E8-A712-AE627C84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6A06-45B8-42D2-AC06-0A0A42B9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89DA-6F2D-47EB-ADF6-42162408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07AB-52B9-4BC8-A6A7-7FF4D0D27A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C4E1-BF40-49D7-9D4A-881AB9CA93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000" y="1699920"/>
            <a:ext cx="68756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нижение трудозатрат медицинской сестры при применении современных инфузионных сист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79640" y="4868640"/>
            <a:ext cx="691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.В. Юрк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ская сестра - исследоват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ская сестра палат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ЗОО «ГК БСМП №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9280" y="26028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ект Омской профессиональной сестринской ассоциации «Исследования в сестринском деле 2013 – 2014 гг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Методы 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бора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7920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блюде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ос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учение документальных источ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bs1"/>
          <p:cNvPicPr/>
          <p:nvPr/>
        </p:nvPicPr>
        <p:blipFill>
          <a:blip r:embed="rId1"/>
          <a:stretch/>
        </p:blipFill>
        <p:spPr>
          <a:xfrm>
            <a:off x="3203640" y="4292640"/>
            <a:ext cx="285732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Picture 16" descr="imgpreview (5)"/>
          <p:cNvPicPr/>
          <p:nvPr/>
        </p:nvPicPr>
        <p:blipFill>
          <a:blip r:embed="rId2"/>
          <a:stretch/>
        </p:blipFill>
        <p:spPr>
          <a:xfrm>
            <a:off x="6659640" y="4508640"/>
            <a:ext cx="2114640" cy="172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Picture 17" descr="imgpreview (1)"/>
          <p:cNvPicPr/>
          <p:nvPr/>
        </p:nvPicPr>
        <p:blipFill>
          <a:blip r:embed="rId3"/>
          <a:stretch/>
        </p:blipFill>
        <p:spPr>
          <a:xfrm>
            <a:off x="468360" y="4581360"/>
            <a:ext cx="2200320" cy="16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абильность инфузионных сист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3419280" cy="2415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3384360" cy="2644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4968720" cy="3025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4"/>
          <a:stretch/>
        </p:blipFill>
        <p:spPr>
          <a:xfrm>
            <a:off x="539640" y="3933720"/>
            <a:ext cx="46818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Влияние квалификации медицинской сестры на качество сбора инфузионных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516720" y="1268280"/>
            <a:ext cx="2374920" cy="187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2484720" cy="1954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0" y="1773360"/>
            <a:ext cx="5038560" cy="3889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4"/>
          <a:stretch/>
        </p:blipFill>
        <p:spPr>
          <a:xfrm>
            <a:off x="6588000" y="5084640"/>
            <a:ext cx="23418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96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езультаты опроса медицинских сестёр отдел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32000" cy="2867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529080" cy="2665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5975280" y="4160880"/>
            <a:ext cx="3168720" cy="2697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4"/>
          <a:stretch/>
        </p:blipFill>
        <p:spPr>
          <a:xfrm>
            <a:off x="0" y="4138560"/>
            <a:ext cx="3240000" cy="271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2987640" y="3860640"/>
            <a:ext cx="323532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Трудозатраты медицинской сестры при использовании инфузионных сист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50403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Результаты 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ременные инфузионные системы безопасны и удобны при эксплуатации и профилактируют развитие ослож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ачественного выполнения инфузии необходимо постоянное обучение сестринского медицинского персон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я оснащению отделения современными средствами ухода за пациентами и высокотехнологичным оборудованием значительно облегчается труд медицинской сест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19640" y="475920"/>
            <a:ext cx="527832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за</a:t>
            </a:r>
            <a:br>
              <a:rPr sz="4400"/>
            </a:b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592_1"/>
          <p:cNvPicPr/>
          <p:nvPr/>
        </p:nvPicPr>
        <p:blipFill>
          <a:blip r:embed="rId1"/>
          <a:stretch/>
        </p:blipFill>
        <p:spPr>
          <a:xfrm>
            <a:off x="250920" y="692280"/>
            <a:ext cx="2590560" cy="25905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170" name="Picture 8" descr="VMpk"/>
          <p:cNvPicPr/>
          <p:nvPr/>
        </p:nvPicPr>
        <p:blipFill>
          <a:blip r:embed="rId2"/>
          <a:stretch/>
        </p:blipFill>
        <p:spPr>
          <a:xfrm>
            <a:off x="2916360" y="2781360"/>
            <a:ext cx="2952720" cy="25700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171" name="Picture 9" descr="pic_big_14"/>
          <p:cNvPicPr/>
          <p:nvPr/>
        </p:nvPicPr>
        <p:blipFill>
          <a:blip r:embed="rId3"/>
          <a:stretch/>
        </p:blipFill>
        <p:spPr>
          <a:xfrm>
            <a:off x="5940360" y="4221000"/>
            <a:ext cx="29084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848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Актуальность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4508640"/>
            <a:ext cx="80643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УЗ ОО «ГК БСМП №1» выполн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ут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800 инфуз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еся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5 000 инфуз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00 000 инфуз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619280" y="907920"/>
          <a:ext cx="6337440" cy="35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907920"/>
                    <a:ext cx="6337440" cy="3586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Исследовательская ком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P1050061"/>
          <p:cNvPicPr/>
          <p:nvPr/>
        </p:nvPicPr>
        <p:blipFill>
          <a:blip r:embed="rId1"/>
          <a:stretch/>
        </p:blipFill>
        <p:spPr>
          <a:xfrm>
            <a:off x="3851280" y="4076640"/>
            <a:ext cx="1459080" cy="194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6" name="Picture 10" descr="P1050059"/>
          <p:cNvPicPr/>
          <p:nvPr/>
        </p:nvPicPr>
        <p:blipFill>
          <a:blip r:embed="rId2"/>
          <a:stretch/>
        </p:blipFill>
        <p:spPr>
          <a:xfrm>
            <a:off x="3851280" y="1341360"/>
            <a:ext cx="1403280" cy="180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7" name="Text Box 13"/>
          <p:cNvSpPr/>
          <p:nvPr/>
        </p:nvSpPr>
        <p:spPr>
          <a:xfrm>
            <a:off x="1692360" y="386064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3708360" y="609300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.Г. Степаненк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(медицинская сестра палатная ОРИТ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059280" y="3500280"/>
            <a:ext cx="30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пециалисты по сбору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276720" y="76500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пециалист по анализу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3276720" y="3141720"/>
            <a:ext cx="252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Е.В. Казанко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медицинская сестра операционна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3" descr="P1050943"/>
          <p:cNvPicPr/>
          <p:nvPr/>
        </p:nvPicPr>
        <p:blipFill>
          <a:blip r:embed="rId3"/>
          <a:stretch/>
        </p:blipFill>
        <p:spPr>
          <a:xfrm>
            <a:off x="7020000" y="2205000"/>
            <a:ext cx="1606320" cy="214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3" name="Text Box 24"/>
          <p:cNvSpPr/>
          <p:nvPr/>
        </p:nvSpPr>
        <p:spPr>
          <a:xfrm>
            <a:off x="6659640" y="4437000"/>
            <a:ext cx="23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.Я. Врако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главная медицинская сестра БУЗ ОО «ГК БСМП №1»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7093080" y="177336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Кур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6" descr="19"/>
          <p:cNvPicPr/>
          <p:nvPr/>
        </p:nvPicPr>
        <p:blipFill>
          <a:blip r:embed="rId4"/>
          <a:stretch/>
        </p:blipFill>
        <p:spPr>
          <a:xfrm>
            <a:off x="611280" y="2205000"/>
            <a:ext cx="162072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6" name="Text Box 27"/>
          <p:cNvSpPr/>
          <p:nvPr/>
        </p:nvSpPr>
        <p:spPr>
          <a:xfrm>
            <a:off x="755640" y="1844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Реценз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324000" y="4437000"/>
            <a:ext cx="223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.О. Гирш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профессор кафедры анестезиологи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анимации и скорой медицинск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мской государственной медицинс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кадемии, доктор медицинских наук)</a:t>
            </a:r>
            <a:r>
              <a:rPr b="0" lang="ru-RU" sz="10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18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изить трудозатраты медицинской сестры на выполнение инфузии, и улучшить безопасность и качество её выпол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Careflow"/>
          <p:cNvPicPr/>
          <p:nvPr/>
        </p:nvPicPr>
        <p:blipFill>
          <a:blip r:embed="rId1"/>
          <a:stretch/>
        </p:blipFill>
        <p:spPr>
          <a:xfrm>
            <a:off x="3348000" y="4653000"/>
            <a:ext cx="2376360" cy="1982880"/>
          </a:xfrm>
          <a:prstGeom prst="rect">
            <a:avLst/>
          </a:prstGeom>
          <a:ln w="19080">
            <a:solidFill>
              <a:srgbClr val="00007d"/>
            </a:solidFill>
            <a:miter/>
          </a:ln>
        </p:spPr>
      </p:pic>
      <p:pic>
        <p:nvPicPr>
          <p:cNvPr id="131" name="Picture 9" descr="Connecta"/>
          <p:cNvPicPr/>
          <p:nvPr/>
        </p:nvPicPr>
        <p:blipFill>
          <a:blip r:embed="rId2"/>
          <a:stretch/>
        </p:blipFill>
        <p:spPr>
          <a:xfrm>
            <a:off x="611280" y="4292640"/>
            <a:ext cx="2411280" cy="23241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132" name="Picture 12" descr="VMpr"/>
          <p:cNvPicPr/>
          <p:nvPr/>
        </p:nvPicPr>
        <p:blipFill>
          <a:blip r:embed="rId3"/>
          <a:stretch/>
        </p:blipFill>
        <p:spPr>
          <a:xfrm>
            <a:off x="6084720" y="4292640"/>
            <a:ext cx="2664000" cy="231444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Задачи 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ть стабильность традиционной и современной инфузионных сист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овать влияние квалификации медицинской сестры на качество сбора традиционной и современной инфузионных сис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читать трудозатраты медицинской сестры при использовании традиционной и современной инфузионных сист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820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Практическая значи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совреме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узионных сис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ительно сокращает трудозатраты медицинской сестры на проведение инфуз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 более привлекате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рует развитие серьёзных угрожающих жизни пациента ослож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Arial"/>
              </a:rPr>
              <a:t>Размер выборки</a:t>
            </a: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% от всех поступивших в ОРИТ пациентов за 7 месяце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2421000"/>
          <a:ext cx="8353440" cy="3681360"/>
        </p:xfrm>
        <a:graphic>
          <a:graphicData uri="http://schemas.openxmlformats.org/drawingml/2006/table">
            <a:tbl>
              <a:tblPr/>
              <a:tblGrid>
                <a:gridCol w="719280"/>
                <a:gridCol w="5545080"/>
                <a:gridCol w="2089080"/>
              </a:tblGrid>
              <a:tr h="12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 ОРИТ принявшие участия в исследова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ациен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вшие пациенты в ОРИТ за 7-мь месяцев (с 19.05.2013г. по 19.12.2013г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контр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исслед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Критерии вклю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92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 поступивших в ОРИТ пациентов в созн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жчины и женщины в возрасте от 30 до 60 лет, которым проводилась инфузионная 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циенты, имеющие постоянный периферический или центральный венозный до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циенты давшие добровольное информированное согласие на участие в исслед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Критерии исклю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ы в возрасте до 30 лет и старше 6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ы, которым не проводилась инфузионная тера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ы без катетеров в периферических или центральных ве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ы в психомоторном возбуж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ы, не давшие информированного согласия на проведени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1:55:32Z</dcterms:created>
  <dc:creator>Юлия</dc:creator>
  <dc:description/>
  <dc:language>en-US</dc:language>
  <cp:lastModifiedBy>ОПСА</cp:lastModifiedBy>
  <dcterms:modified xsi:type="dcterms:W3CDTF">2014-03-12T14:28:05Z</dcterms:modified>
  <cp:revision>51</cp:revision>
  <dc:subject/>
  <dc:title>Слайд 1</dc:title>
</cp:coreProperties>
</file>