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C4FD-6A5E-43DC-8B8F-B70D4701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761A-0758-4734-AB69-EEDED9F3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7BE3-E869-412B-99FC-6F3C1016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9A0-F5A4-4D0D-923B-D71F738B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E34-1A97-454F-8B78-9890A6DF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1D4C-B659-4ECB-ABBC-2EC6BE3B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DF84-9FD9-4EC6-9319-E6939CEC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865-5A2F-40DF-900D-1EC0DD39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B08-C2C0-40A6-BEB3-FE879187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F72F-A572-4BDF-977B-3C462AC2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EB09-ABCB-4827-BA0A-1E4DC577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3BBC-C8A9-4EA9-B075-99581CD1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AC4C-0E32-40DC-B4AC-7DF30CB5F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42" name="Подзаголовок 2"/>
          <p:cNvSpPr/>
          <p:nvPr/>
        </p:nvSpPr>
        <p:spPr>
          <a:xfrm>
            <a:off x="2666880" y="3200400"/>
            <a:ext cx="62024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5 - 28 мая 201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г. Ом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Прямоугольник 4"/>
          <p:cNvGrpSpPr/>
          <p:nvPr/>
        </p:nvGrpSpPr>
        <p:grpSpPr>
          <a:xfrm>
            <a:off x="-19080" y="4127400"/>
            <a:ext cx="9175680" cy="169920"/>
            <a:chOff x="-19080" y="4127400"/>
            <a:chExt cx="9175680" cy="169920"/>
          </a:xfrm>
        </p:grpSpPr>
        <p:pic>
          <p:nvPicPr>
            <p:cNvPr id="44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-19080" y="4127400"/>
              <a:ext cx="91756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414324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106200" y="324000"/>
            <a:ext cx="2521080" cy="3527280"/>
            <a:chOff x="106200" y="324000"/>
            <a:chExt cx="2521080" cy="3527280"/>
          </a:xfrm>
        </p:grpSpPr>
        <p:sp>
          <p:nvSpPr>
            <p:cNvPr id="47" name=""/>
            <p:cNvSpPr/>
            <p:nvPr/>
          </p:nvSpPr>
          <p:spPr>
            <a:xfrm>
              <a:off x="106200" y="324000"/>
              <a:ext cx="2521080" cy="352728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ffffff"/>
                </a:gs>
                <a:gs pos="100000">
                  <a:srgbClr val="7b7b7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351000" y="407880"/>
              <a:ext cx="2131920" cy="315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71520" y="2338560"/>
            <a:ext cx="514440" cy="514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00200" y="4648320"/>
            <a:ext cx="5943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006600"/>
                </a:solidFill>
                <a:latin typeface="Verdana"/>
              </a:rPr>
              <a:t>1 день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07800"/>
            <a:ext cx="66294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региональный семинар    в рамках международного проекта «Лидерство в переговор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1200240" y="1260360"/>
            <a:ext cx="210960" cy="2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20T04:30:2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