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6D6-CDC3-48C8-A30E-10FFA23F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4F7-0903-4726-BAD3-1F2122C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FEC-76AF-417E-BB7E-4CC4C36A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5DF-3790-4754-A5DE-CD073704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F9645-3A90-48B6-AC1A-CE04E7CA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8DB7B-7537-48FA-B5CF-673364C5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422A4-FE77-48B9-A250-4387D450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D92BE-B010-46F2-92F6-94ED6A2D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29725-822E-4AD1-821D-CE4CE0F9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1C7A9-60D9-4850-8E60-453FA91C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6D133-0250-4A62-9F25-3B55DE4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410-B1EC-499D-8B17-29EDB37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B1772-C71E-4DF3-8D76-FA14184B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25FBB-091C-447D-A053-44D36D64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87C25-0D47-4FC4-92CB-DEDD4D93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0CD85-8389-43F6-A711-47CBD388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4652-1EDD-4C11-8157-A8C355EA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992D-DA13-49BE-B737-5F74C948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2DD0-703F-4E59-919F-2C32F522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60DE-1375-4F4F-8B3B-E361F02E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5031-6E38-4118-A990-F923018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A2C2-A38F-4C4E-B7FE-7DB9A608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289-9368-48A4-A7D8-E1CA22C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A6FD4-F5C3-4AB2-9F61-1E15D9EB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069A-8C0A-49A4-860A-CC563493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35E9-5E58-4679-A130-8A052CB3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9542-573A-48A2-B4A3-E1E453D4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2C73B-D499-4ED6-8413-81FE5D8C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BECC-4927-437E-9289-A75BA96B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FA9C-4A74-49C4-844A-B28D4586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C97-0288-4608-B914-735E61D0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B2A-173A-46F3-B606-1CEC1CCA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35F-C178-45C9-A5B1-F0032A09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FF4-5394-47C8-AA2D-A00F8ADE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2E5-C3CC-4E97-8504-313DC977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181-B30F-4D07-90C1-98E35090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A816-99B3-49B6-922B-9EA857E4E80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9CA7-E94A-4DEF-B3AD-EE96AA96C70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60C6-114F-418A-836A-1173290EB0B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63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6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66" name="Подзаголовок 2"/>
          <p:cNvSpPr/>
          <p:nvPr/>
        </p:nvSpPr>
        <p:spPr>
          <a:xfrm>
            <a:off x="71280" y="2133720"/>
            <a:ext cx="8964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5800"/>
                </a:solidFill>
                <a:latin typeface="Verdana"/>
              </a:rPr>
              <a:t>Приветствуем участников!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36:25Z</dcterms:created>
  <dc:creator>User</dc:creator>
  <dc:description/>
  <dc:language>en-US</dc:language>
  <cp:lastModifiedBy>Admin</cp:lastModifiedBy>
  <dcterms:modified xsi:type="dcterms:W3CDTF">2010-05-18T08:30:07Z</dcterms:modified>
  <cp:revision>11</cp:revision>
  <dc:subject/>
  <dc:title>Слайд 1</dc:title>
</cp:coreProperties>
</file>