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4237-8B98-44E3-97F5-8309A116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350B-D2B9-4621-9E40-DDFF0C8A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83ED-DD1C-42E7-B881-B7E9D77A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2608-90EF-439F-9BF4-540B82FD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E1AF-65B3-4264-98C6-58311F86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1AC6-15CC-4B50-980D-7B0354AD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338D-1A47-44F6-8D26-394AE92E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A2F8-AE70-4560-9E0F-E2F6FE20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102D-5BB5-4AF7-B90A-99F1A4AD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C93C-E30A-4B9F-A15D-4CF6C5D4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273C-8D9D-4E70-8D75-074E43FA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CB98-0954-479D-98AB-2C6A76F6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1E40-71A8-45E7-B0DF-80DA4B42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7037-B3AD-441F-8BD4-7126E48F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A761-9962-4158-ACE3-24A5360B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3B07-E62D-4E8C-B234-4791550E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62AC-9F78-4AEF-AA1D-8361C978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33A2-5C75-4A0F-9957-DC5F5666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FBED-6C63-44DA-99C0-43008888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EA4C-4157-4783-8B9E-4BF5D223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21C6-C7F2-4FB2-917F-609083CE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3219-8D9F-4C59-8562-35F05552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4240-D8CA-4080-9575-06E5A3E5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C99E-67F8-485C-941B-B18D7948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CA54-8E4A-41D9-A52F-4389F2B9CAC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E339-C93F-4CA7-A23F-F20B61DB77B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г.Омск,   МУЗ «Городская больница №17»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Verdana"/>
              </a:rPr>
              <a:t>Отчет о реализации 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Verdana"/>
              </a:rPr>
              <a:t>мини-проекта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Verdana"/>
              </a:rPr>
              <a:t>«Благоприятные условия труда – позитивная атмосфера в коллективе»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806400" y="4292640"/>
            <a:ext cx="82296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Руководитель мини-проекта: 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Шемшелева Е.Е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уратор мини-проекта: Франк Т.Н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оординатор мини-проекта: Дацюк С.Ф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Что удалось сдела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8.11.09г. проведено собрание членов ОПСА с целью избрания ключевого член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19" descr="P1030615"/>
          <p:cNvPicPr/>
          <p:nvPr/>
        </p:nvPicPr>
        <p:blipFill>
          <a:blip r:embed="rId1"/>
          <a:stretch/>
        </p:blipFill>
        <p:spPr>
          <a:xfrm>
            <a:off x="1027080" y="1847880"/>
            <a:ext cx="2917800" cy="2187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0" descr="P1030612"/>
          <p:cNvPicPr/>
          <p:nvPr/>
        </p:nvPicPr>
        <p:blipFill>
          <a:blip r:embed="rId2"/>
          <a:stretch/>
        </p:blipFill>
        <p:spPr>
          <a:xfrm>
            <a:off x="885960" y="4221000"/>
            <a:ext cx="2914560" cy="2186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збран ключевой член Ю.А.Хатьк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7" name="Picture 6" descr="P1030882"/>
          <p:cNvPicPr/>
          <p:nvPr/>
        </p:nvPicPr>
        <p:blipFill>
          <a:blip r:embed="rId1"/>
          <a:stretch/>
        </p:blipFill>
        <p:spPr>
          <a:xfrm>
            <a:off x="2876400" y="1600200"/>
            <a:ext cx="339120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Изучение информации на стенд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Picture 6" descr="Изображение 023"/>
          <p:cNvPicPr/>
          <p:nvPr/>
        </p:nvPicPr>
        <p:blipFill>
          <a:blip r:embed="rId1"/>
          <a:stretch/>
        </p:blipFill>
        <p:spPr>
          <a:xfrm>
            <a:off x="1552680" y="1600200"/>
            <a:ext cx="603720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дготовлена страничка учреждения на сайт ОПС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23"/>
          <p:cNvSpPr/>
          <p:nvPr/>
        </p:nvSpPr>
        <p:spPr>
          <a:xfrm>
            <a:off x="0" y="39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Rectangle 24"/>
          <p:cNvSpPr/>
          <p:nvPr/>
        </p:nvSpPr>
        <p:spPr>
          <a:xfrm>
            <a:off x="0" y="839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Rectangle 25"/>
          <p:cNvSpPr/>
          <p:nvPr/>
        </p:nvSpPr>
        <p:spPr>
          <a:xfrm>
            <a:off x="0" y="1227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Rectangle 26"/>
          <p:cNvSpPr/>
          <p:nvPr/>
        </p:nvSpPr>
        <p:spPr>
          <a:xfrm>
            <a:off x="1800" y="1374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Rectangle 27"/>
          <p:cNvSpPr/>
          <p:nvPr/>
        </p:nvSpPr>
        <p:spPr>
          <a:xfrm>
            <a:off x="1800" y="16390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Rectangle 32"/>
          <p:cNvSpPr/>
          <p:nvPr/>
        </p:nvSpPr>
        <p:spPr>
          <a:xfrm>
            <a:off x="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Rectangle 34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Rectangle 36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38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Rectangle 40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Picture 28" descr="C:\Users\User\Desktop\Рисунок1.jpg"/>
          <p:cNvPicPr/>
          <p:nvPr/>
        </p:nvPicPr>
        <p:blipFill>
          <a:blip r:embed="rId1"/>
          <a:stretch/>
        </p:blipFill>
        <p:spPr>
          <a:xfrm>
            <a:off x="250920" y="1700280"/>
            <a:ext cx="1573200" cy="1182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9" descr="C:\Users\User\Desktop\Рисунок1.jpg"/>
          <p:cNvPicPr/>
          <p:nvPr/>
        </p:nvPicPr>
        <p:blipFill>
          <a:blip r:embed="rId2"/>
          <a:stretch/>
        </p:blipFill>
        <p:spPr>
          <a:xfrm>
            <a:off x="250920" y="3068640"/>
            <a:ext cx="1616040" cy="1225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0" descr="C:\Users\User\Desktop\Рисунок1.jpg"/>
          <p:cNvPicPr/>
          <p:nvPr/>
        </p:nvPicPr>
        <p:blipFill>
          <a:blip r:embed="rId3"/>
          <a:stretch/>
        </p:blipFill>
        <p:spPr>
          <a:xfrm>
            <a:off x="2124000" y="1700280"/>
            <a:ext cx="1884600" cy="1401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1" descr="C:\Users\User\Desktop\Рисунок1.jpg"/>
          <p:cNvPicPr/>
          <p:nvPr/>
        </p:nvPicPr>
        <p:blipFill>
          <a:blip r:embed="rId4"/>
          <a:stretch/>
        </p:blipFill>
        <p:spPr>
          <a:xfrm>
            <a:off x="2268360" y="3284640"/>
            <a:ext cx="1511640" cy="11462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2" descr="C:\Users\User\Desktop\Рисунок1.jpg"/>
          <p:cNvPicPr/>
          <p:nvPr/>
        </p:nvPicPr>
        <p:blipFill>
          <a:blip r:embed="rId5"/>
          <a:stretch/>
        </p:blipFill>
        <p:spPr>
          <a:xfrm>
            <a:off x="468360" y="4869000"/>
            <a:ext cx="1925640" cy="1450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3" descr="C:\Users\User\Desktop\Рисунок1.jpg"/>
          <p:cNvPicPr/>
          <p:nvPr/>
        </p:nvPicPr>
        <p:blipFill>
          <a:blip r:embed="rId6"/>
          <a:stretch/>
        </p:blipFill>
        <p:spPr>
          <a:xfrm>
            <a:off x="2771640" y="5084640"/>
            <a:ext cx="1322640" cy="987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4" descr="C:\Users\User\Desktop\Рисунок1.jpg"/>
          <p:cNvPicPr/>
          <p:nvPr/>
        </p:nvPicPr>
        <p:blipFill>
          <a:blip r:embed="rId7"/>
          <a:stretch/>
        </p:blipFill>
        <p:spPr>
          <a:xfrm>
            <a:off x="4643280" y="5157720"/>
            <a:ext cx="1249560" cy="944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5" descr="C:\Users\User\Desktop\Рисунок1.jpg"/>
          <p:cNvPicPr/>
          <p:nvPr/>
        </p:nvPicPr>
        <p:blipFill>
          <a:blip r:embed="rId8"/>
          <a:stretch/>
        </p:blipFill>
        <p:spPr>
          <a:xfrm>
            <a:off x="4643280" y="4076640"/>
            <a:ext cx="1243080" cy="938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6" descr="C:\Users\User\Desktop\Рисунок1.jpg"/>
          <p:cNvPicPr/>
          <p:nvPr/>
        </p:nvPicPr>
        <p:blipFill>
          <a:blip r:embed="rId9"/>
          <a:stretch/>
        </p:blipFill>
        <p:spPr>
          <a:xfrm>
            <a:off x="4500720" y="1700280"/>
            <a:ext cx="2047680" cy="1542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7" descr="C:\Users\User\Desktop\Рисунок1.jpg"/>
          <p:cNvPicPr/>
          <p:nvPr/>
        </p:nvPicPr>
        <p:blipFill>
          <a:blip r:embed="rId10"/>
          <a:stretch/>
        </p:blipFill>
        <p:spPr>
          <a:xfrm>
            <a:off x="6948360" y="1700280"/>
            <a:ext cx="1725840" cy="1298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8" descr="C:\Users\User\Desktop\Рисунок1.jpg"/>
          <p:cNvPicPr/>
          <p:nvPr/>
        </p:nvPicPr>
        <p:blipFill>
          <a:blip r:embed="rId11"/>
          <a:stretch/>
        </p:blipFill>
        <p:spPr>
          <a:xfrm>
            <a:off x="6875640" y="3357720"/>
            <a:ext cx="1714320" cy="1292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9" descr="C:\Users\User\Desktop\Рисунок1.jpg"/>
          <p:cNvPicPr/>
          <p:nvPr/>
        </p:nvPicPr>
        <p:blipFill>
          <a:blip r:embed="rId12"/>
          <a:stretch/>
        </p:blipFill>
        <p:spPr>
          <a:xfrm>
            <a:off x="6804000" y="5013360"/>
            <a:ext cx="161604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Что удалось сдела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обретены за счет средств отделения холодильник, микроволновая печь и электрический чайни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10" descr="Изображение 028"/>
          <p:cNvPicPr/>
          <p:nvPr/>
        </p:nvPicPr>
        <p:blipFill>
          <a:blip r:embed="rId1"/>
          <a:stretch/>
        </p:blipFill>
        <p:spPr>
          <a:xfrm>
            <a:off x="1655640" y="1600200"/>
            <a:ext cx="1640160" cy="2181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Изображе_0"/>
          <p:cNvPicPr/>
          <p:nvPr/>
        </p:nvPicPr>
        <p:blipFill>
          <a:blip r:embed="rId2"/>
          <a:stretch/>
        </p:blipFill>
        <p:spPr>
          <a:xfrm>
            <a:off x="1015920" y="3941640"/>
            <a:ext cx="2919600" cy="2189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Что удалось сдела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чет спонсорской помощи приобретены шкафы для одежды персон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1" name="Picture 9" descr="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Что удалось сдела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делено помещение по созданию условий для соблюдения личной гигиены медицинского персон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9" descr=""/>
          <p:cNvPicPr/>
          <p:nvPr/>
        </p:nvPicPr>
        <p:blipFill>
          <a:blip r:embed="rId2"/>
          <a:stretch/>
        </p:blipFill>
        <p:spPr>
          <a:xfrm>
            <a:off x="1015920" y="3941640"/>
            <a:ext cx="2919600" cy="2189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Что удалось сдела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мещении имеетс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нузел и душева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би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777960" y="1600200"/>
            <a:ext cx="339732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Что удалось сдела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Привлечено в ряды Омской профессиональной сестринской ассоциации 2 человек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ccecff"/>
                </a:solidFill>
                <a:uFillTx/>
                <a:latin typeface="Arial"/>
              </a:rPr>
              <a:t>Достижения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spcAft>
                <a:spcPts val="475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Улучшились условий труда и быта сестринского персонала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50"/>
              </a:spcBef>
              <a:spcAft>
                <a:spcPts val="475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Созданы условия для соблюдения личной гигиены сестринского персонала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50"/>
              </a:spcBef>
              <a:spcAft>
                <a:spcPts val="4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ccecff"/>
                </a:solidFill>
                <a:uFillTx/>
                <a:latin typeface="Arial"/>
              </a:rPr>
              <a:t>Цели мини-проект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spcAft>
                <a:spcPts val="4000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Улучшение условий труда и быта сестринского персонал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spcAft>
                <a:spcPts val="4000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Создание условий для соблюдения личной гигиены сестринского персонал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Verdana"/>
              </a:rPr>
              <a:t>БЛАГОДАРЮ ЗА ВНИМАНИЕ!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ccecff"/>
                </a:solidFill>
                <a:uFillTx/>
                <a:latin typeface="Arial"/>
              </a:rPr>
              <a:t>Задач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едставить мини-проект и провести с администрацией переговоры на получение поддержки в проведение мини-проек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вести работу по привлечению спонсоров для осуществления проек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вести ремонт на отведенных площадя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обрести новую мебель и бытовую техник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ccecff"/>
                </a:solidFill>
                <a:uFillTx/>
                <a:latin typeface="Arial"/>
              </a:rPr>
              <a:t>Период реализации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с 01.09.09г. по 01.04.10г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Что удалось сдела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97520" y="16347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9.07.2009г выступила на заседании Совета по сестринскому делу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 прошедшем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 региональном семинаре и представила мини-проек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13" descr="P1030618"/>
          <p:cNvPicPr/>
          <p:nvPr/>
        </p:nvPicPr>
        <p:blipFill>
          <a:blip r:embed="rId1"/>
          <a:stretch/>
        </p:blipFill>
        <p:spPr>
          <a:xfrm>
            <a:off x="108000" y="1773360"/>
            <a:ext cx="5111640" cy="3833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Что удалось сдела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97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7.08.2009г. на заседании Совета по сестринскому делу обсудили список участников и план проведения семинарских занят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23" descr=""/>
          <p:cNvPicPr/>
          <p:nvPr/>
        </p:nvPicPr>
        <p:blipFill>
          <a:blip r:embed="rId1"/>
          <a:stretch/>
        </p:blipFill>
        <p:spPr>
          <a:xfrm>
            <a:off x="173160" y="1700280"/>
            <a:ext cx="5119560" cy="3838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Участники семинарских занят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Picture 6" descr="P1030629"/>
          <p:cNvPicPr/>
          <p:nvPr/>
        </p:nvPicPr>
        <p:blipFill>
          <a:blip r:embed="rId1"/>
          <a:stretch/>
        </p:blipFill>
        <p:spPr>
          <a:xfrm>
            <a:off x="1042920" y="1341360"/>
            <a:ext cx="6978600" cy="5237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Что удалось сдела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Picture 10" descr="P1030623"/>
          <p:cNvPicPr/>
          <p:nvPr/>
        </p:nvPicPr>
        <p:blipFill>
          <a:blip r:embed="rId1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P1030622"/>
          <p:cNvPicPr/>
          <p:nvPr/>
        </p:nvPicPr>
        <p:blipFill>
          <a:blip r:embed="rId2"/>
          <a:stretch/>
        </p:blipFill>
        <p:spPr>
          <a:xfrm>
            <a:off x="1015920" y="394164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7" descr=""/>
          <p:cNvPicPr/>
          <p:nvPr/>
        </p:nvPicPr>
        <p:blipFill>
          <a:blip r:embed="rId3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17.09.09г по 03.12.09г проведены семинарские занят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Что удалось сдела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оде  занятий  проводились  ролевые игры, что облегчало усвоение пройденного матери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8" descr="P1030624"/>
          <p:cNvPicPr/>
          <p:nvPr/>
        </p:nvPicPr>
        <p:blipFill>
          <a:blip r:embed="rId1"/>
          <a:stretch/>
        </p:blipFill>
        <p:spPr>
          <a:xfrm>
            <a:off x="1019160" y="1600200"/>
            <a:ext cx="2916360" cy="2181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P1030625"/>
          <p:cNvPicPr/>
          <p:nvPr/>
        </p:nvPicPr>
        <p:blipFill>
          <a:blip r:embed="rId2"/>
          <a:stretch/>
        </p:blipFill>
        <p:spPr>
          <a:xfrm>
            <a:off x="1017720" y="3948120"/>
            <a:ext cx="2917800" cy="2182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08:08:55Z</dcterms:created>
  <dc:creator>Main</dc:creator>
  <dc:description/>
  <dc:language>en-US</dc:language>
  <cp:lastModifiedBy>ОПСА</cp:lastModifiedBy>
  <dcterms:modified xsi:type="dcterms:W3CDTF">2012-07-25T08:00:13Z</dcterms:modified>
  <cp:revision>20</cp:revision>
  <dc:subject/>
  <dc:title>г.Омск МУЗ «Городская больница №17»</dc:title>
</cp:coreProperties>
</file>