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dt" idx="6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ftr" idx="6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 type="sldNum" idx="6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40F8-F9DC-4BD6-B91D-B3715D807C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AC67-4310-409E-BDD9-D25C2756DBB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DBA30-C4C0-4CA2-8816-2CA5A759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72C31-5666-42CE-823B-680BC4CA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D3107-EAEA-41A4-BC58-1945647F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032CD-BC2F-48AB-B528-0483F675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A2AB6-0F75-48E3-B336-BC7E6935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85067-9EE8-42B9-B4C1-8427443D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58693-3196-40BE-99BE-6DA8D226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D56FE-80A4-44A6-A978-5C0B29AC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1CA58-EE96-4C5A-82F6-B0B681AD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CB98E-14AA-4BA1-9630-CE17C054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678C3-1811-464B-879D-92E37358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EBA05-FCCD-48F2-A7BA-79D39329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8FB6F-E1EF-4442-B093-9CFCD5F8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DFDCF-5373-443E-AB27-0AFC2476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F89FD-0941-4ECE-98E1-F6E21B62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73731-488C-43CD-9AC9-125B0F71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88BEA-9CA2-4D05-9448-D66B2CCF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8C38B-F16E-4011-BED7-44DEAA1D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2BE28-FB47-41BF-BF8F-CC27EDCA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C0553-58A4-44CE-92E7-19107784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1BE06-F8E5-42F4-ABAD-B70B8864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8924A-DA50-4790-8C7D-FB87E2B3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91CE4-593F-4006-9C8C-F91D9BB0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6BB19-BDBC-4461-B728-978453F5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7120D-72E4-40D6-B17A-5F85D95D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522D5-B61B-45D7-98F7-2547380A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FCE05-D518-4920-A135-0AC531EC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D87BB-85A4-45D3-82AC-995B7681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4B8E8-11B0-41EA-9786-75738FED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7CBF0-C4FC-47B1-A074-D0A555FD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C85-BAE4-4D73-A8C6-4A395470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349E6-01AF-4D3F-B76C-FF31221E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8FBA7-4482-40BF-8573-3A1D2A30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4AB69-0D64-4F46-AF0B-96831393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38C95-C967-48B8-914B-075FBC80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6C654-77A0-4BF5-BCE5-646EAFAE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CBF98-A0C4-420F-9ADF-F524AF37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B6988-8546-48C5-A962-46961974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0D017-1044-4FAE-96C8-5F00E443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14505-DE99-4DA3-9396-A1D4C1A5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AF3D8-EE26-4366-A6F4-739D13D0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C033-7F4F-417A-8229-A8091C7A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5AE83-3025-4525-820F-26D0DE39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77231-1CD7-4A1E-A19A-3022B85D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4D0E3-C530-4F45-813E-14FC885B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E3FA7-68C5-46F2-9EC9-73A1ABA6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A356F-0499-4287-B705-EB88ABAB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AFA3F-A693-4F18-AFF8-52D7F72C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B954F-B9ED-42EA-9E1D-90DF3242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1F93E-DCEF-453B-9D85-B3AE1FFA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42694-40A8-4501-B209-7114B516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82339-7E24-4E4C-AB50-047D4FB1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56FE-567A-4AE3-82DD-C93FDF4E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EAB36-C9D7-437F-B488-F6211585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3C354-ACBC-4E84-B4B7-0B0F08ED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5ABB3-C5E0-42BF-A0C5-C7F9E47C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9A042-CD59-4A77-968A-97C28714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EB4B1-EDD5-442A-B50E-0C71858C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32864-4706-4F6C-B56A-B7ECF0E7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76663-E153-4B1D-A8E6-0DF62404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04E3F7-85E6-4EA3-82F6-9CABDD87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3A9C2-4C22-487D-83CA-5745B6E8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208A4D-85B5-47DC-A00A-6B4DDE47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7184-1B3E-49A2-83D6-C680CD31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24605-FD3A-4387-8C88-F77900A3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063C1D-46DC-4A0C-97EC-C48DAB7E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E2FF9-6B83-4F9B-87C9-701F7A98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50712-936F-4544-8D98-524B8820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89F8EE-0D76-4014-95C9-64AC5A87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38132-5375-4A2E-8D54-1D8ACC3B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C0BD6-F0F5-4459-ACF9-FF0A4D4C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578F48-CADD-4C5E-A1B2-4BAAD144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050CE-8760-48EA-9055-2AC2A717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EE526D-672E-436C-BF0C-D81D5E4E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4933-FF8C-4D4F-8201-BDDA02B0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524EE7-7FD9-4D85-B1A7-26C7FA8E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E63D71-B0E6-44FF-8126-B4518C60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462C76-CFB1-4EFA-99B3-A469F154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CB5D34-D3F6-4982-9C7F-4C1BB459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8CE9B2-80FB-4383-96E9-97FA0532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BD810-ABE0-48A5-A3F0-BCE2908A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573981-E0A5-4224-A7E4-E80FC932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2C8C0E-D900-4F4E-9EEE-A8647480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232BB4-2776-496C-845A-8F30900B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1D779-02F7-4C52-8DAC-7CF6903F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12F-1C1D-4ECD-9EA9-F48C6121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81A988-1F62-4C3E-A39D-E5DFE9C6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F2D15A-6365-4395-B8E9-C2A2B2D5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ED5320-981A-4382-BD56-2762AF05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20A8FF-D134-4232-8D06-6676E564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591FE8-1BBB-48D8-830D-F7714E45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A23C2C-45CD-4E2D-B478-FE3E9ED4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4C6E3B-C7D1-436C-A950-DB21391D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7D256A-16DC-4C64-BFDC-E8BD1E58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078517-968F-408C-905D-7C8CE89B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156A8A-E74E-40F8-AD76-1C72C4B1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8B46-386B-4F3C-B39C-5D3147F7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97CFC9-3C6D-4BFA-A65C-2D826CB5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AC5943-4D5F-457C-BE0C-1A51F22B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DA4F8C-82BB-4812-BDFC-B64387AD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950833-B0A1-4C56-B8A6-DB50120B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30E9AA-F1CD-4DBA-8BE1-27BDEDE8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35EE8B-832B-4C7F-A101-0DB6C27B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95DAE4-24B0-4E1C-970B-60DBB8CC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753655-7A5E-4548-BC38-01ECFB41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E3E3C2-F6B8-45FF-8F54-1E6B563E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9B8A5A-F168-4BC2-9593-7C561BE8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7A83-7111-403C-B404-7E6C5077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641C38-28D5-4636-B7FF-DB729A63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D1629-0C1F-4504-9A22-91C7FBBB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B7B2E4-B0D8-41EB-8063-C086EBDD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F4D923-BE00-44F3-B7D9-60937F40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A96C94-1520-4E21-8FED-65359F86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CEF354-3FC3-462F-90F9-92717484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CED69F-9180-4039-BEF5-DBD67076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2AE95D-A742-4AA4-9330-E5AAA3A9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6265D4-4DBE-43D0-BEC4-4442CA4E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6A95E0-002B-450A-A745-897FC24E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EE81-2E36-4C70-95CD-BDA3EA34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F91C87-155A-4AE0-9A38-7631D757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D063C5-3094-4D54-87B9-A4996535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846B24-E78B-4878-A1D3-21E2AA65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6A3E85-B26B-4721-828B-AF33A9D2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AD7B5D-EEB8-4207-AC5D-57C75636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ACDAB0-0D7E-44C4-ADF8-029DA5F7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73D750-F5F9-42C7-8E2F-FE6CBAC0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B464F2-C63F-44B3-9550-66FAEA35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2CD9B3-6E89-4D8B-A38B-C340FAE9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75F943-3FCF-4A32-9244-9D7505E4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2C10-D73C-4C8A-AF2B-B543BED5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BABB17-690D-4E43-B107-2B700996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BF21ED-3D54-44CD-B85D-C881D302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1EB340-388B-4468-8F18-25261E56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6FBD20-79D4-4099-B3DF-7BA55524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1CD427-5FFF-4C72-88E6-F294A8B6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A52712-1D7E-409C-A353-B41E8B2A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AA1A0F-C91B-42CB-ADB5-9A95EDB4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2800CB-E615-4974-B3AE-52017BDF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D46BBB-CB79-48DD-A133-685483A5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CE0A13-5F96-4540-93A3-20E237B3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2C9-65B0-420E-B4E9-A01292C5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5B9DD6-115C-4097-B0BC-0306745F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955DA6-95A6-46FC-B022-19FB5848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50F6FD-FF60-4953-A864-AA8CF6AA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13031F-C6D8-47EE-B9D4-A2FA1486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4B26BF-3FE3-418B-BB4C-F28FBFED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15A6F5-59C6-4E47-9934-D12239F0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0E35B7-BD46-44C3-8C65-6F18431B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FD6064-E1F7-4B14-A712-4E2AB86E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F6A51D-5BB8-4844-9919-F189FEB4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2CF906-0D21-4A2A-8A38-E9C1F4AA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5369-4EF6-4D99-918A-A9887D3D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1F790E-863B-4827-B95D-BF4B28DC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4511F0-B0D4-4367-BE5C-9AEA4E5C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61088D-82F9-4710-95BA-F64A4423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90EDF5-F46A-477B-8887-B3A0EB99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5FFE7C-BDC9-4D27-A903-9BD6F5DE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114C9C-5930-4AAD-81DB-331775A3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1A6121-9157-497D-8AAF-02F916FA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CCFF28-8E4E-43B6-A19C-463E1584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B4D128-2315-4654-861B-49D850D6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0DA807-1DA4-4005-A655-1E2A7969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C27F-9EEE-4354-B239-69981BB2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013AF4-818B-4071-A259-968A3701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3F62ED-80F1-4008-B9BE-427FA819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489C9A-C26E-44FE-B486-915CB6DC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384DF0-AEF7-40B1-95D7-892F9415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FE5DA4-51C7-46C3-8684-BCD18E05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2F0EC7-7CF7-4CE6-8C74-10FF5256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827429-E28A-4BF7-9FA9-7150E1E1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939B7C-4D25-4541-BCF5-EB43291A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0D8396-2729-49A2-BBDE-981C2379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4E484A-33AC-470B-B3B8-64FC1610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DE5B-8B1F-4CAE-9347-E0C1330C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6F98B1-AD13-4367-BD08-F9507944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84C1A3-A56F-4C43-8C9A-D90D16B6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27EC09-5D9D-48EE-9416-CDAB91C7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2BF21A-E0CD-49E7-86AC-6DDBCDF2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E50D25-C7FB-4BC7-915F-D447E886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6A6D-D7CC-4F09-8765-E35AE349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C2E3-F777-4036-9E02-CC097F4A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B191-7761-46EE-B055-0B53ECC1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6E8B-4DAE-488E-9DF3-13A004D2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B720-C8A1-4D23-B211-5222DCDE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5FE5-A570-4851-B962-F403C558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D71E-AE46-4828-A3E1-D2639057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DED0-A5E9-4D83-BE38-1AFFA358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9799-0024-4DA4-ABCA-715A7A80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508B-35FF-45C6-93FB-51042FB5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917AA-F620-437E-9D23-BACE28B1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E9D51-77B4-4777-BADD-071832EF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764F7-E65F-451B-A9A0-722B53A3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C7744-7753-4522-9C01-06CBCB99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EBF9A-D7C3-4CF8-BC0B-C45602FB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ED690-4898-443F-81B8-18313F11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7BEA9-97A2-417E-82A5-7127D01A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7BD74-5ADA-4643-B8A8-4546FDE3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E6563-EE90-4151-B710-6A35BF48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6953B-A997-4379-BF5D-C333E4AE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CCEFC-D4DD-4956-82B6-7B8F8852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D0C15-887E-46C3-A211-1452AE88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1EE52-B813-44EB-A940-FAF7289B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3CF22-09A0-4928-B99C-44921CEB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B7D2E-6419-4F2C-9C3B-CB3C54BF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CFC0B-E5D3-455C-9607-CC5CD495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5D4E3-9674-4679-A0D6-69510AAA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CB442-4A3E-495E-8CC7-BE911802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7354F-F87C-418F-8078-2BD50B9C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A5308-9FFC-444F-A6E6-F5EC02D5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7BB4A-6CB9-4ED7-9D87-41CB6BF7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29451-DB5D-4311-AAAC-6E3B8B3A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BCDE1-9E5A-4BDA-86E6-C499E4CE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A89A9-2F4F-4C34-9AD4-A167CF0F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0A496-9839-44E4-8E69-ADAF3F40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E249E-5E5B-4EF4-82E0-8141777D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D1067-8440-4BE5-825B-DB9F7139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29058-6773-4652-A11F-FDD175DC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AD47A-FC9C-4B8F-A0BA-806D7ECA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FC204-0821-42BB-BB28-65E9BA44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6FA2F-CC99-47A4-BC4A-65EB9B54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0E637-70D9-40A0-A7A5-8044EF93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D7728-8394-4C31-B6C6-804DBB87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0F004-C73E-40C0-921B-1BA924D8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2E7B2-D485-4247-A09A-3DF2F3EE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DBBC3-17EA-404F-801F-12DF58FF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182DF-DE64-4316-8AFD-76A017A8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F03E5-D991-4CE9-BC30-8D96B75B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09A58-3498-4933-A351-B237F2B7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70099-6BE9-47E0-9B5E-E95B2948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57F77-0526-4E6F-93A5-043073D1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8207B-225C-4912-AE6D-BEB83A10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9B517-8246-46E8-A22A-FEBB7AF8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CD185-76E2-4541-B6D0-8072800A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D2900-B067-450A-AF5D-719666A6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A4624-B57C-446B-B4B7-A5FD81C5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4522C-2592-47ED-8D9C-F4900F81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99394-B30E-4FF9-8A6B-E17FD39A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FB2DF-6CC5-48C1-8464-D0502DFD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36663-0C82-498A-A587-D05E1183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2B564-5875-458C-9E58-26F7E678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9480C-F949-4D84-9195-6DE26942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13DD2-E366-42F7-A7DB-848C240B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D1190-EE2C-443C-A1BD-1DDA5E0F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6E017-1806-4447-ADCC-7163ED6E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C7801-4D94-4F53-982E-F90A9E78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ED352-39D8-464B-BC15-F2BE558A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A32C1-BE61-44A5-B75C-9B5A3D86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A3421-69E4-4C3B-A558-3F4F4E85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13749-4B0A-4CBD-8001-FD802440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CB129-508C-4DD0-B451-438810BA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DF172-2E13-4504-BF7D-9818C345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431A5-8933-428B-B1D5-E02E5417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7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1" name="Group 7"/>
          <p:cNvGrpSpPr/>
          <p:nvPr/>
        </p:nvGrpSpPr>
        <p:grpSpPr>
          <a:xfrm>
            <a:off x="4468680" y="304920"/>
            <a:ext cx="3976920" cy="5638680"/>
            <a:chOff x="4468680" y="304920"/>
            <a:chExt cx="3976920" cy="5638680"/>
          </a:xfrm>
        </p:grpSpPr>
        <p:pic>
          <p:nvPicPr>
            <p:cNvPr id="422" name="Rectangle 8" descr=""/>
            <p:cNvPicPr/>
            <p:nvPr/>
          </p:nvPicPr>
          <p:blipFill>
            <a:blip r:embed="rId6"/>
            <a:stretch/>
          </p:blipFill>
          <p:spPr>
            <a:xfrm>
              <a:off x="4468680" y="304920"/>
              <a:ext cx="3976920" cy="15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Rectangle 9" descr=""/>
            <p:cNvPicPr/>
            <p:nvPr/>
          </p:nvPicPr>
          <p:blipFill>
            <a:blip r:embed="rId7"/>
            <a:stretch/>
          </p:blipFill>
          <p:spPr>
            <a:xfrm>
              <a:off x="4468680" y="5792040"/>
              <a:ext cx="3976920" cy="15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Rectangle 10" descr=""/>
            <p:cNvPicPr/>
            <p:nvPr/>
          </p:nvPicPr>
          <p:blipFill>
            <a:blip r:embed="rId8"/>
            <a:stretch/>
          </p:blipFill>
          <p:spPr>
            <a:xfrm>
              <a:off x="8354880" y="304920"/>
              <a:ext cx="90720" cy="56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Rectangle 11" descr=""/>
            <p:cNvPicPr/>
            <p:nvPr/>
          </p:nvPicPr>
          <p:blipFill>
            <a:blip r:embed="rId9"/>
            <a:stretch/>
          </p:blipFill>
          <p:spPr>
            <a:xfrm>
              <a:off x="4468680" y="304920"/>
              <a:ext cx="96840" cy="563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25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26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sldNum" idx="27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1A4F-4210-416F-907C-8C9A9D33AF9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67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dt" idx="28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29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30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30C3-F479-4F6D-AD75-EA1A0433673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12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6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dt" idx="31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32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33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C2C1-D5F5-4453-A244-5CE5F041D79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a5d72"/>
              </a:gs>
              <a:gs pos="100000">
                <a:srgbClr val="85c5d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419C-C6BD-4A58-B4C5-878A57608DCE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CE98-FB46-489F-B74B-44073242F246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a5d72"/>
              </a:gs>
              <a:gs pos="100000">
                <a:srgbClr val="85c5d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4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4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4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D2F4-460E-43DC-B5CB-AF04FC3D9724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4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4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4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49DE-75DF-4FC3-8DFF-D340B09371FA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6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7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8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D2BA-AC1F-4075-8DE6-A27F33BBCDC7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5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5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CB77-F139-4E77-9888-E6445C6BD447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dt" idx="5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ftr" idx="5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 type="sldNum" idx="5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D618-91D8-4AB1-8F20-8C3740BF3B71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0876-636D-4509-91D1-9CB860223964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55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5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57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4812-42A5-4C60-A937-042D74257F90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8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9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0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CFD2-9184-4F3A-A21E-104C5A9FE234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4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4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9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953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dt" idx="6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6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sldNum" idx="6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4084-4947-4D63-A54A-BC90FED38E6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87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90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A956-E1F5-4F38-A59C-69CC0071138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1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Rectangle 25"/>
          <p:cNvGrpSpPr/>
          <p:nvPr/>
        </p:nvGrpSpPr>
        <p:grpSpPr>
          <a:xfrm>
            <a:off x="-55440" y="-55440"/>
            <a:ext cx="9248760" cy="6962760"/>
            <a:chOff x="-55440" y="-55440"/>
            <a:chExt cx="9248760" cy="6962760"/>
          </a:xfrm>
        </p:grpSpPr>
        <p:pic>
          <p:nvPicPr>
            <p:cNvPr id="146" name="Rectangle 25" descr=""/>
            <p:cNvPicPr/>
            <p:nvPr/>
          </p:nvPicPr>
          <p:blipFill>
            <a:blip r:embed="rId6"/>
            <a:stretch/>
          </p:blipFill>
          <p:spPr>
            <a:xfrm>
              <a:off x="-55440" y="-55440"/>
              <a:ext cx="9248760" cy="696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Diagonal Stripe 12"/>
          <p:cNvGrpSpPr/>
          <p:nvPr/>
        </p:nvGrpSpPr>
        <p:grpSpPr>
          <a:xfrm>
            <a:off x="463680" y="2372040"/>
            <a:ext cx="8454960" cy="864720"/>
            <a:chOff x="463680" y="2372040"/>
            <a:chExt cx="8454960" cy="864720"/>
          </a:xfrm>
        </p:grpSpPr>
        <p:pic>
          <p:nvPicPr>
            <p:cNvPr id="149" name="Diagonal Stripe 12" descr=""/>
            <p:cNvPicPr/>
            <p:nvPr/>
          </p:nvPicPr>
          <p:blipFill>
            <a:blip r:embed="rId7"/>
            <a:stretch/>
          </p:blipFill>
          <p:spPr>
            <a:xfrm>
              <a:off x="463680" y="2683800"/>
              <a:ext cx="8454960" cy="2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 rot="21321000">
              <a:off x="2576160" y="2627280"/>
              <a:ext cx="63151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8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9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2332-882C-4182-8318-7011F4FAB18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2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0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ftr" idx="11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4ABA-EC2C-4828-8F1A-3B1521D1692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7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3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7EC8-49AF-4819-84CC-872F2565745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2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16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7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8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98F2-319E-4788-B1B3-5B69C092080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7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19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ftr" idx="20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sldNum" idx="21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C661-4E38-476C-A675-AFE1E13D9F0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2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3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4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7A88-13BB-4D38-87DD-F3B55FAE4FB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 Box 5"/>
          <p:cNvSpPr/>
          <p:nvPr/>
        </p:nvSpPr>
        <p:spPr>
          <a:xfrm>
            <a:off x="0" y="907920"/>
            <a:ext cx="9144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Отчет                                                 о реализации мини-проекта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«Будущее профессии создадим вместе»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6"/>
          <p:cNvSpPr/>
          <p:nvPr/>
        </p:nvSpPr>
        <p:spPr>
          <a:xfrm>
            <a:off x="324000" y="4924440"/>
            <a:ext cx="880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Руководитель мини-проект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Лейба Ольга Ивановна – главная акушерка МУЗ Родильный дом №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Text Box 8"/>
          <p:cNvSpPr/>
          <p:nvPr/>
        </p:nvSpPr>
        <p:spPr>
          <a:xfrm>
            <a:off x="900000" y="6051600"/>
            <a:ext cx="82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Координатор международного проекта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Зорина Т.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10"/>
          <p:cNvSpPr/>
          <p:nvPr/>
        </p:nvSpPr>
        <p:spPr>
          <a:xfrm>
            <a:off x="250920" y="4005360"/>
            <a:ext cx="88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9 – 201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 txBox="1"/>
          <p:nvPr/>
        </p:nvSpPr>
        <p:spPr>
          <a:xfrm>
            <a:off x="539640" y="259920"/>
            <a:ext cx="75614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ffff"/>
                </a:solidFill>
                <a:latin typeface="Arial"/>
              </a:rPr>
              <a:t>Цель мини-проекта: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Содержимое 2"/>
          <p:cNvSpPr/>
          <p:nvPr/>
        </p:nvSpPr>
        <p:spPr>
          <a:xfrm>
            <a:off x="34920" y="1844640"/>
            <a:ext cx="878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Arial"/>
              </a:rPr>
              <a:t>1. Повышение информированности сестринского персонала о деятельности МСМ, РАМС и ОПСА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Содержимое 2"/>
          <p:cNvSpPr/>
          <p:nvPr/>
        </p:nvSpPr>
        <p:spPr>
          <a:xfrm>
            <a:off x="0" y="4508640"/>
            <a:ext cx="8748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Arial"/>
              </a:rPr>
              <a:t>2. Увеличение численности членов Ассоциации на 10 человек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 txBox="1"/>
          <p:nvPr/>
        </p:nvSpPr>
        <p:spPr>
          <a:xfrm>
            <a:off x="682200" y="574560"/>
            <a:ext cx="864252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200" spc="-1" strike="noStrike">
                <a:solidFill>
                  <a:srgbClr val="ffffff"/>
                </a:solidFill>
                <a:latin typeface="Arial"/>
              </a:rPr>
              <a:t>Задачи мини-проекта: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Содержимое 1"/>
          <p:cNvSpPr/>
          <p:nvPr/>
        </p:nvSpPr>
        <p:spPr>
          <a:xfrm>
            <a:off x="144360" y="1989000"/>
            <a:ext cx="8531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Arial"/>
              </a:rPr>
              <a:t>1. Увеличение численности членов Ассоциации в Родильном доме № 2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Содержимое 1"/>
          <p:cNvSpPr/>
          <p:nvPr/>
        </p:nvSpPr>
        <p:spPr>
          <a:xfrm>
            <a:off x="144360" y="4365720"/>
            <a:ext cx="8256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Arial"/>
              </a:rPr>
              <a:t>2. Подготовка информационного стенда «Наша сестринская ассоциация»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25092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 algn="ctr"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ffffff"/>
                </a:solidFill>
                <a:latin typeface="Arial"/>
              </a:rPr>
              <a:t>Период реализации            мини-проекта: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Содержимое 1"/>
          <p:cNvSpPr/>
          <p:nvPr/>
        </p:nvSpPr>
        <p:spPr>
          <a:xfrm>
            <a:off x="395280" y="357192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ffff"/>
                </a:solidFill>
                <a:latin typeface="Arial"/>
              </a:rPr>
              <a:t>01.10.2009 г.  -  01.04.2010 г.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 txBox="1"/>
          <p:nvPr/>
        </p:nvSpPr>
        <p:spPr>
          <a:xfrm>
            <a:off x="9000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ctr"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ffffff"/>
                </a:solidFill>
                <a:latin typeface="Arial"/>
              </a:rPr>
              <a:t>Что удалось сделать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Содержимое 1"/>
          <p:cNvSpPr/>
          <p:nvPr/>
        </p:nvSpPr>
        <p:spPr>
          <a:xfrm>
            <a:off x="34920" y="979560"/>
            <a:ext cx="903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1. Получить поддержку главного врача в реализации мини-проект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Содержимое 1"/>
          <p:cNvSpPr/>
          <p:nvPr/>
        </p:nvSpPr>
        <p:spPr>
          <a:xfrm>
            <a:off x="0" y="2060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2. Изготовить информационный стенд «Наша сестринская ассоциация». Обновлять информацию на стенде - 1 раз в 3 месяц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Содержимое 1"/>
          <p:cNvSpPr/>
          <p:nvPr/>
        </p:nvSpPr>
        <p:spPr>
          <a:xfrm>
            <a:off x="0" y="3645000"/>
            <a:ext cx="8964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3. Провести семинарские занятия по 16,5-часовой программе «Лидерство в переговорах» с 12.10.09 г. по 24.12.09 г.  Подготовить 21 человек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Содержимое 1"/>
          <p:cNvSpPr/>
          <p:nvPr/>
        </p:nvSpPr>
        <p:spPr>
          <a:xfrm>
            <a:off x="0" y="5589720"/>
            <a:ext cx="8964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4. Привлечь в члены ОПСА 11 человек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5. Выбрать ключевого член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0" y="0"/>
            <a:ext cx="91440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ffff"/>
                </a:solidFill>
                <a:latin typeface="Arial"/>
              </a:rPr>
              <a:t>Мероприятия, проведенные для достижения поставленных целей: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Содержимое 1"/>
          <p:cNvSpPr/>
          <p:nvPr/>
        </p:nvSpPr>
        <p:spPr>
          <a:xfrm>
            <a:off x="2879640" y="1413000"/>
            <a:ext cx="6123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Общебольничная сестринская конференция по итогам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ого семинара «Лидерство в переговорах» 10.10.09 г. (45 человек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Содержимое 1"/>
          <p:cNvSpPr/>
          <p:nvPr/>
        </p:nvSpPr>
        <p:spPr>
          <a:xfrm>
            <a:off x="2952720" y="3933720"/>
            <a:ext cx="6227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оведены семинарские занятия «Лидерство в переговорах» по 16,5-часовой программе с 12.10.09 по 24.12.09 г. (21 человек). К проведению занятий были привлечены психолог, главный экономис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7" name="Picture 26" descr="P1040113"/>
          <p:cNvPicPr/>
          <p:nvPr/>
        </p:nvPicPr>
        <p:blipFill>
          <a:blip r:embed="rId1"/>
          <a:stretch/>
        </p:blipFill>
        <p:spPr>
          <a:xfrm>
            <a:off x="220680" y="1557360"/>
            <a:ext cx="2695680" cy="2022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27" descr="P1040114"/>
          <p:cNvPicPr/>
          <p:nvPr/>
        </p:nvPicPr>
        <p:blipFill>
          <a:blip r:embed="rId2"/>
          <a:stretch/>
        </p:blipFill>
        <p:spPr>
          <a:xfrm>
            <a:off x="181080" y="4329000"/>
            <a:ext cx="2735280" cy="2052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Содержимое 1"/>
          <p:cNvSpPr/>
          <p:nvPr/>
        </p:nvSpPr>
        <p:spPr>
          <a:xfrm>
            <a:off x="0" y="141120"/>
            <a:ext cx="9144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ffff"/>
                </a:solidFill>
                <a:latin typeface="Arial"/>
              </a:rPr>
              <a:t>Мероприятия, проведенные для достижения поставленных целей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Содержимое 1"/>
          <p:cNvSpPr/>
          <p:nvPr/>
        </p:nvSpPr>
        <p:spPr>
          <a:xfrm>
            <a:off x="2811600" y="3933720"/>
            <a:ext cx="633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Выпущен стенд «Наша сестринская ассоциация» 15.03.10 г. Обновление информации на стенде о деятельности МСМ, РАМС и ОПСА 01.06.10 г. и 01.11.10 г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Содержимое 1"/>
          <p:cNvSpPr/>
          <p:nvPr/>
        </p:nvSpPr>
        <p:spPr>
          <a:xfrm>
            <a:off x="2771640" y="1484280"/>
            <a:ext cx="61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седание инициативной группы по изготовлению стенда и подготовке информации 19.02.10 г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2" name="Picture 14" descr="Изображение 329"/>
          <p:cNvPicPr/>
          <p:nvPr/>
        </p:nvPicPr>
        <p:blipFill>
          <a:blip r:embed="rId1"/>
          <a:stretch/>
        </p:blipFill>
        <p:spPr>
          <a:xfrm>
            <a:off x="468360" y="1341360"/>
            <a:ext cx="1771560" cy="26654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5" descr="Изображение 421"/>
          <p:cNvPicPr/>
          <p:nvPr/>
        </p:nvPicPr>
        <p:blipFill>
          <a:blip r:embed="rId2"/>
          <a:stretch/>
        </p:blipFill>
        <p:spPr>
          <a:xfrm>
            <a:off x="179280" y="4581360"/>
            <a:ext cx="2592360" cy="1724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 txBox="1"/>
          <p:nvPr/>
        </p:nvSpPr>
        <p:spPr>
          <a:xfrm>
            <a:off x="25092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700" spc="-1" strike="noStrike">
                <a:solidFill>
                  <a:srgbClr val="ffffff"/>
                </a:solidFill>
                <a:latin typeface="Arial"/>
              </a:rPr>
              <a:t>Достижения: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Содержимое 1"/>
          <p:cNvSpPr/>
          <p:nvPr/>
        </p:nvSpPr>
        <p:spPr>
          <a:xfrm>
            <a:off x="34920" y="1411200"/>
            <a:ext cx="91090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 Повысилась информированность сестринского персонала о профессиональном сестринском движен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Содержимое 1"/>
          <p:cNvSpPr/>
          <p:nvPr/>
        </p:nvSpPr>
        <p:spPr>
          <a:xfrm>
            <a:off x="0" y="414972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 Увеличилось количество членов Омской профессиональной сестринской ассоциации МУЗ Родильный дом №2 на 11 человек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Содержимое 1"/>
          <p:cNvSpPr/>
          <p:nvPr/>
        </p:nvSpPr>
        <p:spPr>
          <a:xfrm>
            <a:off x="374760" y="1773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8200" spc="-1" strike="noStrike">
                <a:solidFill>
                  <a:srgbClr val="ffffff"/>
                </a:solidFill>
                <a:latin typeface="Arial"/>
              </a:rPr>
              <a:t>Благодарю 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2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4:35:55Z</dcterms:created>
  <dc:creator>Олег</dc:creator>
  <dc:description/>
  <dc:language>en-US</dc:language>
  <cp:lastModifiedBy>ОПСА</cp:lastModifiedBy>
  <dcterms:modified xsi:type="dcterms:W3CDTF">2012-07-25T07:53:53Z</dcterms:modified>
  <cp:revision>131</cp:revision>
  <dc:subject/>
  <dc:title>ОТЧЁТ  О РЕАЛИЗАЦИИ МИНИ – ПРОЕКТА УЧАСТНИКА ПРОЕКТА « ЛИДЕРСТВО В ПЕРЕГОВОРАХ»</dc:title>
</cp:coreProperties>
</file>