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0CB-9106-47E1-BE84-822F5CB8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D60-A6C9-444B-986E-AFB0999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AAD-A03E-4141-8D01-B82490F9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A2E-9C9B-4D9D-B9E3-5DAB4072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ED938-3479-4394-9DCA-8F02D86C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A8815-DDD4-48F7-8CC9-D1521B1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EEF4-32D5-4A1C-BCCC-9F6D80C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49A1-AB2B-45A8-8653-2914A6E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FCB1-6E45-4D8D-AA80-90FCBAE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8A14-31D1-4C05-BF5A-A20FC50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9166-5A58-41F0-B4A2-65CD7D5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063-D5C0-4B10-A387-521C527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E0DE5-A69A-40DA-B287-570F7AB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CAD37-9FF3-40BA-82C3-3577612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1463-D0D7-4B69-909E-1D64145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80E8-47D7-41AD-9FBE-1FD4DB4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2EFED-57B8-4FD8-AD5A-C7B3115D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71A4-5EC0-4CE0-AD97-7317A8C7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CF84-A4C2-44EE-A536-292547C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4DBC-8D4F-47CD-AA3A-B3EF09E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0F04-A445-4E4B-BD17-87005C4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EF98-B94A-4B06-846A-9C4B3285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91F-D647-4C8E-B9E2-73BD0C8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2911-57E1-4E9D-BC60-B97829A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F57C-D2AE-4E06-BABD-5FC5DAB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5CE0-5779-425D-BE4A-2581C09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BBF9-58D2-4012-8275-2EF83D4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D231-D59E-4D4D-BBC9-53A2A5B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09AF-DAE2-410A-A54C-B5EBB7D5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3E3D-2B29-4482-BB5C-27BD986B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A9A-3B9A-4ABF-9B49-F6D0264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91E-9494-4D8F-AF1D-40FFF42B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4E3-D5FE-4D52-87FC-92070C0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E2A-94BA-4681-BC37-32CEDF7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C4E-8538-4A3A-AA91-1E87C7D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849-314C-46F6-BC42-42FB2C3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DA3-4671-4BCD-9834-F57197D1A5C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55A7-9943-4D3F-8B55-0F80B73E194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CB4-CCB7-4265-896B-A152F8BDC60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6" name="Подзаголовок 2"/>
          <p:cNvSpPr/>
          <p:nvPr/>
        </p:nvSpPr>
        <p:spPr>
          <a:xfrm>
            <a:off x="34920" y="1484280"/>
            <a:ext cx="9002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5800"/>
                </a:solidFill>
                <a:latin typeface="Verdana"/>
              </a:rPr>
              <a:t>Большая просьба отключить сотовые телефоны!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124080" y="4863960"/>
            <a:ext cx="236232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1</cp:lastModifiedBy>
  <dcterms:modified xsi:type="dcterms:W3CDTF">2010-05-24T09:51:24Z</dcterms:modified>
  <cp:revision>15</cp:revision>
  <dc:subject/>
  <dc:title>Слайд 1</dc:title>
</cp:coreProperties>
</file>