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B09-5819-4E98-AC8F-D7AA2F94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1F2-BCEA-4A36-8EE3-6398FE03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D4F-1691-432E-8CDC-2EA0B6B5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90A-32F0-4C65-B324-79E59402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AB3-C3E9-43BE-9BB2-CB21B461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9AB-D25A-44F7-B292-AC78A6C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01B-1DF0-4894-BFA2-09B819A0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A91-02A2-4F65-9C22-2D3B561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023-5B8B-427D-9AEC-EBAB3855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576-B2CC-422D-A820-1B9B835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43F-B1AB-47AB-9350-C11F815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E16-A47A-4001-A17E-E021119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628E-1CA6-457A-B59E-C27A4E968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52280" y="380880"/>
            <a:ext cx="88394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тч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 реализации мини-проекта «Доступность, открытость, информированность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009 – 2010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76720" y="4403880"/>
            <a:ext cx="5715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Руководитель мини-проекта: Е.М. Литвинова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МУЗ «Кормиловская ЦРБ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Координатор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Т.А. Зор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14400" y="219384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04920" y="457200"/>
            <a:ext cx="883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Цель мини-проек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85800" y="1600200"/>
            <a:ext cx="81532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13471"/>
                </a:solidFill>
                <a:latin typeface="Arial"/>
              </a:rPr>
              <a:t>объединить сестринский персонал МУЗ «Кормиловская ЦРБ» в сестринское сообщество для защиты профессиональных прав и  развития сестринского де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52280" y="228600"/>
            <a:ext cx="883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Задачи мини-проек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09480" y="1419120"/>
            <a:ext cx="792504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привлечь к деятельности Ассоциации 9 новых членов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подготовить материал для открытия странички о деятельности Совета по сестринскому делу на сайт ОПСА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28600" y="16444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Период реализац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143000" y="30160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20.09.09 г. – 20.05.10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28600" y="76320"/>
            <a:ext cx="883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Что удалось сделат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1219320"/>
            <a:ext cx="83059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10000"/>
              </a:lnSpc>
              <a:spcAft>
                <a:spcPts val="3849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учить поддержку Совета по сестринскому делу для реализации мини-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3849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влечь к деятельности Ассоциации      9  новых членов. Из них 4 фельдшера, 4 медицинские сестры и 1 зубной тех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3849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дготовить материал для открытия странички о деятельности Совета по сестринскому делу на сайт ОП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28600" y="158760"/>
            <a:ext cx="88390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200400" y="1676520"/>
            <a:ext cx="57913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Рассмотрение проекта на заседании Совета по сестринскому делу 19.09.09 г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Изображение 024"/>
          <p:cNvPicPr/>
          <p:nvPr/>
        </p:nvPicPr>
        <p:blipFill>
          <a:blip r:embed="rId2"/>
          <a:stretch/>
        </p:blipFill>
        <p:spPr>
          <a:xfrm>
            <a:off x="533520" y="1504800"/>
            <a:ext cx="2514600" cy="18878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60" name="Picture 7" descr="Изображение 010"/>
          <p:cNvPicPr/>
          <p:nvPr/>
        </p:nvPicPr>
        <p:blipFill>
          <a:blip r:embed="rId3"/>
          <a:stretch/>
        </p:blipFill>
        <p:spPr>
          <a:xfrm>
            <a:off x="533520" y="4038480"/>
            <a:ext cx="2514600" cy="190980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sp>
        <p:nvSpPr>
          <p:cNvPr id="61" name="Rectangle 8"/>
          <p:cNvSpPr/>
          <p:nvPr/>
        </p:nvSpPr>
        <p:spPr>
          <a:xfrm>
            <a:off x="3200400" y="3929040"/>
            <a:ext cx="59436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Проведены семинарские занятия «Лидерство в переговорах» с 01.10.09 по 17.12.09 г. Приняли участие   24 челов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8600" y="44280"/>
            <a:ext cx="88390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124080" y="4191120"/>
            <a:ext cx="60199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Проведено собрание по итогам работы ОПСА за 2009 г. и планам на 2010 г.  09.04.10 г. Приняли участие 147 челове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24080" y="1460520"/>
            <a:ext cx="556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Проведено собрание по выбору ключевого члена ОПСА 19.11.09.                         Выбрана Е.М. Литвино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Литвинова Е"/>
          <p:cNvPicPr/>
          <p:nvPr/>
        </p:nvPicPr>
        <p:blipFill>
          <a:blip r:embed="rId2"/>
          <a:stretch/>
        </p:blipFill>
        <p:spPr>
          <a:xfrm>
            <a:off x="838080" y="1536840"/>
            <a:ext cx="1981440" cy="196848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67" name="Picture 13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2362320" cy="176076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28600" y="44280"/>
            <a:ext cx="88390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62120" y="4467240"/>
            <a:ext cx="784836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2.05.10 г. проведена конференция, посвященная Международному дню медицинской сестры.                     Приняли участие 16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IMG_0419"/>
          <p:cNvPicPr/>
          <p:nvPr/>
        </p:nvPicPr>
        <p:blipFill>
          <a:blip r:embed="rId2"/>
          <a:stretch/>
        </p:blipFill>
        <p:spPr>
          <a:xfrm>
            <a:off x="762120" y="1447920"/>
            <a:ext cx="3657600" cy="27446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72" name="Picture 9" descr="IMG_0423"/>
          <p:cNvPicPr/>
          <p:nvPr/>
        </p:nvPicPr>
        <p:blipFill>
          <a:blip r:embed="rId3"/>
          <a:stretch/>
        </p:blipFill>
        <p:spPr>
          <a:xfrm>
            <a:off x="4670280" y="1461960"/>
            <a:ext cx="3635640" cy="272916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76320" y="228600"/>
            <a:ext cx="883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Достиж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" y="1380960"/>
            <a:ext cx="853452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улучшилась информированность медицинских сестер о деятельности Совета по сестринскому делу и ОПСА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увеличилась численность членов с 20.09.09 г. по 20.05.10 г. с 86%    до 90%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ОПСА</cp:lastModifiedBy>
  <dcterms:modified xsi:type="dcterms:W3CDTF">2012-07-25T07:54:1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