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68E-5734-490D-A75B-19671D1A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C6A-9CB7-4287-B9A0-C02CA7E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538-A33E-458C-B68F-BC5FA7E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D89-4AD2-4111-AE23-3EDE5360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AC84-31D3-4E6D-AC93-BF52EB34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1544-342A-434E-B88B-65CAE274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B04D-79DC-47DD-87EB-6CF5971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6FDD-905B-477B-A9FB-967F7D1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3EEE-736C-44E1-9BA1-F2EAC009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7CE8-2681-4E6B-8761-0F473D11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A183-AB54-4E2B-BF01-D472348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FF7-4EC6-499D-964F-50D914EF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DFD1-8585-41D7-AFFF-024FB478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FC28-146D-49E7-B94E-02CFA7CE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7F38-CAF0-4329-8089-903F570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B06C-E48D-452A-8D43-D8CE425D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AE0-11F7-41AB-AEA6-472DB1DD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F62-0190-4436-ABE3-9BEB6125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2EF-8D71-4CDE-A065-CA747241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7D0-3D40-4FA7-8A8B-A23BE255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BB5-F39A-4B3E-A338-4FCB720A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4FD-2DBD-4FFC-AB8A-3684710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378-9785-48D4-AE06-7D62494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FCC-212E-4882-852E-8BA79FA4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B3F0-AC9F-4A88-8495-DC94D4BA7C1E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A4F-9768-4C94-BB77-A456DF84B643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0" y="620640"/>
            <a:ext cx="9144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onstantia"/>
              </a:rPr>
              <a:t>Отчет о реализации мини-проекта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onstantia"/>
              </a:rPr>
              <a:t>«Омская профессиональная сестринская ассоциация - лидер движения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onstantia"/>
              </a:rPr>
              <a:t>2009 – 2010 гг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34800" y="3429000"/>
            <a:ext cx="8809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Руководитель мини-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старшая медицинская сест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инфекционного отдел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МУЗ Нижнеомская ЦР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Кобзева С.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00000" y="5259240"/>
            <a:ext cx="82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Куратор мини-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Мамаева В.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60516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Координатор международного 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Зорина Т.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Индивидуальные беседы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7" name="Содержимое 5" descr="P3260378.JPG"/>
          <p:cNvPicPr/>
          <p:nvPr/>
        </p:nvPicPr>
        <p:blipFill>
          <a:blip r:embed="rId1"/>
          <a:stretch/>
        </p:blipFill>
        <p:spPr>
          <a:xfrm>
            <a:off x="571680" y="1643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6" descr="P3260380.JPG"/>
          <p:cNvPicPr/>
          <p:nvPr/>
        </p:nvPicPr>
        <p:blipFill>
          <a:blip r:embed="rId2"/>
          <a:stretch/>
        </p:blipFill>
        <p:spPr>
          <a:xfrm>
            <a:off x="4643280" y="30718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eeece1"/>
                </a:solidFill>
                <a:latin typeface="Arial"/>
              </a:rPr>
              <a:t>Д</a:t>
            </a:r>
            <a:r>
              <a:rPr b="1" lang="ru-RU" sz="7000" spc="-1" strike="noStrike">
                <a:solidFill>
                  <a:srgbClr val="eeece1"/>
                </a:solidFill>
                <a:latin typeface="Calibri"/>
              </a:rPr>
              <a:t>остижения</a:t>
            </a:r>
            <a:endParaRPr b="0" lang="en-US" sz="7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lnSpc>
                <a:spcPct val="90000"/>
              </a:lnSpc>
              <a:spcBef>
                <a:spcPts val="825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  <a:ea typeface="Arial"/>
              </a:rPr>
              <a:t>Повысилась информированность и активность сестринского персонала МУЗ Нижнеомская ЦРБ в деятельности ОПСА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542880" indent="-54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542880" indent="-542880">
              <a:lnSpc>
                <a:spcPct val="90000"/>
              </a:lnSpc>
              <a:spcBef>
                <a:spcPts val="825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  <a:ea typeface="Arial"/>
              </a:rPr>
              <a:t>Привлечено в члены ассоциации 5 человек : Сорокина Н.В., Бильдий М.И., Ланчинская О.И., Сосковец Н.А., Чмырь Д.А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46836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eeece1"/>
                </a:solidFill>
                <a:latin typeface="Arial"/>
              </a:rPr>
              <a:t>Благодарю за внимание!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Цель мини- проекта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99"/>
              </a:spcBef>
              <a:spcAft>
                <a:spcPts val="2001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сить информированность медицинских сестер  о деятельности ОПС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99"/>
              </a:spcBef>
              <a:spcAft>
                <a:spcPts val="2001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лидерских качеств у медицинских сестер МУЗ Нижнеомская ЦРБ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Задачи мини-проекта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информированность медицинских сестер о деятельности ОПС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йонный семинар «Лидерство в переговорах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лечь 1 человека в члены ассоциации, участвующего в семинаре «Лидерство в переговорах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общебольничную конференцию «Роль сестринской ассоциации в сестринском движени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ндивидуальные беседы с медицинскими сестрами не являющимися членами ОПС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375"/>
              </a:spcAft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ериод реализации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с 01 сентября 2009 год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о 01 мая 2010 год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Что удалось сделать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сти районный семинар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дготовить информацию о деятельности МСМ, РАМС, ОП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сти общебольничную сестринскую конференци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сти 12 индивидуальных бесе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влечь к членству 5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Мероприятия проведенные для достижения целей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9bbb5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 обучающий районный семинар «Лидерство в переговорах» с 16.09.09 по 25.11.09 г. Участвовало 24 челове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9bbb5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а   общебольничная   сестринская конференция «Роль сестринской ассоциации в сестринском движении». Присутствовало 69 челове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9bbb5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о 12 индивидуальных бесед с медицинскими сестрами о роли и значимости ОП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Участники </a:t>
            </a: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II</a:t>
            </a: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 районного семинара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0" name="Содержимое 3" descr="P3060233.JPG"/>
          <p:cNvPicPr/>
          <p:nvPr/>
        </p:nvPicPr>
        <p:blipFill>
          <a:blip r:embed="rId1"/>
          <a:stretch/>
        </p:blipFill>
        <p:spPr>
          <a:xfrm>
            <a:off x="1071720" y="128592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Рабочие моменты семинара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2" name="Содержимое 4" descr="P3060229.JPG"/>
          <p:cNvPicPr/>
          <p:nvPr/>
        </p:nvPicPr>
        <p:blipFill>
          <a:blip r:embed="rId1"/>
          <a:stretch/>
        </p:blipFill>
        <p:spPr>
          <a:xfrm>
            <a:off x="500040" y="19288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5" descr="P3060231.JPG"/>
          <p:cNvPicPr/>
          <p:nvPr/>
        </p:nvPicPr>
        <p:blipFill>
          <a:blip r:embed="rId2"/>
          <a:stretch/>
        </p:blipFill>
        <p:spPr>
          <a:xfrm>
            <a:off x="4737240" y="3284640"/>
            <a:ext cx="440676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eece1"/>
                </a:solidFill>
                <a:latin typeface="Calibri"/>
              </a:rPr>
              <a:t>Конференция «Роль сестринской ассоциации в сестринском движении»</a:t>
            </a:r>
            <a:endParaRPr b="0" lang="en-US" sz="38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5" name="Содержимое 3" descr="PB060045.JPG"/>
          <p:cNvPicPr/>
          <p:nvPr/>
        </p:nvPicPr>
        <p:blipFill>
          <a:blip r:embed="rId1"/>
          <a:stretch/>
        </p:blipFill>
        <p:spPr>
          <a:xfrm>
            <a:off x="1285920" y="1714680"/>
            <a:ext cx="6672240" cy="500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1:59:14Z</dcterms:created>
  <dc:creator>Admin</dc:creator>
  <dc:description/>
  <dc:language>en-US</dc:language>
  <cp:lastModifiedBy>ОПСА</cp:lastModifiedBy>
  <dcterms:modified xsi:type="dcterms:W3CDTF">2012-07-25T07:54:07Z</dcterms:modified>
  <cp:revision>25</cp:revision>
  <dc:subject/>
  <dc:title>Слайд 1</dc:title>
</cp:coreProperties>
</file>