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121A-B4CD-4E71-8C85-DC59945C23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9722-570A-41F6-8517-05090B0450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21CFB-F52C-4253-BD7D-7B78211B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F6857-C95F-4A00-88FC-4ADF61A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A12CD-890B-4D74-986A-91ABE59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CB0D-24F6-460F-861B-2B48E6C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060C7-1106-4581-AF81-C73F876C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479F1-2CBB-437B-B0DF-3072439A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9E5AF-C2E9-4AAE-B92B-7705DABC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8C540-01C7-4E3F-9DD5-617CF722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D9946-0F29-40CF-91B6-B87C8FA4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3665D-10D2-4A38-9BEE-D921C6B8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7F706-9C8C-481F-B410-554C5FF8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DDBAA-7D92-4CBE-AA4E-9198A947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A1FD6-4EB0-4D64-9F3C-31692222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88DC4-FC01-439D-A4C2-A08F4C3A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34681-7D6B-468B-9693-E790889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E13B5-CF6E-469A-93B0-427060AC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BD723-699F-4533-9666-8EE5D1AB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0021C-E970-4FF2-B293-5C47502C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2488B-C6E8-4650-9579-9BEF717A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523EC-4186-494E-9167-BA010144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BCB57-98C4-4CED-8415-478DCA72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FDE-EDF2-475C-BA24-743F4E00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45259-A88A-4157-ADA3-19825115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0C107-F03A-4678-B42F-EB5D08E5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D9EA3-945F-4CEC-A1C1-0836CF54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10CBA-E468-45F8-AD0A-C391700C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19461-7502-4B0D-8878-06A62EAE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9A33F-20AC-4CBE-89C3-92883E2F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E3BE1-C589-4424-B6EB-2F30C6E8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D89-E4D4-4956-8EAF-EBD9D9DF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779EC-70F8-4064-A5E6-08302F73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0C93D-B481-4AD2-B151-080F38A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905EB-DD81-41C6-B46B-5C3C54BF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0EF4B-1090-40CC-8E98-4A6D37AC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A7A61-2F0D-4C30-9F85-18DE69DA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AE613-53A5-419F-B1BC-9F5F6C05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8B5BD-BB32-4C3B-8A21-8224D188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65483-6ADE-4FBB-9C1B-1F7B1117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EEFCE-F1AA-4762-8811-77A36D3F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18E6D-47D3-4A7B-A452-12A7A3E0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E0D-D6C4-4420-BC3D-29ADBF95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67E6E-8939-4CB0-9E95-5C5F9014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CB2A9-805E-4890-9790-C8045B43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48874-87F9-4602-A480-C1D8FA1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6A45C-0F3A-460C-9D1A-D7059E5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1FAF0-4886-4129-840D-F2D3A7F6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B373A-515B-4C4C-BA15-DF91B501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8EAE5-7297-41D3-95EB-F98385A9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44E6F-E618-436D-ADA3-8C40E46D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37DFF-A94A-462E-8D53-44F5F5CA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196B8-1389-40BD-A0A3-A92A44A4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379-4F9C-47BB-A731-6A67D4EF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2A5CA-6407-4874-B060-E3B1339F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E5257-9EE3-4A6D-A82E-D1486CD5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A993D-D93C-4A38-88AA-6FA1AE31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8494D-EC1F-4125-88FB-82FDC26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F3B2E-61BF-425F-BD80-97C9062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9A521-166C-44D5-8556-594CB06F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47000-5532-4AF6-8545-58B372E8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B27FB-2DFC-4772-B4B3-8974F63B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F33BE-A548-44FA-AD8C-1CAEA5BC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84C5E-90CA-469A-B75C-9AE10D63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F07-B027-421F-945D-421683CC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1C3E9-E347-4EFC-9950-B644CA50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7FBC7-C65D-421C-A915-3DD027C6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C3663-8264-4620-B5A8-BDBAAAD4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36DC2-8512-4984-B532-FBE7DC81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B00AC-A442-4B9D-AC03-EEDA68E7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8E215-C290-49AD-95D2-458845FA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63A97-79A6-4753-AE31-D1EED1C4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5E467-657A-4C1A-BA9B-2F4E212E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35383-04F8-462B-BEE9-CA2971CA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227B0-EFDC-40D5-9DF2-E567469A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0CF-1FD8-432E-BC79-556720F6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C0F50-BFB5-4E29-9B0C-EACA1BD6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4A5CA-F714-41D3-B455-FC3D48C9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0152A-D664-4336-8A11-282B1ABB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42248-8975-4B3C-9C4B-EBD0C1C1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E4F2F-7A5D-492A-AE4F-FF6E9A34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ED181-4CBE-4B7A-BDF5-813D67DE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B8807-BD45-4870-92A3-74AEB49F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A3DD9-49C6-49BE-82AB-2E257A65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7E6E8-6AC9-4FEE-9725-2FF26D5A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D7BDD-3EA5-45B9-9F41-36E5D7B7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1E6-F091-4872-8E0B-A725462A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8F0FD-5B5B-4240-B212-5A5EDF6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BFA87-5146-4C9D-9081-7D18F44B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DAA6D-0858-4B52-A040-71ECBC66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D89-47E7-4491-9892-AAFDF00D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351-6B18-4E20-8E5D-647271C7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8CB-7453-4DF9-9F3F-3ADD2B24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A1B-3BE1-4F68-96C1-E3B1D659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454-FD0D-45AF-9815-796B51C7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F76A-1079-437A-865B-7609B0D6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2AD3-DE91-4399-BE6D-A2FB47CA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D247-DA72-46D4-B1BB-E61BE3AC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527D-238B-41F0-B2E8-2EE19AED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D592-AA83-4A3D-984C-930CB019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2BA8-1231-4408-B36E-98DB5786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77AF-9059-4127-BA3E-61ABEB94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5A49-50AC-4F02-A311-501E10F6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0E66-C0C6-4A07-9092-3EE2BFF9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042F-E704-4FA5-B2B3-49DE63A7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628C-227F-43BE-9867-572D1D2F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A1F2-6540-469C-A84C-FE7DBBCE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7C3A-7B5F-4905-824F-DD3B4268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B853-8805-44EE-AD2B-642F8023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314D-0762-40FF-9B56-9D631A23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AB00-4880-4E32-9319-6083F5BA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CF16-768B-4A09-B25F-697B5AB9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3D7A6-26D6-4B9E-802C-7A793335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5648-D2A3-4A52-ADF1-0B76E23D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900C-2630-4566-B7C4-D9BF3B9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C0F1-D1FD-4E79-9858-42E14EF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A901-4F20-47BC-84C5-5F2840EB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0639-B8A9-49EA-9143-59B55CBB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AD7F-14F5-4E13-9DE1-9F9A1A75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F32E-487E-4DCD-9726-398722B0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8220-CCC3-4F69-9C88-065D47B2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66A30-B77F-4F26-A3B4-AF9037A4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48422-445F-4C0F-A36A-1DF57221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48D11-514C-4B9A-BFD7-6C40CE9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7F986-D0CF-4B03-9221-E58D336C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993C-C698-4FFA-830B-F922520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FC11E-177A-40E1-9F7C-7761BC9A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249C8-B622-4765-9AD2-08827F18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CDD58-0989-4489-8CB8-8223F62B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3121-333B-4F2E-9A3D-DF0C8DFC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AD5B-F43C-44CD-8E6C-80B8BAED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5DFB5-4D44-4349-862B-FCE80390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1517C-0F78-4198-B61A-DD6ED921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31570-03EA-459F-BCB8-FDBF58A7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3870D-387D-4220-92DC-B5D659FA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CF607-B8FC-415A-8A7D-689D8809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7D75D-B460-4534-B88B-B7F171D7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0065E-0F7E-4800-8338-E76C95F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6CA6-8AD6-4AC8-979E-39222A92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3B126-9FB9-433F-BFB8-BF9F2AE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82F7A-E445-4E95-9D1C-78904D06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744D7-68FD-4043-B429-E3BF7176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08CE-92B5-4E8C-8DFF-33D56253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7D5BB-5951-4F72-A634-E0802443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DE0ED-3D51-4225-808A-4F5E192C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4FA97-9872-4015-94FF-46B660DE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96F37-9A33-40BE-B28D-B37AAFEA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A5FB-1B81-4AE9-8952-1D63C31F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B54F0-C290-419F-844E-668A9E19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58423-1B52-4834-8BF2-1577010E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1C972-9BE4-47C1-8413-3E30FD07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D9F9-55BC-450E-904E-0C075C63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1C20-DA97-4FF6-8D75-BED3E387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2E502-91EE-4334-AF7A-B2EC5580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772D0-DE47-4783-BB57-63655985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CC6B9-5677-4970-9D1A-EA5164BC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7B390-583B-41D0-B11D-D2CCE8A5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FDF8-8667-4ABB-8B16-E337DC41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2B831-DA17-4983-AEBA-9BA6B28F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8E7BC-E098-4E67-BFD2-12BECC5D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8E358-D918-4465-8249-BE3F5E93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B5764-2481-4268-88C7-E00DC82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11429-2242-45B5-82FD-AFCD1B19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E776F-AC7C-4ACD-84EB-17B2CAE2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6AC68-B7D3-4ECF-8D65-523A808C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2AF30-9723-4DC7-9E27-754FF387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FFDE2-0480-48BF-B964-BBC236F4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CC185-AF06-4458-83BD-E0A138B2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1D91-2E1C-400C-8C02-17F8842B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CF422-54C2-40F2-930B-9674E4FA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5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6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7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28B6-9F59-4BD8-A403-6F0D8A9B994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3" name="Diagonal Stripe 12"/>
          <p:cNvGrpSpPr/>
          <p:nvPr/>
        </p:nvGrpSpPr>
        <p:grpSpPr>
          <a:xfrm>
            <a:off x="463680" y="2372040"/>
            <a:ext cx="8454960" cy="864720"/>
            <a:chOff x="463680" y="2372040"/>
            <a:chExt cx="8454960" cy="864720"/>
          </a:xfrm>
        </p:grpSpPr>
        <p:pic>
          <p:nvPicPr>
            <p:cNvPr id="464" name="Diagonal Stripe 12" descr=""/>
            <p:cNvPicPr/>
            <p:nvPr/>
          </p:nvPicPr>
          <p:blipFill>
            <a:blip r:embed="rId6"/>
            <a:stretch/>
          </p:blipFill>
          <p:spPr>
            <a:xfrm>
              <a:off x="463680" y="2683800"/>
              <a:ext cx="8454960" cy="2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rot="21321000">
              <a:off x="2576160" y="2627280"/>
              <a:ext cx="6315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28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29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0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35F7-B91F-4650-9CD0-870A1C3BB07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31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ftr" idx="32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33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00F0-6263-43C1-8EDD-D7821B9641E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34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35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36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E133-531D-45EB-992F-44D37EE556E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37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38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39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2D2C-BADF-430E-975B-EF833654E9D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8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dt" idx="40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ftr" idx="41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sldNum" idx="42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C50-072E-4387-9DAD-EB233216B2F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Rectangle 25"/>
          <p:cNvGrpSpPr/>
          <p:nvPr/>
        </p:nvGrpSpPr>
        <p:grpSpPr>
          <a:xfrm>
            <a:off x="-55440" y="-55440"/>
            <a:ext cx="9248760" cy="6962760"/>
            <a:chOff x="-55440" y="-55440"/>
            <a:chExt cx="9248760" cy="6962760"/>
          </a:xfrm>
        </p:grpSpPr>
        <p:pic>
          <p:nvPicPr>
            <p:cNvPr id="48" name="Rectangle 25" descr=""/>
            <p:cNvPicPr/>
            <p:nvPr/>
          </p:nvPicPr>
          <p:blipFill>
            <a:blip r:embed="rId6"/>
            <a:stretch/>
          </p:blipFill>
          <p:spPr>
            <a:xfrm>
              <a:off x="-55440" y="-55440"/>
              <a:ext cx="9248760" cy="69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Diagonal Stripe 12"/>
          <p:cNvGrpSpPr/>
          <p:nvPr/>
        </p:nvGrpSpPr>
        <p:grpSpPr>
          <a:xfrm>
            <a:off x="463680" y="2372040"/>
            <a:ext cx="8454960" cy="864720"/>
            <a:chOff x="463680" y="2372040"/>
            <a:chExt cx="8454960" cy="864720"/>
          </a:xfrm>
        </p:grpSpPr>
        <p:pic>
          <p:nvPicPr>
            <p:cNvPr id="51" name="Diagonal Stripe 12" descr=""/>
            <p:cNvPicPr/>
            <p:nvPr/>
          </p:nvPicPr>
          <p:blipFill>
            <a:blip r:embed="rId7"/>
            <a:stretch/>
          </p:blipFill>
          <p:spPr>
            <a:xfrm>
              <a:off x="463680" y="2683800"/>
              <a:ext cx="8454960" cy="2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1321000">
              <a:off x="2576160" y="2627280"/>
              <a:ext cx="6315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2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3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036E-2244-4159-8D83-68CF8867910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8B0-47DD-4299-9B8D-E9C6DC31A1F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9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FB06-4617-4747-BD25-4B59D9141A6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1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2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218E-8758-4C15-8EC7-C3AA25A9004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3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4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5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BAFF-7D39-48BA-9314-A455E7B20E3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7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6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17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8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70F5-CFBC-466A-8A8E-FF964925747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1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Group 7"/>
          <p:cNvGrpSpPr/>
          <p:nvPr/>
        </p:nvGrpSpPr>
        <p:grpSpPr>
          <a:xfrm>
            <a:off x="4468680" y="304920"/>
            <a:ext cx="3976920" cy="5638680"/>
            <a:chOff x="4468680" y="304920"/>
            <a:chExt cx="3976920" cy="5638680"/>
          </a:xfrm>
        </p:grpSpPr>
        <p:pic>
          <p:nvPicPr>
            <p:cNvPr id="324" name="Rectangle 8" descr=""/>
            <p:cNvPicPr/>
            <p:nvPr/>
          </p:nvPicPr>
          <p:blipFill>
            <a:blip r:embed="rId6"/>
            <a:stretch/>
          </p:blipFill>
          <p:spPr>
            <a:xfrm>
              <a:off x="4468680" y="304920"/>
              <a:ext cx="3976920" cy="1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Rectangle 9" descr=""/>
            <p:cNvPicPr/>
            <p:nvPr/>
          </p:nvPicPr>
          <p:blipFill>
            <a:blip r:embed="rId7"/>
            <a:stretch/>
          </p:blipFill>
          <p:spPr>
            <a:xfrm>
              <a:off x="4468680" y="5792040"/>
              <a:ext cx="3976920" cy="1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Rectangle 10" descr=""/>
            <p:cNvPicPr/>
            <p:nvPr/>
          </p:nvPicPr>
          <p:blipFill>
            <a:blip r:embed="rId8"/>
            <a:stretch/>
          </p:blipFill>
          <p:spPr>
            <a:xfrm>
              <a:off x="8354880" y="304920"/>
              <a:ext cx="90720" cy="56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Rectangle 11" descr=""/>
            <p:cNvPicPr/>
            <p:nvPr/>
          </p:nvPicPr>
          <p:blipFill>
            <a:blip r:embed="rId9"/>
            <a:stretch/>
          </p:blipFill>
          <p:spPr>
            <a:xfrm>
              <a:off x="4468680" y="304920"/>
              <a:ext cx="96840" cy="563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9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0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1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63E6-B66B-400C-AC1E-2DB2DEF8061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6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2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3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4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91A-CEC3-469F-AF85-D92784EBBBE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5"/>
          <p:cNvSpPr/>
          <p:nvPr/>
        </p:nvSpPr>
        <p:spPr>
          <a:xfrm>
            <a:off x="0" y="115920"/>
            <a:ext cx="9144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тчет                                                 о реализации мини-проект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 единстве – наша сила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009 – 2010 г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324000" y="3357720"/>
            <a:ext cx="880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Руководитель мини-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Рипп С.Э., старшая медицинская сестр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оликлиники МУЗ «ЦРБ Полтавского район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900000" y="4653000"/>
            <a:ext cx="82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Куратор мини-проект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Тарасенко Н.Н., главная медицинская сестр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МУЗ «ЦРБ Полтавского район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900000" y="605160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Координатор международного проект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Зорина Т.А., президент ОП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34920" y="638172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5.05.2010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Содержимое 2" descr=""/>
          <p:cNvPicPr/>
          <p:nvPr/>
        </p:nvPicPr>
        <p:blipFill>
          <a:blip r:embed="rId1"/>
          <a:stretch/>
        </p:blipFill>
        <p:spPr>
          <a:xfrm>
            <a:off x="1255680" y="36360"/>
            <a:ext cx="6705720" cy="804960"/>
          </a:xfrm>
          <a:prstGeom prst="rect">
            <a:avLst/>
          </a:prstGeom>
          <a:ln w="0">
            <a:noFill/>
          </a:ln>
        </p:spPr>
      </p:pic>
      <p:sp>
        <p:nvSpPr>
          <p:cNvPr id="742" name="Содержимое 2"/>
          <p:cNvSpPr/>
          <p:nvPr/>
        </p:nvSpPr>
        <p:spPr>
          <a:xfrm>
            <a:off x="34920" y="1428840"/>
            <a:ext cx="878508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Достичь более высокой и полной информированности о работе ОПСА и Совета по сестринскому делу ЦРБ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Содержимое 2"/>
          <p:cNvSpPr/>
          <p:nvPr/>
        </p:nvSpPr>
        <p:spPr>
          <a:xfrm>
            <a:off x="0" y="4508640"/>
            <a:ext cx="87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величить численность членов Ассоциации на 7 челове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Содержимое 1" descr=""/>
          <p:cNvPicPr/>
          <p:nvPr/>
        </p:nvPicPr>
        <p:blipFill>
          <a:blip r:embed="rId1"/>
          <a:stretch/>
        </p:blipFill>
        <p:spPr>
          <a:xfrm>
            <a:off x="536400" y="219240"/>
            <a:ext cx="8114040" cy="768240"/>
          </a:xfrm>
          <a:prstGeom prst="rect">
            <a:avLst/>
          </a:prstGeom>
          <a:ln w="0">
            <a:noFill/>
          </a:ln>
        </p:spPr>
      </p:pic>
      <p:sp>
        <p:nvSpPr>
          <p:cNvPr id="745" name="Содержимое 1"/>
          <p:cNvSpPr/>
          <p:nvPr/>
        </p:nvSpPr>
        <p:spPr>
          <a:xfrm>
            <a:off x="0" y="1714680"/>
            <a:ext cx="8964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вести разъяснительную работу среди сестринского персонала ЦРБ, ФАПов, сельских амбулаторий о деятельности ОПСА и Совета по сестринскому де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Содержимое 1"/>
          <p:cNvSpPr/>
          <p:nvPr/>
        </p:nvSpPr>
        <p:spPr>
          <a:xfrm>
            <a:off x="0" y="4941720"/>
            <a:ext cx="867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Содержимое 1" descr=""/>
          <p:cNvPicPr/>
          <p:nvPr/>
        </p:nvPicPr>
        <p:blipFill>
          <a:blip r:embed="rId1"/>
          <a:stretch/>
        </p:blipFill>
        <p:spPr>
          <a:xfrm>
            <a:off x="244440" y="1225440"/>
            <a:ext cx="8240760" cy="841320"/>
          </a:xfrm>
          <a:prstGeom prst="rect">
            <a:avLst/>
          </a:prstGeom>
          <a:ln w="0">
            <a:noFill/>
          </a:ln>
        </p:spPr>
      </p:pic>
      <p:sp>
        <p:nvSpPr>
          <p:cNvPr id="748" name="Содержимое 1"/>
          <p:cNvSpPr/>
          <p:nvPr/>
        </p:nvSpPr>
        <p:spPr>
          <a:xfrm>
            <a:off x="395280" y="3571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01.09.2009 г.  -  01.04.2010 г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Содержимое 1" descr=""/>
          <p:cNvPicPr/>
          <p:nvPr/>
        </p:nvPicPr>
        <p:blipFill>
          <a:blip r:embed="rId1"/>
          <a:stretch/>
        </p:blipFill>
        <p:spPr>
          <a:xfrm>
            <a:off x="317520" y="-255600"/>
            <a:ext cx="8240760" cy="809640"/>
          </a:xfrm>
          <a:prstGeom prst="rect">
            <a:avLst/>
          </a:prstGeom>
          <a:ln w="0">
            <a:noFill/>
          </a:ln>
        </p:spPr>
      </p:pic>
      <p:sp>
        <p:nvSpPr>
          <p:cNvPr id="750" name="Содержимое 1"/>
          <p:cNvSpPr/>
          <p:nvPr/>
        </p:nvSpPr>
        <p:spPr>
          <a:xfrm>
            <a:off x="108000" y="571680"/>
            <a:ext cx="9036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Получена поддержка главного врача в реализации мини-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Содержимое 1"/>
          <p:cNvSpPr/>
          <p:nvPr/>
        </p:nvSpPr>
        <p:spPr>
          <a:xfrm>
            <a:off x="0" y="2276640"/>
            <a:ext cx="9144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Содержимое 1"/>
          <p:cNvSpPr/>
          <p:nvPr/>
        </p:nvSpPr>
        <p:spPr>
          <a:xfrm>
            <a:off x="0" y="1571760"/>
            <a:ext cx="89647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П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ведены семинарские занятия по 16,5 часовой программе «Лидерство в переговорах» с 15.09.09 г. По 15.12.09 г.  Обучение прошли 24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Содержимое 1"/>
          <p:cNvSpPr/>
          <p:nvPr/>
        </p:nvSpPr>
        <p:spPr>
          <a:xfrm>
            <a:off x="0" y="6072120"/>
            <a:ext cx="8964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влечено 7 членов  в  ОП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7" descr="D:\Моя\Фотоальбом\Albums\ПОЛТАВКА\ровмлоурп.JPG"/>
          <p:cNvPicPr/>
          <p:nvPr/>
        </p:nvPicPr>
        <p:blipFill>
          <a:blip r:embed="rId2"/>
          <a:stretch/>
        </p:blipFill>
        <p:spPr>
          <a:xfrm>
            <a:off x="1785960" y="3429000"/>
            <a:ext cx="546408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Содержимое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993960"/>
          </a:xfrm>
          <a:prstGeom prst="rect">
            <a:avLst/>
          </a:prstGeom>
          <a:ln w="0">
            <a:noFill/>
          </a:ln>
        </p:spPr>
      </p:pic>
      <p:sp>
        <p:nvSpPr>
          <p:cNvPr id="756" name="Содержимое 1"/>
          <p:cNvSpPr/>
          <p:nvPr/>
        </p:nvSpPr>
        <p:spPr>
          <a:xfrm>
            <a:off x="2268360" y="1413000"/>
            <a:ext cx="669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дена фельдшерская конференция по итога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егионального семинара «Лидерство в переговорах 03.09.2009г., присутствовало – 28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Содержимое 1"/>
          <p:cNvSpPr/>
          <p:nvPr/>
        </p:nvSpPr>
        <p:spPr>
          <a:xfrm>
            <a:off x="2303640" y="3357720"/>
            <a:ext cx="6840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дено  9  индивидуальных  бесед с медицинским персона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уществлено  5  выездов Совета по сестринскому делу в сельские амбулатории, ФА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Рисунок 10" descr="P4242018.JPG"/>
          <p:cNvPicPr/>
          <p:nvPr/>
        </p:nvPicPr>
        <p:blipFill>
          <a:blip r:embed="rId2"/>
          <a:stretch/>
        </p:blipFill>
        <p:spPr>
          <a:xfrm>
            <a:off x="142920" y="1357200"/>
            <a:ext cx="2143080" cy="1714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59" name="Рисунок 11" descr="IMG_0565.jpg"/>
          <p:cNvPicPr/>
          <p:nvPr/>
        </p:nvPicPr>
        <p:blipFill>
          <a:blip r:embed="rId3"/>
          <a:stretch/>
        </p:blipFill>
        <p:spPr>
          <a:xfrm>
            <a:off x="142920" y="3357720"/>
            <a:ext cx="2143080" cy="1571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60" name="Рисунок 12" descr="Изображение 334.jpg"/>
          <p:cNvPicPr/>
          <p:nvPr/>
        </p:nvPicPr>
        <p:blipFill>
          <a:blip r:embed="rId4"/>
          <a:stretch/>
        </p:blipFill>
        <p:spPr>
          <a:xfrm>
            <a:off x="142920" y="5143680"/>
            <a:ext cx="2143080" cy="1571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Содержимое 1" descr=""/>
          <p:cNvPicPr/>
          <p:nvPr/>
        </p:nvPicPr>
        <p:blipFill>
          <a:blip r:embed="rId1"/>
          <a:stretch/>
        </p:blipFill>
        <p:spPr>
          <a:xfrm>
            <a:off x="244440" y="0"/>
            <a:ext cx="8240760" cy="914400"/>
          </a:xfrm>
          <a:prstGeom prst="rect">
            <a:avLst/>
          </a:prstGeom>
          <a:ln w="0">
            <a:noFill/>
          </a:ln>
        </p:spPr>
      </p:pic>
      <p:sp>
        <p:nvSpPr>
          <p:cNvPr id="762" name="Содержимое 1"/>
          <p:cNvSpPr/>
          <p:nvPr/>
        </p:nvSpPr>
        <p:spPr>
          <a:xfrm>
            <a:off x="34920" y="1411200"/>
            <a:ext cx="9109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Содержимое 1"/>
          <p:cNvSpPr/>
          <p:nvPr/>
        </p:nvSpPr>
        <p:spPr>
          <a:xfrm>
            <a:off x="0" y="1857240"/>
            <a:ext cx="88930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Увеличилось количество членов Омской профессиональной сестринской ассоциации МУЗ «ЦРБ Полтавского района» на 7 человек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Содержимое 1"/>
          <p:cNvSpPr/>
          <p:nvPr/>
        </p:nvSpPr>
        <p:spPr>
          <a:xfrm>
            <a:off x="374760" y="177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8000" spc="-1" strike="noStrike">
                <a:solidFill>
                  <a:srgbClr val="ffffff"/>
                </a:solidFill>
                <a:latin typeface="Arial"/>
              </a:rPr>
              <a:t>Благодарю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4:35:55Z</dcterms:created>
  <dc:creator>Олег</dc:creator>
  <dc:description/>
  <dc:language>en-US</dc:language>
  <cp:lastModifiedBy>ОПСА</cp:lastModifiedBy>
  <dcterms:modified xsi:type="dcterms:W3CDTF">2012-07-25T07:54:34Z</dcterms:modified>
  <cp:revision>128</cp:revision>
  <dc:subject/>
  <dc:title>ОТЧЁТ  О РЕАЛИЗАЦИИ МИНИ – ПРОЕКТА УЧАСТНИКА ПРОЕКТА « ЛИДЕРСТВО В ПЕРЕГОВОРАХ»</dc:title>
</cp:coreProperties>
</file>