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3F6-5F25-464A-9618-602B1CCA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4D9-0330-45BB-AC46-E67DCD84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359-A97B-42D7-8C9A-F69AD934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8A1-000D-4097-BAA2-5701DC59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9DAA-18EC-44F5-ABEF-DE2F2E50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4F54-7940-4A40-AEC1-A2CF1357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C8A2-1946-4B2A-84C6-C27C8A86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6C34-FFFA-4818-AAAF-7F27A289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84BD-DED9-4509-86A1-A71BCED7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9709-C167-488D-9B44-4C72A0B3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C27D-3F0D-4287-8594-FDB415B2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D88-B990-4F9F-9BF3-8065D873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8CCA-8AD4-4704-A003-27972550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ED18-874B-4B8C-A9AD-8EB96A33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BDAA-8C27-45B1-9464-60A0E429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7707-DA74-466D-93EE-2C9AF7DF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5C68-7227-4271-91C4-5E550F86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B262-ED06-4723-976F-F343E797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878E-D541-45C0-9330-FEF3585E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D6580-6FE5-4C35-AAA6-AD8F29AA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B7E5B-0DFA-4D00-9838-05C767AE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CEBE-040A-485C-B1AB-70D6F533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EF7-14AE-4E03-924F-1A783581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054AD-95A0-4D9D-A210-326587A2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A3C8F-971C-49AD-B227-D6E6E202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85B80-4F50-47D0-BA71-E13AE596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6B339-D156-4064-B1FA-F1BF7139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3F633-11C6-46F5-88BC-649DEBF4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686BD-EC93-4074-A07C-907EA5D5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8890-C6DA-4B6A-8D99-9526C8F0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09831-E2CC-4640-ABFE-632373E9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6D1C2-605D-424F-B1C6-75FDF261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DE564-973E-4F8E-B2FD-DFD41619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D83-0C29-4DB7-997C-6C06A9C1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BC982-BFB1-4CB1-9E12-F7966772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59D28-573A-4429-AA82-124E03C0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1FF2E-0943-4F76-B5EF-2913E96A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284C2-39E0-462B-A363-0C19B9E7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A9477-21BB-4282-A5F3-69A7ADD9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76906-E6A7-49A7-98E1-C9A1DDB2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BF4A8-CA32-4A90-ABB9-482171BD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444F1-95E9-4807-911B-B0F777BF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6F426-CB8F-49CF-8206-A5224958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B16-D32B-40AE-A866-80424D65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F02-D952-4679-BEC2-6BFBF396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F70-33EA-43A2-AA53-0EDECA93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7EE-2D60-4E9F-8118-03FF04A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935-BACA-4F84-8FC9-E8C6AACC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F801-BB28-4538-B0B4-0AAC76FFEBF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B3DD-DBE2-4ED8-B4EA-A6EF4F9234D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60A1-5905-4D37-84ED-3660C8F8EAD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E5D0-E9FE-4E03-8742-1113FBF485B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я\Desktop\2219_example.jpg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2"/>
          <p:cNvSpPr/>
          <p:nvPr/>
        </p:nvSpPr>
        <p:spPr>
          <a:xfrm>
            <a:off x="4286160" y="2928960"/>
            <a:ext cx="392904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Заголовок 1"/>
          <p:cNvSpPr/>
          <p:nvPr/>
        </p:nvSpPr>
        <p:spPr>
          <a:xfrm>
            <a:off x="498600" y="2205000"/>
            <a:ext cx="85010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нижение риска возникновения пролежней у тяжелобольных пациентов с помощью сестринских вмешательств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дзаголовок 2"/>
          <p:cNvSpPr/>
          <p:nvPr/>
        </p:nvSpPr>
        <p:spPr>
          <a:xfrm>
            <a:off x="392040" y="5670720"/>
            <a:ext cx="8715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Ященко М.А. медицинская сестра-исследовате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таршая медицинская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лопроктологического отделения БУЗОО «ОКБ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36360" y="246240"/>
            <a:ext cx="91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проект Омской профессиональной сестринской  ассоц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Исследования в сестринском деле 2013 – 2014 г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Объект 2"/>
          <p:cNvGraphicFramePr/>
          <p:nvPr/>
        </p:nvGraphicFramePr>
        <p:xfrm>
          <a:off x="250920" y="1628640"/>
          <a:ext cx="8618400" cy="45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861840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Заголовок 1"/>
          <p:cNvSpPr/>
          <p:nvPr/>
        </p:nvSpPr>
        <p:spPr>
          <a:xfrm>
            <a:off x="457200" y="461880"/>
            <a:ext cx="84358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Результаты инновацион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етода ух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Объект 2" descr=""/>
          <p:cNvPicPr/>
          <p:nvPr/>
        </p:nvPicPr>
        <p:blipFill>
          <a:blip r:embed="rId1"/>
          <a:stretch/>
        </p:blipFill>
        <p:spPr>
          <a:xfrm>
            <a:off x="200160" y="498600"/>
            <a:ext cx="8815320" cy="60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Трудозатраты персонала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по уходу за пациентами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6" name="Объект 4" descr=""/>
          <p:cNvPicPr/>
          <p:nvPr/>
        </p:nvPicPr>
        <p:blipFill>
          <a:blip r:embed="rId1"/>
          <a:stretch/>
        </p:blipFill>
        <p:spPr>
          <a:xfrm>
            <a:off x="128520" y="1433520"/>
            <a:ext cx="8836200" cy="5214960"/>
          </a:xfrm>
          <a:prstGeom prst="rect">
            <a:avLst/>
          </a:prstGeom>
          <a:ln w="0">
            <a:noFill/>
          </a:ln>
        </p:spPr>
      </p:pic>
      <p:sp>
        <p:nvSpPr>
          <p:cNvPr id="287" name="TextBox 5"/>
          <p:cNvSpPr/>
          <p:nvPr/>
        </p:nvSpPr>
        <p:spPr>
          <a:xfrm>
            <a:off x="1258920" y="26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9,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4716360" y="15876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8,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9"/>
          <p:cNvSpPr/>
          <p:nvPr/>
        </p:nvSpPr>
        <p:spPr>
          <a:xfrm>
            <a:off x="3635280" y="300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7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2355840" y="17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8,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Привлечение дополнительных ресурсов в уходе за пациентам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2" name="Объект 2" descr=""/>
          <p:cNvPicPr/>
          <p:nvPr/>
        </p:nvPicPr>
        <p:blipFill>
          <a:blip r:embed="rId1"/>
          <a:stretch/>
        </p:blipFill>
        <p:spPr>
          <a:xfrm>
            <a:off x="57240" y="1666800"/>
            <a:ext cx="8958240" cy="52135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3"/>
          <p:cNvSpPr/>
          <p:nvPr/>
        </p:nvSpPr>
        <p:spPr>
          <a:xfrm>
            <a:off x="1835280" y="321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0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7308720" y="19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3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9"/>
          <p:cNvSpPr/>
          <p:nvPr/>
        </p:nvSpPr>
        <p:spPr>
          <a:xfrm>
            <a:off x="6227640" y="25272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8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0"/>
          <p:cNvSpPr/>
          <p:nvPr/>
        </p:nvSpPr>
        <p:spPr>
          <a:xfrm>
            <a:off x="5003640" y="19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3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1"/>
          <p:cNvSpPr/>
          <p:nvPr/>
        </p:nvSpPr>
        <p:spPr>
          <a:xfrm>
            <a:off x="3995640" y="270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8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2"/>
          <p:cNvSpPr/>
          <p:nvPr/>
        </p:nvSpPr>
        <p:spPr>
          <a:xfrm>
            <a:off x="2852640" y="19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3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Вывод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08000" y="1213920"/>
            <a:ext cx="8856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линические проявления обездвиженности пациентов сопровождаются трофическими изменениями кожи с формированием пролежней. Сопутствующий диабет усугубляет трофические нарушения и повышает риск развития пролежней в 2 раза. Проведение противопролежневых инновационных мероприятий в 3 раза сокращают риск развития пролежн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4160" indent="-4341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ение противопролежневых инновационных технологий у пациентов с ограничением двигательной активности в 1.8 раза эффективнее обычных средств ухода и позволяет улучшить качество жизни пациент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4160" indent="-4341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ение инновационных технологий снижает трудозатраты по уходу на 11 минут 13 секунд за один сеанс и сокращаются в 4 раза. Нагрузка на медицинский персонал снижается в 2,5 раз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4160" indent="-4341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недрение в практику  программы «Правильный уход за тяжелобольным пациентом» используемой в школе здоровья позволило повысить качество ухода, снизить трудозатраты по уходу и улучшить качество жизни пациент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20840" y="1779480"/>
            <a:ext cx="82422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58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ктуальность те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Объект 3" descr=""/>
          <p:cNvPicPr/>
          <p:nvPr/>
        </p:nvPicPr>
        <p:blipFill>
          <a:blip r:embed="rId1"/>
          <a:stretch/>
        </p:blipFill>
        <p:spPr>
          <a:xfrm>
            <a:off x="128520" y="1290600"/>
            <a:ext cx="8958240" cy="52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Цель исследов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добиться снижение риска возникновения пролежней у   пациентов путем внедрения и практического применения нового комплекса мероприятий профилактики пролежней с использованием лечебно-профилактической профессиональной косметики и повысить уровень качества жизни пациент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чи исследования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50560" y="162864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учить клинические проявления кожных покровов у пациентов с ограничением двигательной активности при проведении различных видов противопролежневых мероприятий и в том числе на фоне течения  диабет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ценить трудозатраты медицинского персонала по уходу за пациентами с ограничением двигательной активности при применении отраслевого стандарта «Протокол ведения больных. Пролежни» и инновационных технолог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вести сравнительную оценку используемых технолог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птимизировать программу « Правильный уход за тяжелобольным пациентом» и внедрить ее в практик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608040" y="2828880"/>
            <a:ext cx="144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Ященко М.А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Старшая медсестра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отд. колопротологии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исследовате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"/>
          <p:cNvPicPr/>
          <p:nvPr/>
        </p:nvPicPr>
        <p:blipFill>
          <a:blip r:embed="rId1">
            <a:lum contrast="14000"/>
          </a:blip>
          <a:srcRect l="-1086" t="238" r="3064" b="0"/>
          <a:stretch/>
        </p:blipFill>
        <p:spPr>
          <a:xfrm>
            <a:off x="608040" y="1100160"/>
            <a:ext cx="1442880" cy="1701720"/>
          </a:xfrm>
          <a:prstGeom prst="rect">
            <a:avLst/>
          </a:prstGeom>
          <a:ln w="41400">
            <a:solidFill>
              <a:srgbClr val="002060"/>
            </a:solidFill>
            <a:miter/>
          </a:ln>
        </p:spPr>
      </p:pic>
      <p:pic>
        <p:nvPicPr>
          <p:cNvPr id="208" name="Рисунок 3" descr=""/>
          <p:cNvPicPr/>
          <p:nvPr/>
        </p:nvPicPr>
        <p:blipFill>
          <a:blip r:embed="rId2"/>
          <a:stretch/>
        </p:blipFill>
        <p:spPr>
          <a:xfrm>
            <a:off x="7159680" y="1114560"/>
            <a:ext cx="1219320" cy="1523880"/>
          </a:xfrm>
          <a:prstGeom prst="rect">
            <a:avLst/>
          </a:prstGeom>
          <a:ln w="41400">
            <a:solidFill>
              <a:srgbClr val="002060"/>
            </a:solidFill>
            <a:miter/>
          </a:ln>
        </p:spPr>
      </p:pic>
      <p:pic>
        <p:nvPicPr>
          <p:cNvPr id="209" name="Picture 28" descr=""/>
          <p:cNvPicPr/>
          <p:nvPr/>
        </p:nvPicPr>
        <p:blipFill>
          <a:blip r:embed="rId3"/>
          <a:stretch/>
        </p:blipFill>
        <p:spPr>
          <a:xfrm>
            <a:off x="3776760" y="3705120"/>
            <a:ext cx="1371600" cy="1600200"/>
          </a:xfrm>
          <a:prstGeom prst="rect">
            <a:avLst/>
          </a:prstGeom>
          <a:ln w="41400">
            <a:solidFill>
              <a:srgbClr val="002060"/>
            </a:solidFill>
            <a:miter/>
          </a:ln>
        </p:spPr>
      </p:pic>
      <p:pic>
        <p:nvPicPr>
          <p:cNvPr id="210" name="Picture 27" descr=""/>
          <p:cNvPicPr/>
          <p:nvPr/>
        </p:nvPicPr>
        <p:blipFill>
          <a:blip r:embed="rId4"/>
          <a:srcRect l="15752" t="10493" r="15752" b="0"/>
          <a:stretch/>
        </p:blipFill>
        <p:spPr>
          <a:xfrm>
            <a:off x="1895400" y="3738600"/>
            <a:ext cx="1524240" cy="1600200"/>
          </a:xfrm>
          <a:prstGeom prst="rect">
            <a:avLst/>
          </a:prstGeom>
          <a:ln w="41400">
            <a:solidFill>
              <a:srgbClr val="002060"/>
            </a:solidFill>
            <a:miter/>
          </a:ln>
        </p:spPr>
      </p:pic>
      <p:pic>
        <p:nvPicPr>
          <p:cNvPr id="211" name="Picture 29" descr=""/>
          <p:cNvPicPr/>
          <p:nvPr/>
        </p:nvPicPr>
        <p:blipFill>
          <a:blip r:embed="rId5"/>
          <a:stretch/>
        </p:blipFill>
        <p:spPr>
          <a:xfrm>
            <a:off x="271440" y="3871800"/>
            <a:ext cx="1295280" cy="1600200"/>
          </a:xfrm>
          <a:prstGeom prst="rect">
            <a:avLst/>
          </a:prstGeom>
          <a:ln w="41400">
            <a:solidFill>
              <a:srgbClr val="002060"/>
            </a:solidFill>
            <a:miter/>
          </a:ln>
        </p:spPr>
      </p:pic>
      <p:pic>
        <p:nvPicPr>
          <p:cNvPr id="212" name="Picture 30" descr=""/>
          <p:cNvPicPr/>
          <p:nvPr/>
        </p:nvPicPr>
        <p:blipFill>
          <a:blip r:embed="rId6"/>
          <a:stretch/>
        </p:blipFill>
        <p:spPr>
          <a:xfrm>
            <a:off x="2816280" y="1114560"/>
            <a:ext cx="1295280" cy="1600200"/>
          </a:xfrm>
          <a:prstGeom prst="rect">
            <a:avLst/>
          </a:prstGeom>
          <a:ln w="41400">
            <a:solidFill>
              <a:srgbClr val="002060"/>
            </a:solidFill>
            <a:miter/>
          </a:ln>
        </p:spPr>
      </p:pic>
      <p:pic>
        <p:nvPicPr>
          <p:cNvPr id="213" name="Picture 32" descr=""/>
          <p:cNvPicPr/>
          <p:nvPr/>
        </p:nvPicPr>
        <p:blipFill>
          <a:blip r:embed="rId7"/>
          <a:stretch/>
        </p:blipFill>
        <p:spPr>
          <a:xfrm>
            <a:off x="7210440" y="3743280"/>
            <a:ext cx="1393920" cy="1684440"/>
          </a:xfrm>
          <a:prstGeom prst="rect">
            <a:avLst/>
          </a:prstGeom>
          <a:ln w="41400">
            <a:solidFill>
              <a:srgbClr val="002060"/>
            </a:solidFill>
            <a:miter/>
          </a:ln>
        </p:spPr>
      </p:pic>
      <p:pic>
        <p:nvPicPr>
          <p:cNvPr id="214" name="Picture 33" descr=""/>
          <p:cNvPicPr/>
          <p:nvPr/>
        </p:nvPicPr>
        <p:blipFill>
          <a:blip r:embed="rId8"/>
          <a:srcRect l="0" t="0" r="0" b="12273"/>
          <a:stretch/>
        </p:blipFill>
        <p:spPr>
          <a:xfrm>
            <a:off x="5605560" y="3705120"/>
            <a:ext cx="1295280" cy="1600200"/>
          </a:xfrm>
          <a:prstGeom prst="rect">
            <a:avLst/>
          </a:prstGeom>
          <a:ln w="41400">
            <a:solidFill>
              <a:srgbClr val="002060"/>
            </a:solidFill>
            <a:miter/>
          </a:ln>
        </p:spPr>
      </p:pic>
      <p:sp>
        <p:nvSpPr>
          <p:cNvPr id="215" name="Rectangle 4"/>
          <p:cNvSpPr/>
          <p:nvPr/>
        </p:nvSpPr>
        <p:spPr>
          <a:xfrm>
            <a:off x="468360" y="31104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Georgia"/>
              </a:rPr>
              <a:t>Исследовательская кома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6778800" y="2790720"/>
            <a:ext cx="2133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Гаврик Е.А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Старшая медсестра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неврологического отд.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для больных с ОНМК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координат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5332320" y="5425920"/>
            <a:ext cx="22100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Филиппова Н. А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медсестра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отд.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колопроктологии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специалист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по вводу да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7210440" y="5533920"/>
            <a:ext cx="18288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Малашева А.Д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медсестра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отд.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колопроктологии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специалист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 по анализу да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22320" y="5533920"/>
            <a:ext cx="20286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Абрамова О.В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медсестра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неврологического 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отд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для больных с ОНМК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специалист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по сбору да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319560" y="5533920"/>
            <a:ext cx="24764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Бармотина Е.П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медсестра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неврологического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 отд. для больных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ОНМК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специалист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по сбору данных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806480" y="559908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Салтанова К.А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медсестра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отд.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Нейрохирургии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специалист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по сбору данных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511360" y="2790720"/>
            <a:ext cx="190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Моисеева Т.Ф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Главная медсестра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БУЗОО «ОКБ»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Курат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5" descr=""/>
          <p:cNvPicPr/>
          <p:nvPr/>
        </p:nvPicPr>
        <p:blipFill>
          <a:blip r:embed="rId9"/>
          <a:stretch/>
        </p:blipFill>
        <p:spPr>
          <a:xfrm>
            <a:off x="5102280" y="1114560"/>
            <a:ext cx="1289160" cy="1523880"/>
          </a:xfrm>
          <a:prstGeom prst="rect">
            <a:avLst/>
          </a:prstGeom>
          <a:ln w="41400">
            <a:solidFill>
              <a:srgbClr val="002060"/>
            </a:solidFill>
            <a:miter/>
          </a:ln>
        </p:spPr>
      </p:pic>
      <p:sp>
        <p:nvSpPr>
          <p:cNvPr id="224" name="Rectangle 4"/>
          <p:cNvSpPr/>
          <p:nvPr/>
        </p:nvSpPr>
        <p:spPr>
          <a:xfrm>
            <a:off x="4645080" y="2735280"/>
            <a:ext cx="2209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Ларькин В.И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д.м.н.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зав. кафедрой неврологии и нейрохирургии </a:t>
            </a:r>
            <a:br>
              <a:rPr sz="1000"/>
            </a:br>
            <a:r>
              <a:rPr b="1" lang="ru-RU" sz="1000" spc="-1" strike="noStrike">
                <a:solidFill>
                  <a:srgbClr val="002060"/>
                </a:solidFill>
                <a:latin typeface="Calibri"/>
              </a:rPr>
              <a:t>рецензен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Размер выборки категории пациентов для исследования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0920" y="1989000"/>
          <a:ext cx="5761080" cy="4467240"/>
        </p:xfrm>
        <a:graphic>
          <a:graphicData uri="http://schemas.openxmlformats.org/drawingml/2006/table">
            <a:tbl>
              <a:tblPr/>
              <a:tblGrid>
                <a:gridCol w="960480"/>
                <a:gridCol w="958680"/>
                <a:gridCol w="960480"/>
                <a:gridCol w="960480"/>
                <a:gridCol w="958680"/>
                <a:gridCol w="962280"/>
              </a:tblGrid>
              <a:tr h="701640">
                <a:tc gridSpan="6">
                  <a:txBody>
                    <a:bodyPr anchor="t">
                      <a:noAutofit/>
                    </a:bodyPr>
                    <a:p>
                      <a:pPr marL="88920" indent="-88920" algn="ctr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пролеченных пациентов по возраст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-4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-50 л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-60 л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-70 л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-80 л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-90 л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5760"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5760">
                <a:tc gridSpan="6">
                  <a:txBody>
                    <a:bodyPr anchor="t">
                      <a:noAutofit/>
                    </a:bodyPr>
                    <a:p>
                      <a:pPr marL="88920" indent="-88920" algn="ctr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умерших пациентов по возраст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840"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90560">
                <a:tc gridSpan="6">
                  <a:txBody>
                    <a:bodyPr anchor="t">
                      <a:noAutofit/>
                    </a:bodyPr>
                    <a:p>
                      <a:pPr marL="88920" indent="-88920" algn="ctr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цент умерших на количество пролеченных паци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3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27" name="Схема 3" descr=""/>
          <p:cNvPicPr/>
          <p:nvPr/>
        </p:nvPicPr>
        <p:blipFill>
          <a:blip r:embed="rId1"/>
          <a:stretch/>
        </p:blipFill>
        <p:spPr>
          <a:xfrm>
            <a:off x="6278400" y="1908000"/>
            <a:ext cx="2487600" cy="46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37"/>
          <p:cNvSpPr/>
          <p:nvPr/>
        </p:nvSpPr>
        <p:spPr>
          <a:xfrm>
            <a:off x="338040" y="1133640"/>
            <a:ext cx="1800360" cy="1120680"/>
          </a:xfrm>
          <a:prstGeom prst="roundRect">
            <a:avLst>
              <a:gd name="adj" fmla="val 17269"/>
            </a:avLst>
          </a:prstGeom>
          <a:solidFill>
            <a:srgbClr val="008000"/>
          </a:solidFill>
          <a:ln w="9360">
            <a:solidFill>
              <a:srgbClr val="069a72"/>
            </a:solidFill>
            <a:miter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I </a:t>
            </a:r>
            <a:r>
              <a:rPr b="1" i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этап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Статистический анализ подбора категории пациентов для исслед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6"/>
          <p:cNvSpPr/>
          <p:nvPr/>
        </p:nvSpPr>
        <p:spPr>
          <a:xfrm>
            <a:off x="2649600" y="1104840"/>
            <a:ext cx="1792080" cy="11098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69a72"/>
            </a:solidFill>
            <a:miter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II</a:t>
            </a:r>
            <a:r>
              <a:rPr b="1" i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этап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Изучение клинических проявле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5"/>
          <p:cNvSpPr/>
          <p:nvPr/>
        </p:nvSpPr>
        <p:spPr>
          <a:xfrm>
            <a:off x="4908600" y="1104840"/>
            <a:ext cx="1751040" cy="1143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69a72"/>
            </a:solidFill>
            <a:miter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III </a:t>
            </a:r>
            <a:r>
              <a:rPr b="1" i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этап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Занятия по программе в школе здоровья (хронометраж мероприятий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4"/>
          <p:cNvSpPr/>
          <p:nvPr/>
        </p:nvSpPr>
        <p:spPr>
          <a:xfrm>
            <a:off x="7093080" y="1152360"/>
            <a:ext cx="1774800" cy="10954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69a72"/>
            </a:solidFill>
            <a:miter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IV</a:t>
            </a:r>
            <a:r>
              <a:rPr b="1" i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этап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Сравнительная оценка методов, опрос персона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AutoShape 33"/>
          <p:cNvCxnSpPr/>
          <p:nvPr/>
        </p:nvCxnSpPr>
        <p:spPr>
          <a:xfrm flipH="1">
            <a:off x="1186920" y="3771720"/>
            <a:ext cx="48816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AutoShape 32"/>
          <p:cNvCxnSpPr/>
          <p:nvPr/>
        </p:nvCxnSpPr>
        <p:spPr>
          <a:xfrm>
            <a:off x="5793840" y="2306520"/>
            <a:ext cx="1080" cy="27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31"/>
          <p:cNvCxnSpPr/>
          <p:nvPr/>
        </p:nvCxnSpPr>
        <p:spPr>
          <a:xfrm>
            <a:off x="3746160" y="225396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30"/>
          <p:cNvCxnSpPr/>
          <p:nvPr/>
        </p:nvCxnSpPr>
        <p:spPr>
          <a:xfrm>
            <a:off x="7691400" y="3646080"/>
            <a:ext cx="386640" cy="37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AutoShape 29"/>
          <p:cNvSpPr/>
          <p:nvPr/>
        </p:nvSpPr>
        <p:spPr>
          <a:xfrm>
            <a:off x="2616120" y="2617920"/>
            <a:ext cx="3924360" cy="4284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69a72"/>
            </a:solidFill>
            <a:miter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противопролежневые мероприят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60  пациент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AutoShape 28"/>
          <p:cNvGrpSpPr/>
          <p:nvPr/>
        </p:nvGrpSpPr>
        <p:grpSpPr>
          <a:xfrm>
            <a:off x="1689120" y="3371760"/>
            <a:ext cx="2876400" cy="657360"/>
            <a:chOff x="1689120" y="3371760"/>
            <a:chExt cx="2876400" cy="657360"/>
          </a:xfrm>
        </p:grpSpPr>
        <p:pic>
          <p:nvPicPr>
            <p:cNvPr id="238" name="AutoShape 28" descr=""/>
            <p:cNvPicPr/>
            <p:nvPr/>
          </p:nvPicPr>
          <p:blipFill>
            <a:blip r:embed="rId1"/>
            <a:stretch/>
          </p:blipFill>
          <p:spPr>
            <a:xfrm>
              <a:off x="1689120" y="3371760"/>
              <a:ext cx="28764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789200" y="3432240"/>
              <a:ext cx="26827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Основная группа А (</a:t>
              </a:r>
              <a:r>
                <a:rPr b="1" lang="en-US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n</a:t>
              </a:r>
              <a:r>
                <a:rPr b="1" lang="ru-RU" sz="1100" spc="-1" strike="noStrike" baseline="-30000">
                  <a:solidFill>
                    <a:srgbClr val="002060"/>
                  </a:solidFill>
                  <a:latin typeface="Constantia"/>
                  <a:ea typeface="Times New Roman"/>
                </a:rPr>
                <a:t>1</a:t>
              </a: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=30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Инновационные технолог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AutoShape 27"/>
          <p:cNvSpPr/>
          <p:nvPr/>
        </p:nvSpPr>
        <p:spPr>
          <a:xfrm>
            <a:off x="4621320" y="3406680"/>
            <a:ext cx="2990880" cy="51588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9360">
            <a:solidFill>
              <a:srgbClr val="039aa1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Группа сравнения В (</a:t>
            </a:r>
            <a:r>
              <a:rPr b="1" lang="en-US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n</a:t>
            </a:r>
            <a:r>
              <a:rPr b="1" lang="ru-RU" sz="1100" spc="-1" strike="noStrike" baseline="-30000">
                <a:solidFill>
                  <a:srgbClr val="002060"/>
                </a:solidFill>
                <a:latin typeface="Constantia"/>
                <a:ea typeface="Times New Roman"/>
              </a:rPr>
              <a:t>2</a:t>
            </a: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=30) «Протокол ведения больных. Пролежн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Oval 26"/>
          <p:cNvGrpSpPr/>
          <p:nvPr/>
        </p:nvGrpSpPr>
        <p:grpSpPr>
          <a:xfrm>
            <a:off x="201600" y="4091040"/>
            <a:ext cx="1407960" cy="1103400"/>
            <a:chOff x="201600" y="4091040"/>
            <a:chExt cx="1407960" cy="1103400"/>
          </a:xfrm>
        </p:grpSpPr>
        <p:pic>
          <p:nvPicPr>
            <p:cNvPr id="242" name="Oval 26" descr=""/>
            <p:cNvPicPr/>
            <p:nvPr/>
          </p:nvPicPr>
          <p:blipFill>
            <a:blip r:embed="rId2"/>
            <a:stretch/>
          </p:blipFill>
          <p:spPr>
            <a:xfrm>
              <a:off x="201600" y="4091040"/>
              <a:ext cx="14079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58640" y="4265640"/>
              <a:ext cx="8971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А</a:t>
              </a:r>
              <a:r>
                <a:rPr b="1" lang="ru-RU" sz="1100" spc="-1" strike="noStrike" baseline="-30000">
                  <a:solidFill>
                    <a:srgbClr val="002060"/>
                  </a:solidFill>
                  <a:latin typeface="Constantia"/>
                  <a:ea typeface="Times New Roman"/>
                </a:rPr>
                <a:t>1</a:t>
              </a: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=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Сахарный диабе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Oval 25"/>
          <p:cNvGrpSpPr/>
          <p:nvPr/>
        </p:nvGrpSpPr>
        <p:grpSpPr>
          <a:xfrm>
            <a:off x="1620720" y="4091040"/>
            <a:ext cx="1463760" cy="1103400"/>
            <a:chOff x="1620720" y="4091040"/>
            <a:chExt cx="1463760" cy="1103400"/>
          </a:xfrm>
        </p:grpSpPr>
        <p:pic>
          <p:nvPicPr>
            <p:cNvPr id="245" name="Oval 25" descr=""/>
            <p:cNvPicPr/>
            <p:nvPr/>
          </p:nvPicPr>
          <p:blipFill>
            <a:blip r:embed="rId3"/>
            <a:stretch/>
          </p:blipFill>
          <p:spPr>
            <a:xfrm>
              <a:off x="1620720" y="4091040"/>
              <a:ext cx="14637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886040" y="4265640"/>
              <a:ext cx="9381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А</a:t>
              </a:r>
              <a:r>
                <a:rPr b="1" lang="ru-RU" sz="1100" spc="-1" strike="noStrike" baseline="-30000">
                  <a:solidFill>
                    <a:srgbClr val="002060"/>
                  </a:solidFill>
                  <a:latin typeface="Constantia"/>
                  <a:ea typeface="Times New Roman"/>
                </a:rPr>
                <a:t>2</a:t>
              </a: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= 1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без сахарного диабе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Oval 5"/>
          <p:cNvGrpSpPr/>
          <p:nvPr/>
        </p:nvGrpSpPr>
        <p:grpSpPr>
          <a:xfrm>
            <a:off x="743040" y="5248440"/>
            <a:ext cx="1592280" cy="1292040"/>
            <a:chOff x="743040" y="5248440"/>
            <a:chExt cx="1592280" cy="1292040"/>
          </a:xfrm>
        </p:grpSpPr>
        <p:pic>
          <p:nvPicPr>
            <p:cNvPr id="248" name="Oval 5" descr=""/>
            <p:cNvPicPr/>
            <p:nvPr/>
          </p:nvPicPr>
          <p:blipFill>
            <a:blip r:embed="rId4"/>
            <a:stretch/>
          </p:blipFill>
          <p:spPr>
            <a:xfrm>
              <a:off x="743040" y="5248440"/>
              <a:ext cx="15922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030320" y="5454720"/>
              <a:ext cx="102240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А</a:t>
              </a:r>
              <a:r>
                <a:rPr b="1" lang="ru-RU" sz="1100" spc="-1" strike="noStrike" baseline="-30000">
                  <a:solidFill>
                    <a:srgbClr val="002060"/>
                  </a:solidFill>
                  <a:latin typeface="Constantia"/>
                  <a:ea typeface="Times New Roman"/>
                </a:rPr>
                <a:t>3</a:t>
              </a: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=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с пролежнями 1 стад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Oval 24"/>
          <p:cNvSpPr/>
          <p:nvPr/>
        </p:nvSpPr>
        <p:spPr>
          <a:xfrm>
            <a:off x="5651640" y="4125960"/>
            <a:ext cx="1441440" cy="9684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39aa1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В</a:t>
            </a:r>
            <a:r>
              <a:rPr b="1" lang="ru-RU" sz="1100" spc="-1" strike="noStrike" baseline="-30000">
                <a:solidFill>
                  <a:srgbClr val="002060"/>
                </a:solidFill>
                <a:latin typeface="Constantia"/>
                <a:ea typeface="Times New Roman"/>
              </a:rPr>
              <a:t>1</a:t>
            </a: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=11 Сахарный диабе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3"/>
          <p:cNvSpPr/>
          <p:nvPr/>
        </p:nvSpPr>
        <p:spPr>
          <a:xfrm>
            <a:off x="7164360" y="4125960"/>
            <a:ext cx="1440000" cy="9604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39aa1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В</a:t>
            </a:r>
            <a:r>
              <a:rPr b="1" lang="ru-RU" sz="1100" spc="-1" strike="noStrike" baseline="-30000">
                <a:solidFill>
                  <a:srgbClr val="002060"/>
                </a:solidFill>
                <a:latin typeface="Constantia"/>
                <a:ea typeface="Times New Roman"/>
              </a:rPr>
              <a:t>2</a:t>
            </a: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= 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без сахарного диаб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4"/>
          <p:cNvSpPr/>
          <p:nvPr/>
        </p:nvSpPr>
        <p:spPr>
          <a:xfrm>
            <a:off x="6537240" y="5288040"/>
            <a:ext cx="1419480" cy="1143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39aa1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В</a:t>
            </a:r>
            <a:r>
              <a:rPr b="1" lang="ru-RU" sz="1100" spc="-1" strike="noStrike" baseline="-30000">
                <a:solidFill>
                  <a:srgbClr val="002060"/>
                </a:solidFill>
                <a:latin typeface="Constantia"/>
                <a:ea typeface="Times New Roman"/>
              </a:rPr>
              <a:t>3</a:t>
            </a: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=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Constantia"/>
                <a:ea typeface="Times New Roman"/>
              </a:rPr>
              <a:t>с пролежнями 1 стад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AutoShape 22"/>
          <p:cNvCxnSpPr/>
          <p:nvPr/>
        </p:nvCxnSpPr>
        <p:spPr>
          <a:xfrm>
            <a:off x="1846440" y="2268000"/>
            <a:ext cx="58464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21"/>
          <p:cNvCxnSpPr/>
          <p:nvPr/>
        </p:nvCxnSpPr>
        <p:spPr>
          <a:xfrm flipH="1">
            <a:off x="7092720" y="2306160"/>
            <a:ext cx="52128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AutoShape 20"/>
          <p:cNvCxnSpPr/>
          <p:nvPr/>
        </p:nvCxnSpPr>
        <p:spPr>
          <a:xfrm flipH="1">
            <a:off x="2821680" y="3922560"/>
            <a:ext cx="19620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AutoShape 19"/>
          <p:cNvCxnSpPr/>
          <p:nvPr/>
        </p:nvCxnSpPr>
        <p:spPr>
          <a:xfrm>
            <a:off x="5492520" y="3981600"/>
            <a:ext cx="3373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8"/>
          <p:cNvCxnSpPr/>
          <p:nvPr/>
        </p:nvCxnSpPr>
        <p:spPr>
          <a:xfrm flipH="1">
            <a:off x="3017520" y="3065040"/>
            <a:ext cx="5054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AutoShape 17"/>
          <p:cNvCxnSpPr/>
          <p:nvPr/>
        </p:nvCxnSpPr>
        <p:spPr>
          <a:xfrm>
            <a:off x="5492520" y="3084120"/>
            <a:ext cx="62460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AutoShape 16"/>
          <p:cNvCxnSpPr/>
          <p:nvPr/>
        </p:nvCxnSpPr>
        <p:spPr>
          <a:xfrm flipH="1">
            <a:off x="2264760" y="5094360"/>
            <a:ext cx="26100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AutoShape 15"/>
          <p:cNvCxnSpPr/>
          <p:nvPr/>
        </p:nvCxnSpPr>
        <p:spPr>
          <a:xfrm>
            <a:off x="611280" y="5094000"/>
            <a:ext cx="295560" cy="32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14"/>
          <p:cNvCxnSpPr>
            <a:endCxn id="262" idx="7"/>
          </p:cNvCxnSpPr>
          <p:nvPr/>
        </p:nvCxnSpPr>
        <p:spPr>
          <a:xfrm flipH="1">
            <a:off x="5017320" y="3933360"/>
            <a:ext cx="23724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13"/>
          <p:cNvCxnSpPr/>
          <p:nvPr/>
        </p:nvCxnSpPr>
        <p:spPr>
          <a:xfrm>
            <a:off x="6316560" y="5137200"/>
            <a:ext cx="3247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Oval 6"/>
          <p:cNvSpPr/>
          <p:nvPr/>
        </p:nvSpPr>
        <p:spPr>
          <a:xfrm>
            <a:off x="3419640" y="4125960"/>
            <a:ext cx="1873080" cy="826920"/>
          </a:xfrm>
          <a:prstGeom prst="ellipse">
            <a:avLst/>
          </a:prstGeom>
          <a:solidFill>
            <a:srgbClr val="0070c0"/>
          </a:solidFill>
          <a:ln w="9360">
            <a:solidFill>
              <a:srgbClr val="798f32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Статистическая обработка материа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"/>
          <p:cNvSpPr/>
          <p:nvPr/>
        </p:nvSpPr>
        <p:spPr>
          <a:xfrm>
            <a:off x="2678040" y="5761080"/>
            <a:ext cx="3638520" cy="8366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360">
            <a:solidFill>
              <a:srgbClr val="798f32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V</a:t>
            </a:r>
            <a:r>
              <a:rPr b="1" i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этап: </a:t>
            </a:r>
            <a:r>
              <a:rPr b="1" lang="ru-RU" sz="11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Разработка рекомендаций. Оптимизация программы по обучению родственников и медицинского персонала в школе здоров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12"/>
          <p:cNvCxnSpPr/>
          <p:nvPr/>
        </p:nvCxnSpPr>
        <p:spPr>
          <a:xfrm>
            <a:off x="4686480" y="4952520"/>
            <a:ext cx="568800" cy="6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6" name="AutoShape 11"/>
          <p:cNvCxnSpPr/>
          <p:nvPr/>
        </p:nvCxnSpPr>
        <p:spPr>
          <a:xfrm flipH="1">
            <a:off x="3393360" y="4929120"/>
            <a:ext cx="49428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2"/>
          <p:cNvCxnSpPr/>
          <p:nvPr/>
        </p:nvCxnSpPr>
        <p:spPr>
          <a:xfrm flipH="1">
            <a:off x="7884360" y="5141520"/>
            <a:ext cx="29268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1"/>
          <p:cNvCxnSpPr/>
          <p:nvPr/>
        </p:nvCxnSpPr>
        <p:spPr>
          <a:xfrm>
            <a:off x="3546360" y="3933720"/>
            <a:ext cx="200880" cy="27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Rectangle 39"/>
          <p:cNvSpPr/>
          <p:nvPr/>
        </p:nvSpPr>
        <p:spPr>
          <a:xfrm>
            <a:off x="817560" y="55080"/>
            <a:ext cx="76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  <a:ea typeface="Times New Roman"/>
              </a:rPr>
              <a:t>Дизайн исследова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2"/>
          <p:cNvSpPr/>
          <p:nvPr/>
        </p:nvSpPr>
        <p:spPr>
          <a:xfrm>
            <a:off x="4633920" y="357120"/>
            <a:ext cx="18072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8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43588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ценка риска возникновения пролежней по шкале Нортон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Объект 4" descr=""/>
          <p:cNvPicPr/>
          <p:nvPr/>
        </p:nvPicPr>
        <p:blipFill>
          <a:blip r:embed="rId1"/>
          <a:stretch/>
        </p:blipFill>
        <p:spPr>
          <a:xfrm>
            <a:off x="344520" y="1938240"/>
            <a:ext cx="8599320" cy="45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Объект 1" descr=""/>
          <p:cNvPicPr/>
          <p:nvPr/>
        </p:nvPicPr>
        <p:blipFill>
          <a:blip r:embed="rId1"/>
          <a:stretch/>
        </p:blipFill>
        <p:spPr>
          <a:xfrm>
            <a:off x="406440" y="1884240"/>
            <a:ext cx="8331120" cy="4491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436240" cy="128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  <a:ea typeface="Times New Roman"/>
              </a:rPr>
              <a:t>Исследование сложной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  <a:ea typeface="Times New Roman"/>
              </a:rPr>
              <a:t>категории пациентов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1330200" y="3830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8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4932360" y="465300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4643280" y="278748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9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8"/>
          <p:cNvSpPr/>
          <p:nvPr/>
        </p:nvSpPr>
        <p:spPr>
          <a:xfrm>
            <a:off x="2738520" y="2781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12:51:46Z</dcterms:created>
  <dc:creator>я</dc:creator>
  <dc:description/>
  <dc:language>en-US</dc:language>
  <cp:lastModifiedBy>ОПСА</cp:lastModifiedBy>
  <dcterms:modified xsi:type="dcterms:W3CDTF">2014-03-12T13:57:05Z</dcterms:modified>
  <cp:revision>93</cp:revision>
  <dc:subject/>
  <dc:title>Слайд 1</dc:title>
</cp:coreProperties>
</file>